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84200" y="4129920"/>
            <a:ext cx="713736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84200" y="412992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1800" y="412992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97280" y="199368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0360" y="199368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84200" y="412992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97280" y="412992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0360" y="4129920"/>
            <a:ext cx="229788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84200" y="622440"/>
            <a:ext cx="7137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84200" y="412992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1800" y="412992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1800" y="1993680"/>
            <a:ext cx="34830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84200" y="4129920"/>
            <a:ext cx="713736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954680" y="6173640"/>
            <a:ext cx="3578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rpho ens. discrète MC </a:t>
            </a:r>
            <a:fld id="{BD18C572-C178-4142-84F1-AE09B5E7C438}" type="slidenum">
              <a:rPr b="0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phologie ensembliste discrè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 ’espace continu à l ’espace discret (2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ations de voisin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ncissement, épaississ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maillage triangulaire et le théorème de Jord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102960" rIns="102960" tIns="56880" bIns="568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611000" y="2603160"/>
            <a:ext cx="4218480" cy="2738880"/>
            <a:chOff x="1611000" y="2603160"/>
            <a:chExt cx="4218480" cy="2738880"/>
          </a:xfrm>
        </p:grpSpPr>
        <p:sp>
          <p:nvSpPr>
            <p:cNvPr id="364" name=""/>
            <p:cNvSpPr/>
            <p:nvPr/>
          </p:nvSpPr>
          <p:spPr>
            <a:xfrm>
              <a:off x="1622520" y="443088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722400" y="2616120"/>
              <a:ext cx="1585800" cy="27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09760" y="2629080"/>
              <a:ext cx="1560600" cy="270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22520" y="397368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22520" y="351648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23960" y="3057480"/>
              <a:ext cx="420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33680" y="2611440"/>
              <a:ext cx="1558800" cy="271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141280" y="2625840"/>
              <a:ext cx="1585800" cy="27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28640" y="3522600"/>
              <a:ext cx="1038240" cy="18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58920" y="2616120"/>
              <a:ext cx="1563840" cy="27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2616120"/>
              <a:ext cx="4203720" cy="272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84520" y="2625840"/>
              <a:ext cx="1558800" cy="27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5360" y="2616120"/>
              <a:ext cx="1560600" cy="27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55920" y="2616120"/>
              <a:ext cx="1570320" cy="27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8280" y="2616120"/>
              <a:ext cx="1038240" cy="180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300280" y="2603160"/>
              <a:ext cx="523800" cy="9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33680" y="4435560"/>
              <a:ext cx="515880" cy="90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611000" y="2637000"/>
              <a:ext cx="1593720" cy="27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661840" y="2625840"/>
              <a:ext cx="1585800" cy="27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189240" y="2643120"/>
              <a:ext cx="1581120" cy="268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243320" y="2616120"/>
              <a:ext cx="1586160" cy="27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4765320" y="3522600"/>
              <a:ext cx="1063800" cy="18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620360" y="2616120"/>
              <a:ext cx="1063800" cy="18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1633680" y="2603160"/>
              <a:ext cx="507960" cy="9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295960" y="4435560"/>
              <a:ext cx="533520" cy="90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22520" y="488808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76440" y="3900600"/>
              <a:ext cx="160560" cy="16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94120" y="3884760"/>
              <a:ext cx="160200" cy="16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35560" y="3897360"/>
              <a:ext cx="160200" cy="158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46480" y="4349880"/>
              <a:ext cx="160560" cy="16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56240" y="4349880"/>
              <a:ext cx="160200" cy="16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60880" y="3443400"/>
              <a:ext cx="160200" cy="16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87920" y="3443400"/>
              <a:ext cx="158760" cy="16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65600" y="3908520"/>
              <a:ext cx="160200" cy="16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32000" y="3443400"/>
              <a:ext cx="160560" cy="16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06760" y="3443400"/>
              <a:ext cx="160200" cy="16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40000" y="3900600"/>
              <a:ext cx="160200" cy="16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32000" y="4357800"/>
              <a:ext cx="160560" cy="16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22600" y="4365720"/>
              <a:ext cx="160200" cy="16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52880" y="3889440"/>
              <a:ext cx="160560" cy="16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46320" y="3195720"/>
              <a:ext cx="3224160" cy="1579320"/>
            </a:xfrm>
            <a:custGeom>
              <a:avLst/>
              <a:gdLst/>
              <a:ahLst/>
              <a:rect l="l" t="t" r="r" b="b"/>
              <a:pathLst>
                <a:path w="2031" h="995">
                  <a:moveTo>
                    <a:pt x="0" y="619"/>
                  </a:moveTo>
                  <a:lnTo>
                    <a:pt x="0" y="346"/>
                  </a:lnTo>
                  <a:lnTo>
                    <a:pt x="346" y="0"/>
                  </a:lnTo>
                  <a:lnTo>
                    <a:pt x="727" y="0"/>
                  </a:lnTo>
                  <a:lnTo>
                    <a:pt x="979" y="353"/>
                  </a:lnTo>
                  <a:lnTo>
                    <a:pt x="1281" y="0"/>
                  </a:lnTo>
                  <a:lnTo>
                    <a:pt x="1706" y="0"/>
                  </a:lnTo>
                  <a:lnTo>
                    <a:pt x="2030" y="555"/>
                  </a:lnTo>
                  <a:lnTo>
                    <a:pt x="1677" y="972"/>
                  </a:lnTo>
                  <a:lnTo>
                    <a:pt x="1274" y="972"/>
                  </a:lnTo>
                  <a:lnTo>
                    <a:pt x="1015" y="583"/>
                  </a:lnTo>
                  <a:lnTo>
                    <a:pt x="641" y="994"/>
                  </a:lnTo>
                  <a:lnTo>
                    <a:pt x="302" y="980"/>
                  </a:lnTo>
                  <a:lnTo>
                    <a:pt x="0" y="619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28800" y="29894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51160" y="29894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65600" y="2989440"/>
              <a:ext cx="1458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90840" y="29894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7600" y="29894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52840" y="29894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78440" y="29894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05480" y="2989440"/>
              <a:ext cx="1461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79720" y="34466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46440" y="3446640"/>
              <a:ext cx="1461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14960" y="34466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06480" y="3903840"/>
              <a:ext cx="1461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86400" y="3903840"/>
              <a:ext cx="1461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57400" y="43610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33840" y="43610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14960" y="43610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17640" y="48182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32080" y="48182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68480" y="48182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82920" y="48182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19680" y="48182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33760" y="48182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71960" y="4818240"/>
              <a:ext cx="1461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97560" y="4818240"/>
              <a:ext cx="1476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5997600" y="2487600"/>
            <a:ext cx="231120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théorème de Jordan est vérifié pour la maille triangulaire issue du maillage 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248520" y="4876920"/>
            <a:ext cx="647640" cy="6476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ion de frontière dans l'espace discr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s l'espace continu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érence entre l'adhérence et l'intéri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s l'espace discr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frontière se situe "en principe" entre 2 pix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faut donc choisir entre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frontière intérieure  ( P = 1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frontière extérieure  ( P = 0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37280" y="4775040"/>
            <a:ext cx="855720" cy="8557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46800" y="4965840"/>
            <a:ext cx="45072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37280" y="3986280"/>
            <a:ext cx="96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7280" y="4324320"/>
            <a:ext cx="9604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38360" y="5172120"/>
            <a:ext cx="586080" cy="3999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62400" y="5213520"/>
            <a:ext cx="33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16160" y="4921200"/>
            <a:ext cx="165888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 flipH="1" flipV="1">
            <a:off x="4622400" y="5137200"/>
            <a:ext cx="1327320" cy="45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08480" y="4013280"/>
            <a:ext cx="374400" cy="41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102960" rIns="102960" tIns="56880" bIns="568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ntière d'un ensemble en maille carré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95520" y="40068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02000" y="445788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38360" y="2714760"/>
            <a:ext cx="3473280" cy="3001680"/>
          </a:xfrm>
          <a:custGeom>
            <a:avLst/>
            <a:gdLst/>
            <a:ahLst/>
            <a:rect l="l" t="t" r="r" b="b"/>
            <a:pathLst>
              <a:path w="2188" h="1891">
                <a:moveTo>
                  <a:pt x="0" y="531"/>
                </a:moveTo>
                <a:lnTo>
                  <a:pt x="0" y="1368"/>
                </a:lnTo>
                <a:lnTo>
                  <a:pt x="261" y="1368"/>
                </a:lnTo>
                <a:lnTo>
                  <a:pt x="261" y="1638"/>
                </a:lnTo>
                <a:lnTo>
                  <a:pt x="810" y="1638"/>
                </a:lnTo>
                <a:lnTo>
                  <a:pt x="810" y="1098"/>
                </a:lnTo>
                <a:lnTo>
                  <a:pt x="1089" y="1098"/>
                </a:lnTo>
                <a:lnTo>
                  <a:pt x="1089" y="1656"/>
                </a:lnTo>
                <a:lnTo>
                  <a:pt x="1089" y="1890"/>
                </a:lnTo>
                <a:lnTo>
                  <a:pt x="2187" y="1890"/>
                </a:lnTo>
                <a:lnTo>
                  <a:pt x="2187" y="801"/>
                </a:lnTo>
                <a:lnTo>
                  <a:pt x="1350" y="801"/>
                </a:lnTo>
                <a:lnTo>
                  <a:pt x="1350" y="0"/>
                </a:lnTo>
                <a:lnTo>
                  <a:pt x="270" y="0"/>
                </a:lnTo>
                <a:lnTo>
                  <a:pt x="270" y="531"/>
                </a:lnTo>
                <a:lnTo>
                  <a:pt x="0" y="531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52720" y="3143160"/>
            <a:ext cx="1301760" cy="1744920"/>
          </a:xfrm>
          <a:custGeom>
            <a:avLst/>
            <a:gdLst/>
            <a:ahLst/>
            <a:rect l="l" t="t" r="r" b="b"/>
            <a:pathLst>
              <a:path w="820" h="1099">
                <a:moveTo>
                  <a:pt x="279" y="1098"/>
                </a:moveTo>
                <a:lnTo>
                  <a:pt x="0" y="819"/>
                </a:lnTo>
                <a:lnTo>
                  <a:pt x="0" y="540"/>
                </a:lnTo>
                <a:lnTo>
                  <a:pt x="279" y="261"/>
                </a:lnTo>
                <a:lnTo>
                  <a:pt x="279" y="0"/>
                </a:lnTo>
                <a:lnTo>
                  <a:pt x="819" y="0"/>
                </a:lnTo>
                <a:lnTo>
                  <a:pt x="819" y="558"/>
                </a:lnTo>
                <a:lnTo>
                  <a:pt x="522" y="558"/>
                </a:lnTo>
                <a:lnTo>
                  <a:pt x="288" y="270"/>
                </a:lnTo>
                <a:lnTo>
                  <a:pt x="297" y="279"/>
                </a:lnTo>
                <a:lnTo>
                  <a:pt x="297" y="2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94040" y="4470480"/>
            <a:ext cx="831960" cy="817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76400" y="2674800"/>
            <a:ext cx="101880" cy="1018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4880" y="26748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19240" y="2674800"/>
            <a:ext cx="101520" cy="1018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48000" y="2674800"/>
            <a:ext cx="101520" cy="1018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73520" y="31114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01640" y="311148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16000" y="3111480"/>
            <a:ext cx="10188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44760" y="31114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81440" y="3522600"/>
            <a:ext cx="201600" cy="201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09560" y="3522600"/>
            <a:ext cx="10188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023920" y="3522600"/>
            <a:ext cx="10188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52680" y="352260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81440" y="39448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09560" y="3944880"/>
            <a:ext cx="10188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23920" y="3944880"/>
            <a:ext cx="1018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452680" y="394488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91080" y="26748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19560" y="2674800"/>
            <a:ext cx="101520" cy="1018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674800"/>
            <a:ext cx="101520" cy="1018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62320" y="2674800"/>
            <a:ext cx="1018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87840" y="31114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16320" y="31114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0680" y="311148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59080" y="311148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95760" y="352260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24240" y="352260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8600" y="352260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67360" y="352260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95760" y="394488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24240" y="39448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38600" y="394488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67360" y="394488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52960" y="26748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67320" y="26748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49720" y="311148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64080" y="31114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57640" y="352260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72000" y="352260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57640" y="3944880"/>
            <a:ext cx="10188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72000" y="394488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76400" y="4398840"/>
            <a:ext cx="101880" cy="1018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4880" y="4398840"/>
            <a:ext cx="101520" cy="1018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19240" y="4398840"/>
            <a:ext cx="101520" cy="101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48000" y="4398840"/>
            <a:ext cx="101520" cy="1018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3520" y="483552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1640" y="4835520"/>
            <a:ext cx="10188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16000" y="4835520"/>
            <a:ext cx="10188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44760" y="483552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81440" y="524664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609560" y="524664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23920" y="5246640"/>
            <a:ext cx="10188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52680" y="524664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81440" y="56689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09560" y="566892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23920" y="566892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52680" y="56689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91080" y="4398840"/>
            <a:ext cx="101520" cy="101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19560" y="4398840"/>
            <a:ext cx="101520" cy="1018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3920" y="4398840"/>
            <a:ext cx="101520" cy="101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62320" y="4398840"/>
            <a:ext cx="101880" cy="101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87840" y="483552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16320" y="483552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30680" y="483552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59080" y="4835520"/>
            <a:ext cx="201960" cy="201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95760" y="524664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24240" y="524664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38600" y="524664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67360" y="524664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95760" y="566892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24240" y="566892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38600" y="566892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67360" y="5668920"/>
            <a:ext cx="10152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52960" y="4398840"/>
            <a:ext cx="101520" cy="1018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67320" y="439884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49720" y="4835520"/>
            <a:ext cx="10188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4080" y="48355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057640" y="5246640"/>
            <a:ext cx="10188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472000" y="524664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057640" y="5668920"/>
            <a:ext cx="101880" cy="101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72000" y="566892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501920" y="2421000"/>
            <a:ext cx="4244760" cy="34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811840" y="2502000"/>
            <a:ext cx="262584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l'objet est défini en 8 connexité l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rontière intérieure sera en 8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nexité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 l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rontière extérieure en 4 connex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s le cas d'un objet défini en 4 connexité, on a le comportement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55120" y="4551480"/>
            <a:ext cx="204696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ière exte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099040" y="4788000"/>
            <a:ext cx="85104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54040" y="5370480"/>
            <a:ext cx="199800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ière inte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102960" rIns="102960" tIns="56880" bIns="568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ntière d'un ensemble en maille triangula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611000" y="2603160"/>
            <a:ext cx="4218480" cy="2738880"/>
            <a:chOff x="1611000" y="2603160"/>
            <a:chExt cx="4218480" cy="2738880"/>
          </a:xfrm>
        </p:grpSpPr>
        <p:sp>
          <p:nvSpPr>
            <p:cNvPr id="537" name=""/>
            <p:cNvSpPr/>
            <p:nvPr/>
          </p:nvSpPr>
          <p:spPr>
            <a:xfrm>
              <a:off x="1622520" y="443088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722400" y="2616120"/>
              <a:ext cx="1585800" cy="27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09760" y="2629080"/>
              <a:ext cx="1560600" cy="270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22520" y="397368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622520" y="351648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23960" y="3057480"/>
              <a:ext cx="420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33680" y="2611440"/>
              <a:ext cx="1558800" cy="271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141280" y="2625840"/>
              <a:ext cx="1585800" cy="27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628640" y="3522600"/>
              <a:ext cx="1038240" cy="18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58920" y="2616120"/>
              <a:ext cx="1563840" cy="27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19280" y="2616120"/>
              <a:ext cx="4203720" cy="272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84520" y="2625840"/>
              <a:ext cx="1558800" cy="27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35360" y="2616120"/>
              <a:ext cx="1560600" cy="27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55920" y="2616120"/>
              <a:ext cx="1570320" cy="27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78280" y="2616120"/>
              <a:ext cx="1038240" cy="180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5300280" y="2603160"/>
              <a:ext cx="523800" cy="9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33680" y="4435560"/>
              <a:ext cx="515880" cy="90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611000" y="2637000"/>
              <a:ext cx="1593720" cy="27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661840" y="2625840"/>
              <a:ext cx="1585800" cy="27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3189240" y="2643120"/>
              <a:ext cx="1581120" cy="268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4243320" y="2616120"/>
              <a:ext cx="1586160" cy="27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765320" y="3522600"/>
              <a:ext cx="1063800" cy="18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1620360" y="2616120"/>
              <a:ext cx="1063800" cy="18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1633680" y="2603160"/>
              <a:ext cx="507960" cy="9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295960" y="4435560"/>
              <a:ext cx="533520" cy="90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22520" y="488808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H="1" flipV="1">
            <a:off x="3963600" y="3954600"/>
            <a:ext cx="297000" cy="482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4492800" y="3968280"/>
            <a:ext cx="296640" cy="482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 flipV="1">
            <a:off x="3177720" y="3497400"/>
            <a:ext cx="297000" cy="482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2397240" y="3959280"/>
            <a:ext cx="296640" cy="482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218040" y="3897360"/>
            <a:ext cx="260280" cy="511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422440" y="3473280"/>
            <a:ext cx="260280" cy="511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275000" y="442440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74880" y="442440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693880" y="351468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79760" y="3971880"/>
            <a:ext cx="1074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051520" y="4416120"/>
            <a:ext cx="23184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780080" y="3513240"/>
            <a:ext cx="517320" cy="9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465360" y="3056040"/>
            <a:ext cx="260640" cy="47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3510000"/>
            <a:ext cx="103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51240" y="3043080"/>
            <a:ext cx="103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36840" y="4886280"/>
            <a:ext cx="258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3960" y="3970440"/>
            <a:ext cx="503280" cy="9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882440" y="3070080"/>
            <a:ext cx="554040" cy="88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82920" y="3906720"/>
            <a:ext cx="14760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900600" y="3890880"/>
            <a:ext cx="14760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41680" y="3903840"/>
            <a:ext cx="147960" cy="14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52960" y="4356000"/>
            <a:ext cx="14760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62360" y="4356000"/>
            <a:ext cx="14760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67360" y="3449520"/>
            <a:ext cx="147600" cy="1476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94400" y="3449520"/>
            <a:ext cx="145800" cy="1476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3809880"/>
            <a:ext cx="323640" cy="324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38480" y="3449520"/>
            <a:ext cx="14760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12880" y="3449520"/>
            <a:ext cx="14796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46480" y="3906720"/>
            <a:ext cx="14760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38480" y="4363920"/>
            <a:ext cx="14760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629080" y="4371840"/>
            <a:ext cx="14760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959360" y="3895560"/>
            <a:ext cx="147600" cy="14796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28800" y="2989440"/>
            <a:ext cx="147600" cy="14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51160" y="2989440"/>
            <a:ext cx="14760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65600" y="2989440"/>
            <a:ext cx="14580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90840" y="2989440"/>
            <a:ext cx="14760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27600" y="2989440"/>
            <a:ext cx="147600" cy="14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52840" y="2989440"/>
            <a:ext cx="147600" cy="14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78440" y="2989440"/>
            <a:ext cx="147600" cy="14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05480" y="2989440"/>
            <a:ext cx="146160" cy="14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79720" y="3446640"/>
            <a:ext cx="14760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46440" y="3446640"/>
            <a:ext cx="14616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14960" y="3446640"/>
            <a:ext cx="147600" cy="14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806480" y="3903840"/>
            <a:ext cx="14616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903840"/>
            <a:ext cx="146160" cy="14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7400" y="4361040"/>
            <a:ext cx="14760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633840" y="4361040"/>
            <a:ext cx="14760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14960" y="4361040"/>
            <a:ext cx="14760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17640" y="4818240"/>
            <a:ext cx="147600" cy="14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32080" y="4818240"/>
            <a:ext cx="14760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68480" y="4818240"/>
            <a:ext cx="14760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382920" y="4818240"/>
            <a:ext cx="14760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19680" y="4818240"/>
            <a:ext cx="14760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33760" y="4818240"/>
            <a:ext cx="14760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71960" y="4818240"/>
            <a:ext cx="146160" cy="145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97560" y="4818240"/>
            <a:ext cx="147600" cy="14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270840" y="4687920"/>
            <a:ext cx="2046960" cy="335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ière exte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289200" y="5506920"/>
            <a:ext cx="1998000" cy="335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ière inte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811840" y="2502000"/>
            <a:ext cx="262584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l'objet est défini en 6 connexité l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rontière intérieur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era en 6 connexité et la frontière extérieure en 6 connex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nce euclidienne et distance discrète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 de la maille hexagonale (6 connexité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493640" y="2572920"/>
            <a:ext cx="4406760" cy="2853000"/>
            <a:chOff x="1493640" y="2572920"/>
            <a:chExt cx="4406760" cy="2853000"/>
          </a:xfrm>
        </p:grpSpPr>
        <p:sp>
          <p:nvSpPr>
            <p:cNvPr id="625" name=""/>
            <p:cNvSpPr/>
            <p:nvPr/>
          </p:nvSpPr>
          <p:spPr>
            <a:xfrm>
              <a:off x="1517760" y="4484520"/>
              <a:ext cx="436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3693960" y="2598840"/>
              <a:ext cx="1663920" cy="28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171960" y="2612880"/>
              <a:ext cx="1612800" cy="280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17760" y="4008600"/>
              <a:ext cx="436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17760" y="3532320"/>
              <a:ext cx="436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519200" y="3052800"/>
              <a:ext cx="436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28920" y="2593800"/>
              <a:ext cx="1612800" cy="282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046240" y="2608200"/>
              <a:ext cx="1663920" cy="280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23880" y="3544920"/>
              <a:ext cx="1069920" cy="18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76480" y="2598840"/>
              <a:ext cx="1617480" cy="281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27120" y="2611440"/>
              <a:ext cx="4343400" cy="279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24040" y="2608200"/>
              <a:ext cx="1613160" cy="280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719520" y="2598840"/>
              <a:ext cx="1612800" cy="281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62400" y="2598840"/>
              <a:ext cx="1622520" cy="28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5280" y="2598840"/>
              <a:ext cx="1069920" cy="18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5336640" y="2572920"/>
              <a:ext cx="559080" cy="9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28920" y="4494240"/>
              <a:ext cx="527040" cy="9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1493640" y="2620800"/>
              <a:ext cx="1672920" cy="28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2589120" y="2608200"/>
              <a:ext cx="1663920" cy="280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139920" y="2627280"/>
              <a:ext cx="1656000" cy="278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4236840" y="2598840"/>
              <a:ext cx="1663560" cy="28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4779720" y="3544920"/>
              <a:ext cx="1120680" cy="18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1503000" y="2598840"/>
              <a:ext cx="1120680" cy="18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1528920" y="2572920"/>
              <a:ext cx="517320" cy="9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5331960" y="4494240"/>
              <a:ext cx="568440" cy="9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17760" y="4960800"/>
              <a:ext cx="436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3473280" y="3056040"/>
            <a:ext cx="1557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378160" y="2995560"/>
            <a:ext cx="1038240" cy="2000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340000" y="3529080"/>
            <a:ext cx="2454120" cy="1430280"/>
          </a:xfrm>
          <a:custGeom>
            <a:avLst/>
            <a:gdLst/>
            <a:ahLst/>
            <a:rect l="l" t="t" r="r" b="b"/>
            <a:pathLst>
              <a:path w="1546" h="901">
                <a:moveTo>
                  <a:pt x="0" y="900"/>
                </a:moveTo>
                <a:lnTo>
                  <a:pt x="165" y="600"/>
                </a:lnTo>
                <a:lnTo>
                  <a:pt x="513" y="600"/>
                </a:lnTo>
                <a:lnTo>
                  <a:pt x="681" y="300"/>
                </a:lnTo>
                <a:lnTo>
                  <a:pt x="1029" y="300"/>
                </a:lnTo>
                <a:lnTo>
                  <a:pt x="1209" y="0"/>
                </a:lnTo>
                <a:lnTo>
                  <a:pt x="1545" y="0"/>
                </a:lnTo>
                <a:lnTo>
                  <a:pt x="1545" y="0"/>
                </a:lnTo>
              </a:path>
            </a:pathLst>
          </a:custGeom>
          <a:noFill/>
          <a:ln w="7632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002120" y="2995560"/>
            <a:ext cx="1038240" cy="2000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78160" y="4960800"/>
            <a:ext cx="1557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2365200" y="3026880"/>
            <a:ext cx="2678400" cy="1955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27320" y="4867200"/>
            <a:ext cx="20628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60800" y="2952720"/>
            <a:ext cx="2066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521400" y="2558880"/>
            <a:ext cx="15876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78800" y="2494080"/>
            <a:ext cx="911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t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42960" y="2913120"/>
            <a:ext cx="243072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tance euclidi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(x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tance hexag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usieurs chem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den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40480" y="3657600"/>
            <a:ext cx="15112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02320" y="4667400"/>
            <a:ext cx="151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nce euclidienne et distance discrète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 de la maille carrée (4 connexité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835280" y="2597040"/>
            <a:ext cx="3644640" cy="3194280"/>
            <a:chOff x="1835280" y="2597040"/>
            <a:chExt cx="3644640" cy="3194280"/>
          </a:xfrm>
        </p:grpSpPr>
        <p:grpSp>
          <p:nvGrpSpPr>
            <p:cNvPr id="667" name=""/>
            <p:cNvGrpSpPr/>
            <p:nvPr/>
          </p:nvGrpSpPr>
          <p:grpSpPr>
            <a:xfrm>
              <a:off x="1835280" y="2597040"/>
              <a:ext cx="3644640" cy="444600"/>
              <a:chOff x="1835280" y="2597040"/>
              <a:chExt cx="3644640" cy="444600"/>
            </a:xfrm>
          </p:grpSpPr>
          <p:sp>
            <p:nvSpPr>
              <p:cNvPr id="668" name=""/>
              <p:cNvSpPr/>
              <p:nvPr/>
            </p:nvSpPr>
            <p:spPr>
              <a:xfrm>
                <a:off x="2292480" y="2597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749680" y="2597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206880" y="2597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64080" y="2597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121280" y="2597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578480" y="2597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35680" y="2597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35280" y="2597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1835280" y="3054240"/>
              <a:ext cx="3644640" cy="444600"/>
              <a:chOff x="1835280" y="3054240"/>
              <a:chExt cx="3644640" cy="444600"/>
            </a:xfrm>
          </p:grpSpPr>
          <p:sp>
            <p:nvSpPr>
              <p:cNvPr id="677" name=""/>
              <p:cNvSpPr/>
              <p:nvPr/>
            </p:nvSpPr>
            <p:spPr>
              <a:xfrm>
                <a:off x="2292480" y="30542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49680" y="30542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206880" y="30542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664080" y="30542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21280" y="30542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78480" y="30542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35680" y="30542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835280" y="30542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1835280" y="3511440"/>
              <a:ext cx="3644640" cy="444600"/>
              <a:chOff x="1835280" y="3511440"/>
              <a:chExt cx="3644640" cy="444600"/>
            </a:xfrm>
          </p:grpSpPr>
          <p:sp>
            <p:nvSpPr>
              <p:cNvPr id="686" name=""/>
              <p:cNvSpPr/>
              <p:nvPr/>
            </p:nvSpPr>
            <p:spPr>
              <a:xfrm>
                <a:off x="2292480" y="35114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49680" y="35114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06880" y="35114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664080" y="35114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121280" y="35114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578480" y="35114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035680" y="35114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835280" y="35114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1835280" y="3968640"/>
              <a:ext cx="3644640" cy="444600"/>
              <a:chOff x="1835280" y="3968640"/>
              <a:chExt cx="3644640" cy="444600"/>
            </a:xfrm>
          </p:grpSpPr>
          <p:sp>
            <p:nvSpPr>
              <p:cNvPr id="695" name=""/>
              <p:cNvSpPr/>
              <p:nvPr/>
            </p:nvSpPr>
            <p:spPr>
              <a:xfrm>
                <a:off x="2292480" y="39686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749680" y="39686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206880" y="39686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664080" y="39686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121280" y="39686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578480" y="39686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035680" y="39686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835280" y="39686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1835280" y="4425840"/>
              <a:ext cx="3644640" cy="444600"/>
              <a:chOff x="1835280" y="4425840"/>
              <a:chExt cx="3644640" cy="444600"/>
            </a:xfrm>
          </p:grpSpPr>
          <p:sp>
            <p:nvSpPr>
              <p:cNvPr id="704" name=""/>
              <p:cNvSpPr/>
              <p:nvPr/>
            </p:nvSpPr>
            <p:spPr>
              <a:xfrm>
                <a:off x="2292480" y="44258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749680" y="44258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206880" y="44258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664080" y="44258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121280" y="44258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578480" y="44258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035680" y="44258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835280" y="44258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1835280" y="4883040"/>
              <a:ext cx="3644640" cy="444600"/>
              <a:chOff x="1835280" y="4883040"/>
              <a:chExt cx="3644640" cy="444600"/>
            </a:xfrm>
          </p:grpSpPr>
          <p:sp>
            <p:nvSpPr>
              <p:cNvPr id="713" name=""/>
              <p:cNvSpPr/>
              <p:nvPr/>
            </p:nvSpPr>
            <p:spPr>
              <a:xfrm>
                <a:off x="2292480" y="4883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749680" y="4883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206880" y="4883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664080" y="4883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121280" y="4883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78480" y="4883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035680" y="4883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835280" y="488304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1835280" y="5346720"/>
              <a:ext cx="3644640" cy="444600"/>
              <a:chOff x="1835280" y="5346720"/>
              <a:chExt cx="3644640" cy="444600"/>
            </a:xfrm>
          </p:grpSpPr>
          <p:sp>
            <p:nvSpPr>
              <p:cNvPr id="722" name=""/>
              <p:cNvSpPr/>
              <p:nvPr/>
            </p:nvSpPr>
            <p:spPr>
              <a:xfrm>
                <a:off x="2292480" y="534672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749680" y="534672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206880" y="534672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664080" y="534672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21280" y="534672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578480" y="534672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035680" y="534672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835280" y="5346720"/>
                <a:ext cx="444240" cy="4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0" name=""/>
          <p:cNvSpPr/>
          <p:nvPr/>
        </p:nvSpPr>
        <p:spPr>
          <a:xfrm flipV="1">
            <a:off x="2743200" y="4393800"/>
            <a:ext cx="0" cy="507960"/>
          </a:xfrm>
          <a:prstGeom prst="line">
            <a:avLst/>
          </a:prstGeom>
          <a:ln w="7632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768760" y="4419720"/>
            <a:ext cx="863280" cy="0"/>
          </a:xfrm>
          <a:prstGeom prst="line">
            <a:avLst/>
          </a:prstGeom>
          <a:ln w="7632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657600" y="3936600"/>
            <a:ext cx="0" cy="507960"/>
          </a:xfrm>
          <a:prstGeom prst="line">
            <a:avLst/>
          </a:prstGeom>
          <a:ln w="7632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683160" y="3962520"/>
            <a:ext cx="863280" cy="0"/>
          </a:xfrm>
          <a:prstGeom prst="line">
            <a:avLst/>
          </a:prstGeom>
          <a:ln w="7632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572000" y="3479400"/>
            <a:ext cx="0" cy="507960"/>
          </a:xfrm>
          <a:prstGeom prst="line">
            <a:avLst/>
          </a:prstGeom>
          <a:ln w="7632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311560" y="3530520"/>
            <a:ext cx="2692080" cy="1320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311560" y="3479400"/>
            <a:ext cx="2692080" cy="14223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54360" y="2616120"/>
            <a:ext cx="3606480" cy="31496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21200" y="339732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78000" y="476892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369120" y="2558880"/>
            <a:ext cx="15876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626160" y="2494080"/>
            <a:ext cx="911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t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890320" y="2913120"/>
            <a:ext cx="243072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ance euclidi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ance 4 connex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City bloc distanc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sieurs chem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26360" y="3657600"/>
            <a:ext cx="15112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26360" y="4819680"/>
            <a:ext cx="151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1835280" y="2597040"/>
            <a:ext cx="3644640" cy="444600"/>
            <a:chOff x="1835280" y="2597040"/>
            <a:chExt cx="3644640" cy="444600"/>
          </a:xfrm>
        </p:grpSpPr>
        <p:sp>
          <p:nvSpPr>
            <p:cNvPr id="746" name=""/>
            <p:cNvSpPr/>
            <p:nvPr/>
          </p:nvSpPr>
          <p:spPr>
            <a:xfrm>
              <a:off x="2292480" y="2597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49680" y="2597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06880" y="2597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64080" y="2597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121280" y="2597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578480" y="2597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5680" y="2597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835280" y="2597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1835280" y="3054240"/>
            <a:ext cx="3644640" cy="444600"/>
            <a:chOff x="1835280" y="3054240"/>
            <a:chExt cx="3644640" cy="444600"/>
          </a:xfrm>
        </p:grpSpPr>
        <p:sp>
          <p:nvSpPr>
            <p:cNvPr id="755" name=""/>
            <p:cNvSpPr/>
            <p:nvPr/>
          </p:nvSpPr>
          <p:spPr>
            <a:xfrm>
              <a:off x="2292480" y="30542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9680" y="30542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06880" y="30542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64080" y="30542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21280" y="30542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78480" y="30542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5680" y="30542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35280" y="30542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1835280" y="3511440"/>
            <a:ext cx="3644640" cy="444600"/>
            <a:chOff x="1835280" y="3511440"/>
            <a:chExt cx="3644640" cy="444600"/>
          </a:xfrm>
        </p:grpSpPr>
        <p:sp>
          <p:nvSpPr>
            <p:cNvPr id="764" name=""/>
            <p:cNvSpPr/>
            <p:nvPr/>
          </p:nvSpPr>
          <p:spPr>
            <a:xfrm>
              <a:off x="2292480" y="35114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49680" y="35114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06880" y="35114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64080" y="35114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21280" y="35114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8480" y="35114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5680" y="35114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835280" y="35114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1835280" y="3968640"/>
            <a:ext cx="3644640" cy="444600"/>
            <a:chOff x="1835280" y="3968640"/>
            <a:chExt cx="3644640" cy="444600"/>
          </a:xfrm>
        </p:grpSpPr>
        <p:sp>
          <p:nvSpPr>
            <p:cNvPr id="773" name=""/>
            <p:cNvSpPr/>
            <p:nvPr/>
          </p:nvSpPr>
          <p:spPr>
            <a:xfrm>
              <a:off x="2292480" y="39686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49680" y="39686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06880" y="39686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64080" y="39686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121280" y="39686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78480" y="39686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035680" y="39686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835280" y="39686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1835280" y="4425840"/>
            <a:ext cx="3644640" cy="444600"/>
            <a:chOff x="1835280" y="4425840"/>
            <a:chExt cx="3644640" cy="444600"/>
          </a:xfrm>
        </p:grpSpPr>
        <p:sp>
          <p:nvSpPr>
            <p:cNvPr id="782" name=""/>
            <p:cNvSpPr/>
            <p:nvPr/>
          </p:nvSpPr>
          <p:spPr>
            <a:xfrm>
              <a:off x="2292480" y="44258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49680" y="44258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06880" y="44258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64080" y="44258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121280" y="44258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578480" y="44258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35680" y="44258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35280" y="44258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1835280" y="4883040"/>
            <a:ext cx="3644640" cy="444600"/>
            <a:chOff x="1835280" y="4883040"/>
            <a:chExt cx="3644640" cy="444600"/>
          </a:xfrm>
        </p:grpSpPr>
        <p:sp>
          <p:nvSpPr>
            <p:cNvPr id="791" name=""/>
            <p:cNvSpPr/>
            <p:nvPr/>
          </p:nvSpPr>
          <p:spPr>
            <a:xfrm>
              <a:off x="2292480" y="4883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49680" y="4883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206880" y="4883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64080" y="4883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21280" y="4883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78480" y="4883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35680" y="4883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835280" y="488304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835280" y="5346720"/>
            <a:ext cx="3644640" cy="444600"/>
            <a:chOff x="1835280" y="5346720"/>
            <a:chExt cx="3644640" cy="444600"/>
          </a:xfrm>
        </p:grpSpPr>
        <p:sp>
          <p:nvSpPr>
            <p:cNvPr id="800" name=""/>
            <p:cNvSpPr/>
            <p:nvPr/>
          </p:nvSpPr>
          <p:spPr>
            <a:xfrm>
              <a:off x="2292480" y="534672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49680" y="534672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06880" y="534672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64080" y="534672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121280" y="534672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8480" y="534672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035680" y="534672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35280" y="5346720"/>
              <a:ext cx="4442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V="1">
            <a:off x="4140360" y="3479400"/>
            <a:ext cx="863280" cy="965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683160" y="4419720"/>
            <a:ext cx="406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225960" y="4393800"/>
            <a:ext cx="406080" cy="50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311560" y="4876920"/>
            <a:ext cx="863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683160" y="3505320"/>
            <a:ext cx="132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311560" y="3479400"/>
            <a:ext cx="1320480" cy="142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nce euclidienne et distance discrète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 de la maille carrée (8 connexité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2311560" y="3479400"/>
            <a:ext cx="2692080" cy="14223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54360" y="2616120"/>
            <a:ext cx="3606480" cy="31496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21200" y="339732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78000" y="476892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369120" y="2558880"/>
            <a:ext cx="15876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626160" y="2494080"/>
            <a:ext cx="911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t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719680" y="2913120"/>
            <a:ext cx="277236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tance euclidi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(x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tance 8 connex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"Chess board distanc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C8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usieurs chem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den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426360" y="3657600"/>
            <a:ext cx="15112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426360" y="4819680"/>
            <a:ext cx="151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"/>
          <p:cNvGrpSpPr/>
          <p:nvPr/>
        </p:nvGrpSpPr>
        <p:grpSpPr>
          <a:xfrm>
            <a:off x="1682640" y="2749680"/>
            <a:ext cx="3645000" cy="3190680"/>
            <a:chOff x="1682640" y="2749680"/>
            <a:chExt cx="3645000" cy="3190680"/>
          </a:xfrm>
        </p:grpSpPr>
        <p:grpSp>
          <p:nvGrpSpPr>
            <p:cNvPr id="826" name=""/>
            <p:cNvGrpSpPr/>
            <p:nvPr/>
          </p:nvGrpSpPr>
          <p:grpSpPr>
            <a:xfrm>
              <a:off x="1682640" y="2749680"/>
              <a:ext cx="3645000" cy="1590480"/>
              <a:chOff x="1682640" y="2749680"/>
              <a:chExt cx="3645000" cy="1590480"/>
            </a:xfrm>
          </p:grpSpPr>
          <p:grpSp>
            <p:nvGrpSpPr>
              <p:cNvPr id="827" name=""/>
              <p:cNvGrpSpPr/>
              <p:nvPr/>
            </p:nvGrpSpPr>
            <p:grpSpPr>
              <a:xfrm>
                <a:off x="3511440" y="2749680"/>
                <a:ext cx="1816200" cy="1590480"/>
                <a:chOff x="3511440" y="2749680"/>
                <a:chExt cx="1816200" cy="1590480"/>
              </a:xfrm>
            </p:grpSpPr>
            <p:grpSp>
              <p:nvGrpSpPr>
                <p:cNvPr id="828" name=""/>
                <p:cNvGrpSpPr/>
                <p:nvPr/>
              </p:nvGrpSpPr>
              <p:grpSpPr>
                <a:xfrm>
                  <a:off x="3511440" y="2749680"/>
                  <a:ext cx="1816200" cy="215640"/>
                  <a:chOff x="3511440" y="2749680"/>
                  <a:chExt cx="1816200" cy="21564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37400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39686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41972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44258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46544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48830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51116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35114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7" name=""/>
                <p:cNvGrpSpPr/>
                <p:nvPr/>
              </p:nvGrpSpPr>
              <p:grpSpPr>
                <a:xfrm>
                  <a:off x="3511440" y="2978280"/>
                  <a:ext cx="1816200" cy="215640"/>
                  <a:chOff x="3511440" y="2978280"/>
                  <a:chExt cx="1816200" cy="21564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7400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9686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41972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44258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46544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48830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51116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5114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3511440" y="3206880"/>
                  <a:ext cx="1816200" cy="215640"/>
                  <a:chOff x="3511440" y="3206880"/>
                  <a:chExt cx="1816200" cy="21564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37400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39686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41972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44258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6544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8830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51116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35114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5" name=""/>
                <p:cNvGrpSpPr/>
                <p:nvPr/>
              </p:nvGrpSpPr>
              <p:grpSpPr>
                <a:xfrm>
                  <a:off x="3511440" y="3435480"/>
                  <a:ext cx="1816200" cy="215640"/>
                  <a:chOff x="3511440" y="3435480"/>
                  <a:chExt cx="1816200" cy="2156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37400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39686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1972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44258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46544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48830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51116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35114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3511440" y="3664080"/>
                  <a:ext cx="1816200" cy="215640"/>
                  <a:chOff x="3511440" y="3664080"/>
                  <a:chExt cx="1816200" cy="21564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37400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9686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41972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44258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46544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48830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51116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5114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3511440" y="3892680"/>
                  <a:ext cx="1816200" cy="215640"/>
                  <a:chOff x="3511440" y="3892680"/>
                  <a:chExt cx="1816200" cy="21564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37400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39686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41972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4258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6544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48830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51116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5114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3511440" y="4124160"/>
                  <a:ext cx="1816200" cy="216000"/>
                  <a:chOff x="3511440" y="4124160"/>
                  <a:chExt cx="1816200" cy="21600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37400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39686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41972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44258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46544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48830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51116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35114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91" name=""/>
              <p:cNvGrpSpPr/>
              <p:nvPr/>
            </p:nvGrpSpPr>
            <p:grpSpPr>
              <a:xfrm>
                <a:off x="1682640" y="2749680"/>
                <a:ext cx="1816200" cy="1590480"/>
                <a:chOff x="1682640" y="2749680"/>
                <a:chExt cx="1816200" cy="1590480"/>
              </a:xfrm>
            </p:grpSpPr>
            <p:grpSp>
              <p:nvGrpSpPr>
                <p:cNvPr id="892" name=""/>
                <p:cNvGrpSpPr/>
                <p:nvPr/>
              </p:nvGrpSpPr>
              <p:grpSpPr>
                <a:xfrm>
                  <a:off x="1682640" y="2749680"/>
                  <a:ext cx="1816200" cy="215640"/>
                  <a:chOff x="1682640" y="2749680"/>
                  <a:chExt cx="1816200" cy="21564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19112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21398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23684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25970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28256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30542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32828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1682640" y="2749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1682640" y="2978280"/>
                  <a:ext cx="1816200" cy="215640"/>
                  <a:chOff x="1682640" y="2978280"/>
                  <a:chExt cx="1816200" cy="21564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19112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21398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3684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5970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28256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0542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32828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1682640" y="2978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0" name=""/>
                <p:cNvGrpSpPr/>
                <p:nvPr/>
              </p:nvGrpSpPr>
              <p:grpSpPr>
                <a:xfrm>
                  <a:off x="1682640" y="3206880"/>
                  <a:ext cx="1816200" cy="215640"/>
                  <a:chOff x="1682640" y="3206880"/>
                  <a:chExt cx="1816200" cy="21564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19112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1398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3684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5970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28256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30542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32828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1682640" y="3206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9" name=""/>
                <p:cNvGrpSpPr/>
                <p:nvPr/>
              </p:nvGrpSpPr>
              <p:grpSpPr>
                <a:xfrm>
                  <a:off x="1682640" y="3435480"/>
                  <a:ext cx="1816200" cy="215640"/>
                  <a:chOff x="1682640" y="3435480"/>
                  <a:chExt cx="1816200" cy="21564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>
                    <a:off x="19112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1398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3684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970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8256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30542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32828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682640" y="3435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1682640" y="3664080"/>
                  <a:ext cx="1816200" cy="215640"/>
                  <a:chOff x="1682640" y="3664080"/>
                  <a:chExt cx="1816200" cy="21564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19112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1398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3684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5970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8256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30542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32828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1682640" y="3664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7" name=""/>
                <p:cNvGrpSpPr/>
                <p:nvPr/>
              </p:nvGrpSpPr>
              <p:grpSpPr>
                <a:xfrm>
                  <a:off x="1682640" y="3892680"/>
                  <a:ext cx="1816200" cy="215640"/>
                  <a:chOff x="1682640" y="3892680"/>
                  <a:chExt cx="1816200" cy="21564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>
                    <a:off x="19112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1398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23684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5970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8256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30542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32828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6826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1682640" y="4124160"/>
                  <a:ext cx="1816200" cy="216000"/>
                  <a:chOff x="1682640" y="4124160"/>
                  <a:chExt cx="1816200" cy="21600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19112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1398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3684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5970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8256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30542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32828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1682640" y="41241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55" name=""/>
            <p:cNvGrpSpPr/>
            <p:nvPr/>
          </p:nvGrpSpPr>
          <p:grpSpPr>
            <a:xfrm>
              <a:off x="1682640" y="4349880"/>
              <a:ext cx="3645000" cy="1590480"/>
              <a:chOff x="1682640" y="4349880"/>
              <a:chExt cx="3645000" cy="159048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3511440" y="4349880"/>
                <a:ext cx="1816200" cy="1590480"/>
                <a:chOff x="3511440" y="4349880"/>
                <a:chExt cx="1816200" cy="1590480"/>
              </a:xfrm>
            </p:grpSpPr>
            <p:grpSp>
              <p:nvGrpSpPr>
                <p:cNvPr id="957" name=""/>
                <p:cNvGrpSpPr/>
                <p:nvPr/>
              </p:nvGrpSpPr>
              <p:grpSpPr>
                <a:xfrm>
                  <a:off x="3511440" y="4349880"/>
                  <a:ext cx="1816200" cy="215640"/>
                  <a:chOff x="3511440" y="4349880"/>
                  <a:chExt cx="1816200" cy="21564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7400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9686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41972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4258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6544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8830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51116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35114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6" name=""/>
                <p:cNvGrpSpPr/>
                <p:nvPr/>
              </p:nvGrpSpPr>
              <p:grpSpPr>
                <a:xfrm>
                  <a:off x="3511440" y="4578480"/>
                  <a:ext cx="1816200" cy="215640"/>
                  <a:chOff x="3511440" y="4578480"/>
                  <a:chExt cx="1816200" cy="2156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37400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9686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41972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44258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46544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48830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51116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35114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3511440" y="4807080"/>
                  <a:ext cx="1816200" cy="215640"/>
                  <a:chOff x="3511440" y="4807080"/>
                  <a:chExt cx="1816200" cy="21564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37400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39686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41972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44258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46544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48830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1116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5114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4" name=""/>
                <p:cNvGrpSpPr/>
                <p:nvPr/>
              </p:nvGrpSpPr>
              <p:grpSpPr>
                <a:xfrm>
                  <a:off x="3511440" y="5035680"/>
                  <a:ext cx="1816200" cy="215640"/>
                  <a:chOff x="3511440" y="5035680"/>
                  <a:chExt cx="1816200" cy="21564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37400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39686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41972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44258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46544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48830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51116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35114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3" name=""/>
                <p:cNvGrpSpPr/>
                <p:nvPr/>
              </p:nvGrpSpPr>
              <p:grpSpPr>
                <a:xfrm>
                  <a:off x="3511440" y="5264280"/>
                  <a:ext cx="1816200" cy="215640"/>
                  <a:chOff x="3511440" y="5264280"/>
                  <a:chExt cx="1816200" cy="215640"/>
                </a:xfrm>
              </p:grpSpPr>
              <p:sp>
                <p:nvSpPr>
                  <p:cNvPr id="994" name=""/>
                  <p:cNvSpPr/>
                  <p:nvPr/>
                </p:nvSpPr>
                <p:spPr>
                  <a:xfrm>
                    <a:off x="37400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39686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41972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44258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46544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48830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51116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5114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3511440" y="5492880"/>
                  <a:ext cx="1816200" cy="215640"/>
                  <a:chOff x="3511440" y="5492880"/>
                  <a:chExt cx="1816200" cy="21564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>
                    <a:off x="37400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9686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972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4258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6544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48830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51116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5114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1" name=""/>
                <p:cNvGrpSpPr/>
                <p:nvPr/>
              </p:nvGrpSpPr>
              <p:grpSpPr>
                <a:xfrm>
                  <a:off x="3511440" y="5724360"/>
                  <a:ext cx="1816200" cy="216000"/>
                  <a:chOff x="3511440" y="5724360"/>
                  <a:chExt cx="1816200" cy="216000"/>
                </a:xfrm>
              </p:grpSpPr>
              <p:sp>
                <p:nvSpPr>
                  <p:cNvPr id="1012" name=""/>
                  <p:cNvSpPr/>
                  <p:nvPr/>
                </p:nvSpPr>
                <p:spPr>
                  <a:xfrm>
                    <a:off x="37400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9686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41972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44258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46544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8830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1116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5114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0" name=""/>
              <p:cNvGrpSpPr/>
              <p:nvPr/>
            </p:nvGrpSpPr>
            <p:grpSpPr>
              <a:xfrm>
                <a:off x="1682640" y="4349880"/>
                <a:ext cx="1816200" cy="1590480"/>
                <a:chOff x="1682640" y="4349880"/>
                <a:chExt cx="1816200" cy="159048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1682640" y="4349880"/>
                  <a:ext cx="1816200" cy="215640"/>
                  <a:chOff x="1682640" y="4349880"/>
                  <a:chExt cx="1816200" cy="21564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19112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21398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23684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25970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28256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30542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2828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1682640" y="4349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1682640" y="4578480"/>
                  <a:ext cx="1816200" cy="215640"/>
                  <a:chOff x="1682640" y="4578480"/>
                  <a:chExt cx="1816200" cy="21564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19112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21398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23684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5970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28256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30542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32828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1682640" y="45784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1682640" y="4807080"/>
                  <a:ext cx="1816200" cy="215640"/>
                  <a:chOff x="1682640" y="4807080"/>
                  <a:chExt cx="1816200" cy="21564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19112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21398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23684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5970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8256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30542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32828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1682640" y="48070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1682640" y="5035680"/>
                  <a:ext cx="1816200" cy="215640"/>
                  <a:chOff x="1682640" y="5035680"/>
                  <a:chExt cx="1816200" cy="21564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19112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1398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684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5970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8256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30542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2828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1682640" y="5035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1682640" y="5264280"/>
                  <a:ext cx="1816200" cy="215640"/>
                  <a:chOff x="1682640" y="5264280"/>
                  <a:chExt cx="1816200" cy="21564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>
                    <a:off x="19112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1398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3684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5970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8256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30542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2828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1682640" y="52642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1682640" y="5492880"/>
                  <a:ext cx="1816200" cy="215640"/>
                  <a:chOff x="1682640" y="5492880"/>
                  <a:chExt cx="1816200" cy="21564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19112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1398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3684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5970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8256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0542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828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16826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1682640" y="5724360"/>
                  <a:ext cx="1816200" cy="216000"/>
                  <a:chOff x="1682640" y="5724360"/>
                  <a:chExt cx="1816200" cy="2160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9112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21398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3684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25970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8256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0542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2828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1682640" y="572436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nce euclidienne et distance discrète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 de la maille carrée (8 connexité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emble des points situés à une distance donnée d'un point 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425760" y="4264200"/>
            <a:ext cx="158760" cy="15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387520" y="3225960"/>
            <a:ext cx="2235240" cy="2234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445080" y="2787480"/>
            <a:ext cx="15876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691320" y="27226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890320" y="3370320"/>
            <a:ext cx="24307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tance euclidi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(x,y) = 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cerc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tance 8 connex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C8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x,y) = 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carr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350040" y="4267080"/>
            <a:ext cx="151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26360" y="5429160"/>
            <a:ext cx="1511280" cy="0"/>
          </a:xfrm>
          <a:prstGeom prst="line">
            <a:avLst/>
          </a:prstGeom>
          <a:ln w="7632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387520" y="3225960"/>
            <a:ext cx="2235240" cy="2234880"/>
          </a:xfrm>
          <a:prstGeom prst="rect">
            <a:avLst/>
          </a:prstGeom>
          <a:noFill/>
          <a:ln w="7632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"/>
          <p:cNvGrpSpPr/>
          <p:nvPr/>
        </p:nvGrpSpPr>
        <p:grpSpPr>
          <a:xfrm>
            <a:off x="1682640" y="4118040"/>
            <a:ext cx="3645000" cy="1590480"/>
            <a:chOff x="1682640" y="4118040"/>
            <a:chExt cx="3645000" cy="1590480"/>
          </a:xfrm>
        </p:grpSpPr>
        <p:grpSp>
          <p:nvGrpSpPr>
            <p:cNvPr id="1095" name=""/>
            <p:cNvGrpSpPr/>
            <p:nvPr/>
          </p:nvGrpSpPr>
          <p:grpSpPr>
            <a:xfrm>
              <a:off x="3511440" y="4118040"/>
              <a:ext cx="1816200" cy="1590480"/>
              <a:chOff x="3511440" y="4118040"/>
              <a:chExt cx="1816200" cy="1590480"/>
            </a:xfrm>
          </p:grpSpPr>
          <p:grpSp>
            <p:nvGrpSpPr>
              <p:cNvPr id="1096" name=""/>
              <p:cNvGrpSpPr/>
              <p:nvPr/>
            </p:nvGrpSpPr>
            <p:grpSpPr>
              <a:xfrm>
                <a:off x="3511440" y="4118040"/>
                <a:ext cx="1816200" cy="216000"/>
                <a:chOff x="3511440" y="4118040"/>
                <a:chExt cx="1816200" cy="21600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37400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9686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1972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258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6544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8830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1116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5114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3511440" y="4346640"/>
                <a:ext cx="1816200" cy="216000"/>
                <a:chOff x="3511440" y="4346640"/>
                <a:chExt cx="1816200" cy="2160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37400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9686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1972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258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6544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8830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51116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35114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3511440" y="4575240"/>
                <a:ext cx="1816200" cy="216000"/>
                <a:chOff x="3511440" y="4575240"/>
                <a:chExt cx="1816200" cy="2160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37400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39686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1972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258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6544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8830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1116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35114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3511440" y="4803840"/>
                <a:ext cx="1816200" cy="216000"/>
                <a:chOff x="3511440" y="4803840"/>
                <a:chExt cx="1816200" cy="21600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37400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39686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1972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4258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6544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8830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51116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5114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2" name=""/>
              <p:cNvGrpSpPr/>
              <p:nvPr/>
            </p:nvGrpSpPr>
            <p:grpSpPr>
              <a:xfrm>
                <a:off x="3511440" y="5032440"/>
                <a:ext cx="1816200" cy="216000"/>
                <a:chOff x="3511440" y="5032440"/>
                <a:chExt cx="1816200" cy="21600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37400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9686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1972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258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6544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8830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1116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35114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"/>
              <p:cNvGrpSpPr/>
              <p:nvPr/>
            </p:nvGrpSpPr>
            <p:grpSpPr>
              <a:xfrm>
                <a:off x="3511440" y="5261040"/>
                <a:ext cx="1816200" cy="216000"/>
                <a:chOff x="3511440" y="5261040"/>
                <a:chExt cx="1816200" cy="21600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37400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39686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1972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4258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6544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8830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51116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35114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0" name=""/>
              <p:cNvGrpSpPr/>
              <p:nvPr/>
            </p:nvGrpSpPr>
            <p:grpSpPr>
              <a:xfrm>
                <a:off x="3511440" y="5492880"/>
                <a:ext cx="1816200" cy="215640"/>
                <a:chOff x="3511440" y="5492880"/>
                <a:chExt cx="1816200" cy="21564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37400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9686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1972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4258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6544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830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1116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35114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9" name=""/>
            <p:cNvGrpSpPr/>
            <p:nvPr/>
          </p:nvGrpSpPr>
          <p:grpSpPr>
            <a:xfrm>
              <a:off x="1682640" y="4118040"/>
              <a:ext cx="1816200" cy="1590480"/>
              <a:chOff x="1682640" y="4118040"/>
              <a:chExt cx="1816200" cy="1590480"/>
            </a:xfrm>
          </p:grpSpPr>
          <p:grpSp>
            <p:nvGrpSpPr>
              <p:cNvPr id="1160" name=""/>
              <p:cNvGrpSpPr/>
              <p:nvPr/>
            </p:nvGrpSpPr>
            <p:grpSpPr>
              <a:xfrm>
                <a:off x="1682640" y="4118040"/>
                <a:ext cx="1816200" cy="216000"/>
                <a:chOff x="1682640" y="4118040"/>
                <a:chExt cx="1816200" cy="21600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19112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21398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23684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5970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8256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30542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32828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16826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1682640" y="4346640"/>
                <a:ext cx="1816200" cy="216000"/>
                <a:chOff x="1682640" y="4346640"/>
                <a:chExt cx="1816200" cy="21600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19112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21398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3684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5970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8256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30542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32828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16826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1682640" y="4575240"/>
                <a:ext cx="1816200" cy="216000"/>
                <a:chOff x="1682640" y="4575240"/>
                <a:chExt cx="1816200" cy="21600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19112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1398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3684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5970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8256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30542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32828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6826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1682640" y="4803840"/>
                <a:ext cx="1816200" cy="216000"/>
                <a:chOff x="1682640" y="4803840"/>
                <a:chExt cx="1816200" cy="21600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19112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1398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3684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5970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8256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0542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2828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6826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1682640" y="5032440"/>
                <a:ext cx="1816200" cy="216000"/>
                <a:chOff x="1682640" y="5032440"/>
                <a:chExt cx="1816200" cy="21600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19112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1398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3684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5970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256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30542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2828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6826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1682640" y="5261040"/>
                <a:ext cx="1816200" cy="216000"/>
                <a:chOff x="1682640" y="5261040"/>
                <a:chExt cx="1816200" cy="21600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19112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1398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3684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5970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8256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0542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2828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16826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1682640" y="5492880"/>
                <a:ext cx="1816200" cy="215640"/>
                <a:chOff x="1682640" y="5492880"/>
                <a:chExt cx="1816200" cy="21564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19112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1398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3684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5970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8256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0542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2828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16826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23" name=""/>
          <p:cNvGrpSpPr/>
          <p:nvPr/>
        </p:nvGrpSpPr>
        <p:grpSpPr>
          <a:xfrm>
            <a:off x="1682640" y="2517840"/>
            <a:ext cx="3645000" cy="1590480"/>
            <a:chOff x="1682640" y="2517840"/>
            <a:chExt cx="3645000" cy="1590480"/>
          </a:xfrm>
        </p:grpSpPr>
        <p:grpSp>
          <p:nvGrpSpPr>
            <p:cNvPr id="1224" name=""/>
            <p:cNvGrpSpPr/>
            <p:nvPr/>
          </p:nvGrpSpPr>
          <p:grpSpPr>
            <a:xfrm>
              <a:off x="3511440" y="2517840"/>
              <a:ext cx="1816200" cy="1590480"/>
              <a:chOff x="3511440" y="2517840"/>
              <a:chExt cx="1816200" cy="1590480"/>
            </a:xfrm>
          </p:grpSpPr>
          <p:grpSp>
            <p:nvGrpSpPr>
              <p:cNvPr id="1225" name=""/>
              <p:cNvGrpSpPr/>
              <p:nvPr/>
            </p:nvGrpSpPr>
            <p:grpSpPr>
              <a:xfrm>
                <a:off x="3511440" y="2517840"/>
                <a:ext cx="1816200" cy="216000"/>
                <a:chOff x="3511440" y="2517840"/>
                <a:chExt cx="1816200" cy="21600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37400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9686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41972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44258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6544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48830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1116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35114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3511440" y="2746440"/>
                <a:ext cx="1816200" cy="216000"/>
                <a:chOff x="3511440" y="2746440"/>
                <a:chExt cx="1816200" cy="21600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37400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9686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1972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4258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46544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48830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51116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35114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3" name=""/>
              <p:cNvGrpSpPr/>
              <p:nvPr/>
            </p:nvGrpSpPr>
            <p:grpSpPr>
              <a:xfrm>
                <a:off x="3511440" y="2975040"/>
                <a:ext cx="1816200" cy="216000"/>
                <a:chOff x="3511440" y="2975040"/>
                <a:chExt cx="1816200" cy="21600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37400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39686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1972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4258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46544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8830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1116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5114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2" name=""/>
              <p:cNvGrpSpPr/>
              <p:nvPr/>
            </p:nvGrpSpPr>
            <p:grpSpPr>
              <a:xfrm>
                <a:off x="3511440" y="3203640"/>
                <a:ext cx="1816200" cy="216000"/>
                <a:chOff x="3511440" y="3203640"/>
                <a:chExt cx="1816200" cy="21600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37400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39686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41972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4258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46544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8830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51116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35114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3511440" y="3432240"/>
                <a:ext cx="1816200" cy="216000"/>
                <a:chOff x="3511440" y="3432240"/>
                <a:chExt cx="1816200" cy="21600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37400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39686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1972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4258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6544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8830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1116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35114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0" name=""/>
              <p:cNvGrpSpPr/>
              <p:nvPr/>
            </p:nvGrpSpPr>
            <p:grpSpPr>
              <a:xfrm>
                <a:off x="3511440" y="3660840"/>
                <a:ext cx="1816200" cy="216000"/>
                <a:chOff x="3511440" y="3660840"/>
                <a:chExt cx="1816200" cy="21600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37400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39686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1972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4258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46544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830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1116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35114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9" name=""/>
              <p:cNvGrpSpPr/>
              <p:nvPr/>
            </p:nvGrpSpPr>
            <p:grpSpPr>
              <a:xfrm>
                <a:off x="3511440" y="3892680"/>
                <a:ext cx="1816200" cy="215640"/>
                <a:chOff x="3511440" y="3892680"/>
                <a:chExt cx="1816200" cy="21564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37400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39686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41972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4258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46544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48830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1116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5114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8" name=""/>
            <p:cNvGrpSpPr/>
            <p:nvPr/>
          </p:nvGrpSpPr>
          <p:grpSpPr>
            <a:xfrm>
              <a:off x="1682640" y="2517840"/>
              <a:ext cx="1816200" cy="1590480"/>
              <a:chOff x="1682640" y="2517840"/>
              <a:chExt cx="1816200" cy="1590480"/>
            </a:xfrm>
          </p:grpSpPr>
          <p:grpSp>
            <p:nvGrpSpPr>
              <p:cNvPr id="1289" name=""/>
              <p:cNvGrpSpPr/>
              <p:nvPr/>
            </p:nvGrpSpPr>
            <p:grpSpPr>
              <a:xfrm>
                <a:off x="1682640" y="2517840"/>
                <a:ext cx="1816200" cy="216000"/>
                <a:chOff x="1682640" y="2517840"/>
                <a:chExt cx="1816200" cy="21600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19112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1398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3684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5970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8256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30542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32828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16826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1682640" y="2746440"/>
                <a:ext cx="1816200" cy="216000"/>
                <a:chOff x="1682640" y="2746440"/>
                <a:chExt cx="1816200" cy="21600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19112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1398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3684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5970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28256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30542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32828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16826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1682640" y="2975040"/>
                <a:ext cx="1816200" cy="216000"/>
                <a:chOff x="1682640" y="2975040"/>
                <a:chExt cx="1816200" cy="21600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19112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1398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3684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5970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8256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30542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32828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16826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1682640" y="3203640"/>
                <a:ext cx="1816200" cy="216000"/>
                <a:chOff x="1682640" y="3203640"/>
                <a:chExt cx="1816200" cy="21600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19112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1398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3684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5970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8256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0542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2828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6826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1682640" y="3432240"/>
                <a:ext cx="1816200" cy="216000"/>
                <a:chOff x="1682640" y="3432240"/>
                <a:chExt cx="1816200" cy="21600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19112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1398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3684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5970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8256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30542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32828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16826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1682640" y="3660840"/>
                <a:ext cx="1816200" cy="216000"/>
                <a:chOff x="1682640" y="3660840"/>
                <a:chExt cx="1816200" cy="21600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19112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1398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3684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5970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8256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30542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32828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6826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1682640" y="3892680"/>
                <a:ext cx="1816200" cy="215640"/>
                <a:chOff x="1682640" y="3892680"/>
                <a:chExt cx="1816200" cy="21564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19112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1398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3684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5970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8256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30542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2828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6826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52" name=""/>
          <p:cNvSpPr/>
          <p:nvPr/>
        </p:nvSpPr>
        <p:spPr>
          <a:xfrm>
            <a:off x="2597040" y="3206880"/>
            <a:ext cx="1816200" cy="18158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825640" y="3435480"/>
            <a:ext cx="1359000" cy="13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054240" y="3664080"/>
            <a:ext cx="901800" cy="9014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282840" y="3892680"/>
            <a:ext cx="444600" cy="444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nce discrète et morphologie mathématique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 entre 2 points en 8 connexit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3505320" y="36576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0" y="288"/>
                </a:moveTo>
                <a:lnTo>
                  <a:pt x="144" y="144"/>
                </a:lnTo>
                <a:lnTo>
                  <a:pt x="432" y="144"/>
                </a:lnTo>
                <a:lnTo>
                  <a:pt x="576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97320" y="40068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311720" y="3549600"/>
            <a:ext cx="216000" cy="2160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562720" y="25909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369120" y="2577960"/>
            <a:ext cx="15876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615000" y="2494080"/>
            <a:ext cx="1384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t     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283520" y="2577960"/>
            <a:ext cx="158760" cy="1587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564160" y="2897280"/>
            <a:ext cx="281628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distance entre 2 pix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c n = nombre minimum de dilatations de taille 1 tel qu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970600" y="3263760"/>
                <a:ext cx="17668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8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´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786280" y="4071960"/>
                <a:ext cx="22147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¹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8" name=""/>
          <p:cNvSpPr/>
          <p:nvPr/>
        </p:nvSpPr>
        <p:spPr>
          <a:xfrm>
            <a:off x="5797440" y="4578480"/>
            <a:ext cx="444600" cy="4442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309720" y="4646520"/>
            <a:ext cx="734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945040" y="5106960"/>
            <a:ext cx="1825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s l'exemple n =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1" name=""/>
          <p:cNvGrpSpPr/>
          <p:nvPr/>
        </p:nvGrpSpPr>
        <p:grpSpPr>
          <a:xfrm>
            <a:off x="1454040" y="2517840"/>
            <a:ext cx="3645000" cy="1590480"/>
            <a:chOff x="1454040" y="2517840"/>
            <a:chExt cx="3645000" cy="1590480"/>
          </a:xfrm>
        </p:grpSpPr>
        <p:grpSp>
          <p:nvGrpSpPr>
            <p:cNvPr id="1372" name=""/>
            <p:cNvGrpSpPr/>
            <p:nvPr/>
          </p:nvGrpSpPr>
          <p:grpSpPr>
            <a:xfrm>
              <a:off x="3282840" y="2517840"/>
              <a:ext cx="1816200" cy="1590480"/>
              <a:chOff x="3282840" y="2517840"/>
              <a:chExt cx="1816200" cy="1590480"/>
            </a:xfrm>
          </p:grpSpPr>
          <p:grpSp>
            <p:nvGrpSpPr>
              <p:cNvPr id="1373" name=""/>
              <p:cNvGrpSpPr/>
              <p:nvPr/>
            </p:nvGrpSpPr>
            <p:grpSpPr>
              <a:xfrm>
                <a:off x="3282840" y="2517840"/>
                <a:ext cx="1816200" cy="216000"/>
                <a:chOff x="3282840" y="2517840"/>
                <a:chExt cx="1816200" cy="21600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35114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37400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9686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1972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44258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46544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8830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2828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3282840" y="2746440"/>
                <a:ext cx="1816200" cy="216000"/>
                <a:chOff x="3282840" y="2746440"/>
                <a:chExt cx="1816200" cy="21600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35114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7400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686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1972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4258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6544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8830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2828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3282840" y="2975040"/>
                <a:ext cx="1816200" cy="216000"/>
                <a:chOff x="3282840" y="2975040"/>
                <a:chExt cx="1816200" cy="21600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35114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37400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39686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1972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4258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6544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8830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2828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3282840" y="3203640"/>
                <a:ext cx="1816200" cy="216000"/>
                <a:chOff x="3282840" y="3203640"/>
                <a:chExt cx="1816200" cy="21600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35114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37400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39686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1972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4258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6544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8830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32828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3282840" y="3432240"/>
                <a:ext cx="1816200" cy="216000"/>
                <a:chOff x="3282840" y="3432240"/>
                <a:chExt cx="1816200" cy="21600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35114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37400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39686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41972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44258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46544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48830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32828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8" name=""/>
              <p:cNvGrpSpPr/>
              <p:nvPr/>
            </p:nvGrpSpPr>
            <p:grpSpPr>
              <a:xfrm>
                <a:off x="3282840" y="3660840"/>
                <a:ext cx="1816200" cy="216000"/>
                <a:chOff x="3282840" y="3660840"/>
                <a:chExt cx="1816200" cy="21600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35114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400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9686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41972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44258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46544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48830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32828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3282840" y="3892680"/>
                <a:ext cx="1816200" cy="215640"/>
                <a:chOff x="3282840" y="3892680"/>
                <a:chExt cx="1816200" cy="21564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35114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37400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9686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41972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44258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46544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48830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2828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6" name=""/>
            <p:cNvGrpSpPr/>
            <p:nvPr/>
          </p:nvGrpSpPr>
          <p:grpSpPr>
            <a:xfrm>
              <a:off x="1454040" y="2517840"/>
              <a:ext cx="1816200" cy="1590480"/>
              <a:chOff x="1454040" y="2517840"/>
              <a:chExt cx="1816200" cy="1590480"/>
            </a:xfrm>
          </p:grpSpPr>
          <p:grpSp>
            <p:nvGrpSpPr>
              <p:cNvPr id="1437" name=""/>
              <p:cNvGrpSpPr/>
              <p:nvPr/>
            </p:nvGrpSpPr>
            <p:grpSpPr>
              <a:xfrm>
                <a:off x="1454040" y="2517840"/>
                <a:ext cx="1816200" cy="216000"/>
                <a:chOff x="1454040" y="2517840"/>
                <a:chExt cx="1816200" cy="2160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16826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19112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21398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23684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25970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28256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30542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1454040" y="2517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1454040" y="2746440"/>
                <a:ext cx="1816200" cy="216000"/>
                <a:chOff x="1454040" y="2746440"/>
                <a:chExt cx="1816200" cy="216000"/>
              </a:xfrm>
            </p:grpSpPr>
            <p:sp>
              <p:nvSpPr>
                <p:cNvPr id="1447" name=""/>
                <p:cNvSpPr/>
                <p:nvPr/>
              </p:nvSpPr>
              <p:spPr>
                <a:xfrm>
                  <a:off x="16826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19112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21398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23684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25970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28256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30542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1454040" y="2746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5" name=""/>
              <p:cNvGrpSpPr/>
              <p:nvPr/>
            </p:nvGrpSpPr>
            <p:grpSpPr>
              <a:xfrm>
                <a:off x="1454040" y="2975040"/>
                <a:ext cx="1816200" cy="216000"/>
                <a:chOff x="1454040" y="2975040"/>
                <a:chExt cx="1816200" cy="21600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16826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19112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21398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3684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25970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28256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30542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1454040" y="2975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1454040" y="3203640"/>
                <a:ext cx="1816200" cy="216000"/>
                <a:chOff x="1454040" y="3203640"/>
                <a:chExt cx="1816200" cy="21600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16826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19112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21398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23684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25970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28256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0542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1454040" y="3203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1454040" y="3432240"/>
                <a:ext cx="1816200" cy="216000"/>
                <a:chOff x="1454040" y="3432240"/>
                <a:chExt cx="1816200" cy="21600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16826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19112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21398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23684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25970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28256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0542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1454040" y="3432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454040" y="3660840"/>
                <a:ext cx="1816200" cy="216000"/>
                <a:chOff x="1454040" y="3660840"/>
                <a:chExt cx="1816200" cy="21600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6826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9112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21398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23684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25970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28256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30542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1454040" y="3660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1454040" y="3892680"/>
                <a:ext cx="1816200" cy="215640"/>
                <a:chOff x="1454040" y="3892680"/>
                <a:chExt cx="1816200" cy="21564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16826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19112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21398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23684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25970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28256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30542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1454040" y="38926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00" name=""/>
          <p:cNvGrpSpPr/>
          <p:nvPr/>
        </p:nvGrpSpPr>
        <p:grpSpPr>
          <a:xfrm>
            <a:off x="1454040" y="4118040"/>
            <a:ext cx="3645000" cy="1590480"/>
            <a:chOff x="1454040" y="4118040"/>
            <a:chExt cx="3645000" cy="1590480"/>
          </a:xfrm>
        </p:grpSpPr>
        <p:grpSp>
          <p:nvGrpSpPr>
            <p:cNvPr id="1501" name=""/>
            <p:cNvGrpSpPr/>
            <p:nvPr/>
          </p:nvGrpSpPr>
          <p:grpSpPr>
            <a:xfrm>
              <a:off x="3282840" y="4118040"/>
              <a:ext cx="1816200" cy="1590480"/>
              <a:chOff x="3282840" y="4118040"/>
              <a:chExt cx="1816200" cy="1590480"/>
            </a:xfrm>
          </p:grpSpPr>
          <p:grpSp>
            <p:nvGrpSpPr>
              <p:cNvPr id="1502" name=""/>
              <p:cNvGrpSpPr/>
              <p:nvPr/>
            </p:nvGrpSpPr>
            <p:grpSpPr>
              <a:xfrm>
                <a:off x="3282840" y="4118040"/>
                <a:ext cx="1816200" cy="216000"/>
                <a:chOff x="3282840" y="4118040"/>
                <a:chExt cx="1816200" cy="21600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35114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37400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39686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41972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44258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46544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48830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32828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3282840" y="4346640"/>
                <a:ext cx="1816200" cy="216000"/>
                <a:chOff x="3282840" y="4346640"/>
                <a:chExt cx="1816200" cy="21600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35114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37400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39686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41972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44258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46544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48830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32828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3282840" y="4575240"/>
                <a:ext cx="1816200" cy="216000"/>
                <a:chOff x="3282840" y="4575240"/>
                <a:chExt cx="1816200" cy="21600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35114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37400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39686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41972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44258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46544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8830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32828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3282840" y="4803840"/>
                <a:ext cx="1816200" cy="216000"/>
                <a:chOff x="3282840" y="4803840"/>
                <a:chExt cx="1816200" cy="21600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35114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37400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39686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1972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4258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6544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8830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32828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3282840" y="5032440"/>
                <a:ext cx="1816200" cy="216000"/>
                <a:chOff x="3282840" y="5032440"/>
                <a:chExt cx="1816200" cy="21600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35114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37400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39686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1972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44258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6544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8830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32828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3282840" y="5261040"/>
                <a:ext cx="1816200" cy="216000"/>
                <a:chOff x="3282840" y="5261040"/>
                <a:chExt cx="1816200" cy="21600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35114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37400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39686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41972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4258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46544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48830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32828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3282840" y="5492880"/>
                <a:ext cx="1816200" cy="215640"/>
                <a:chOff x="3282840" y="5492880"/>
                <a:chExt cx="1816200" cy="21564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35114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37400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39686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41972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44258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46544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48830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32828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5" name=""/>
            <p:cNvGrpSpPr/>
            <p:nvPr/>
          </p:nvGrpSpPr>
          <p:grpSpPr>
            <a:xfrm>
              <a:off x="1454040" y="4118040"/>
              <a:ext cx="1816200" cy="1590480"/>
              <a:chOff x="1454040" y="4118040"/>
              <a:chExt cx="1816200" cy="1590480"/>
            </a:xfrm>
          </p:grpSpPr>
          <p:grpSp>
            <p:nvGrpSpPr>
              <p:cNvPr id="1566" name=""/>
              <p:cNvGrpSpPr/>
              <p:nvPr/>
            </p:nvGrpSpPr>
            <p:grpSpPr>
              <a:xfrm>
                <a:off x="1454040" y="4118040"/>
                <a:ext cx="1816200" cy="216000"/>
                <a:chOff x="1454040" y="4118040"/>
                <a:chExt cx="1816200" cy="21600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16826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19112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21398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23684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25970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28256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30542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1454040" y="4118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1454040" y="4346640"/>
                <a:ext cx="1816200" cy="216000"/>
                <a:chOff x="1454040" y="4346640"/>
                <a:chExt cx="1816200" cy="21600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16826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19112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21398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23684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25970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28256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0542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1454040" y="43466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1454040" y="4575240"/>
                <a:ext cx="1816200" cy="216000"/>
                <a:chOff x="1454040" y="4575240"/>
                <a:chExt cx="1816200" cy="21600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16826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19112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21398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23684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25970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28256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0542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1454040" y="45752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1454040" y="4803840"/>
                <a:ext cx="1816200" cy="216000"/>
                <a:chOff x="1454040" y="4803840"/>
                <a:chExt cx="1816200" cy="21600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16826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19112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21398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23684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25970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28256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0542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1454040" y="48038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1454040" y="5032440"/>
                <a:ext cx="1816200" cy="216000"/>
                <a:chOff x="1454040" y="5032440"/>
                <a:chExt cx="1816200" cy="21600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16826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19112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21398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23684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25970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28256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0542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1454040" y="50324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1454040" y="5261040"/>
                <a:ext cx="1816200" cy="216000"/>
                <a:chOff x="1454040" y="5261040"/>
                <a:chExt cx="1816200" cy="21600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16826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19112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21398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23684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25970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28256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0542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1454040" y="5261040"/>
                  <a:ext cx="216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1454040" y="5492880"/>
                <a:ext cx="1816200" cy="215640"/>
                <a:chOff x="1454040" y="5492880"/>
                <a:chExt cx="1816200" cy="21564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16826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19112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21398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23684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25970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28256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0542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1454040" y="5492880"/>
                  <a:ext cx="216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29" name=""/>
          <p:cNvSpPr/>
          <p:nvPr/>
        </p:nvSpPr>
        <p:spPr>
          <a:xfrm>
            <a:off x="5564160" y="2897280"/>
            <a:ext cx="281628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distance entre 2 pix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c n = nombre minimum de dilatations de taille 1 tel qu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97040" y="3435480"/>
            <a:ext cx="1359000" cy="13586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825640" y="3664080"/>
            <a:ext cx="901800" cy="90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054240" y="3892680"/>
            <a:ext cx="444600" cy="4442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nce discrète et morphologie mathématique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 entre 1 point et un ensemble en 8 connexit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3625920" y="33210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625920" y="30924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854520" y="30924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083120" y="33210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083120" y="35496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083120" y="30924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311720" y="30924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311720" y="33210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854520" y="28638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083120" y="28638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311720" y="28638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76720" y="3429000"/>
            <a:ext cx="687240" cy="687240"/>
          </a:xfrm>
          <a:custGeom>
            <a:avLst/>
            <a:gdLst/>
            <a:ahLst/>
            <a:rect l="l" t="t" r="r" b="b"/>
            <a:pathLst>
              <a:path w="433" h="433">
                <a:moveTo>
                  <a:pt x="0" y="432"/>
                </a:moveTo>
                <a:lnTo>
                  <a:pt x="432" y="0"/>
                </a:lnTo>
                <a:lnTo>
                  <a:pt x="43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854520" y="33210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168720" y="400680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369120" y="2577960"/>
            <a:ext cx="158760" cy="15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539040" y="2494080"/>
            <a:ext cx="1384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et       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283520" y="2577960"/>
            <a:ext cx="15876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5235480" y="3273480"/>
                <a:ext cx="32450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8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8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:</m:t>
                            </m:r>
                            <m:r>
                              <m:t xml:space="preserve">xÎ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´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5970600" y="4071960"/>
                <a:ext cx="18446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d>
                    <m:r>
                      <m:t xml:space="preserve">IX</m:t>
                    </m:r>
                    <m:r>
                      <m:rPr>
                        <m:lit/>
                        <m:nor/>
                      </m:rPr>
                      <m:t xml:space="preserve">¹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4" name=""/>
          <p:cNvSpPr/>
          <p:nvPr/>
        </p:nvSpPr>
        <p:spPr>
          <a:xfrm>
            <a:off x="5797440" y="4578480"/>
            <a:ext cx="444600" cy="4442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309720" y="4646520"/>
            <a:ext cx="734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945040" y="5106960"/>
            <a:ext cx="1825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s l'exemple n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à Z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vages réguliers de 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éfinition : partition de l'espace par un polygone réguli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éristiques d'une tessel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: nombre de coté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 : nombre de polygones communs en 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08840" y="2787480"/>
            <a:ext cx="2074680" cy="1751760"/>
            <a:chOff x="6108840" y="2787480"/>
            <a:chExt cx="2074680" cy="1751760"/>
          </a:xfrm>
        </p:grpSpPr>
        <p:grpSp>
          <p:nvGrpSpPr>
            <p:cNvPr id="44" name=""/>
            <p:cNvGrpSpPr/>
            <p:nvPr/>
          </p:nvGrpSpPr>
          <p:grpSpPr>
            <a:xfrm>
              <a:off x="6108840" y="2787480"/>
              <a:ext cx="2074680" cy="1751760"/>
              <a:chOff x="6108840" y="2787480"/>
              <a:chExt cx="2074680" cy="1751760"/>
            </a:xfrm>
          </p:grpSpPr>
          <p:sp>
            <p:nvSpPr>
              <p:cNvPr id="45" name=""/>
              <p:cNvSpPr/>
              <p:nvPr/>
            </p:nvSpPr>
            <p:spPr>
              <a:xfrm>
                <a:off x="6108840" y="2951280"/>
                <a:ext cx="1793880" cy="1546200"/>
              </a:xfrm>
              <a:prstGeom prst="hexagon">
                <a:avLst>
                  <a:gd name="adj" fmla="val 28999"/>
                  <a:gd name="vf" fmla="val 11547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7027920" y="2787480"/>
                <a:ext cx="498240" cy="94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23240" y="3719520"/>
                <a:ext cx="1160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055640" y="3413160"/>
                <a:ext cx="3063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270560" y="2984400"/>
                <a:ext cx="326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080480" y="4203720"/>
                <a:ext cx="452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62600" y="3632040"/>
                <a:ext cx="333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810560" y="3699000"/>
                <a:ext cx="333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6111000" y="358452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255760" y="3870360"/>
                <a:ext cx="75096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25520" y="4149720"/>
                <a:ext cx="517680" cy="1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263680" y="4465800"/>
                <a:ext cx="82260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024440" y="3805200"/>
                <a:ext cx="13046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´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987560" y="3835440"/>
            <a:ext cx="120168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08400" y="3943440"/>
            <a:ext cx="531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330800" y="4179960"/>
                <a:ext cx="777600" cy="1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´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902040" y="3692520"/>
            <a:ext cx="1544760" cy="74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398680" y="4997520"/>
                <a:ext cx="871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´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 flipH="1">
            <a:off x="3268440" y="4470480"/>
            <a:ext cx="1268280" cy="74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1240" y="5357880"/>
            <a:ext cx="1017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48160" y="4952880"/>
            <a:ext cx="2424240" cy="885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= 3 , k = 6   (triang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= 4 , k = 4   (carré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= 6 , k = 3   (hexago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951200" y="5659560"/>
                <a:ext cx="182376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³7</m:t>
                    </m:r>
                    <m:r>
                      <m:t xml:space="preserve">⇒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3422520" y="5330520"/>
            <a:ext cx="231840" cy="28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7" name=""/>
          <p:cNvGrpSpPr/>
          <p:nvPr/>
        </p:nvGrpSpPr>
        <p:grpSpPr>
          <a:xfrm>
            <a:off x="1454040" y="2517840"/>
            <a:ext cx="3645000" cy="3190680"/>
            <a:chOff x="1454040" y="2517840"/>
            <a:chExt cx="3645000" cy="3190680"/>
          </a:xfrm>
        </p:grpSpPr>
        <p:grpSp>
          <p:nvGrpSpPr>
            <p:cNvPr id="1658" name=""/>
            <p:cNvGrpSpPr/>
            <p:nvPr/>
          </p:nvGrpSpPr>
          <p:grpSpPr>
            <a:xfrm>
              <a:off x="1454040" y="2517840"/>
              <a:ext cx="3645000" cy="1590480"/>
              <a:chOff x="1454040" y="2517840"/>
              <a:chExt cx="3645000" cy="1590480"/>
            </a:xfrm>
          </p:grpSpPr>
          <p:grpSp>
            <p:nvGrpSpPr>
              <p:cNvPr id="1659" name=""/>
              <p:cNvGrpSpPr/>
              <p:nvPr/>
            </p:nvGrpSpPr>
            <p:grpSpPr>
              <a:xfrm>
                <a:off x="3282840" y="2517840"/>
                <a:ext cx="1816200" cy="1590480"/>
                <a:chOff x="3282840" y="2517840"/>
                <a:chExt cx="1816200" cy="1590480"/>
              </a:xfrm>
            </p:grpSpPr>
            <p:grpSp>
              <p:nvGrpSpPr>
                <p:cNvPr id="1660" name=""/>
                <p:cNvGrpSpPr/>
                <p:nvPr/>
              </p:nvGrpSpPr>
              <p:grpSpPr>
                <a:xfrm>
                  <a:off x="3282840" y="2517840"/>
                  <a:ext cx="1816200" cy="216000"/>
                  <a:chOff x="3282840" y="2517840"/>
                  <a:chExt cx="1816200" cy="216000"/>
                </a:xfrm>
              </p:grpSpPr>
              <p:sp>
                <p:nvSpPr>
                  <p:cNvPr id="1661" name=""/>
                  <p:cNvSpPr/>
                  <p:nvPr/>
                </p:nvSpPr>
                <p:spPr>
                  <a:xfrm>
                    <a:off x="35114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37400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39686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41972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44258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>
                    <a:off x="46544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48830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32828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9" name=""/>
                <p:cNvGrpSpPr/>
                <p:nvPr/>
              </p:nvGrpSpPr>
              <p:grpSpPr>
                <a:xfrm>
                  <a:off x="3282840" y="2746440"/>
                  <a:ext cx="1816200" cy="216000"/>
                  <a:chOff x="3282840" y="2746440"/>
                  <a:chExt cx="1816200" cy="216000"/>
                </a:xfrm>
              </p:grpSpPr>
              <p:sp>
                <p:nvSpPr>
                  <p:cNvPr id="1670" name=""/>
                  <p:cNvSpPr/>
                  <p:nvPr/>
                </p:nvSpPr>
                <p:spPr>
                  <a:xfrm>
                    <a:off x="35114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>
                    <a:off x="37400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39686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41972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44258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46544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48830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32828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8" name=""/>
                <p:cNvGrpSpPr/>
                <p:nvPr/>
              </p:nvGrpSpPr>
              <p:grpSpPr>
                <a:xfrm>
                  <a:off x="3282840" y="2975040"/>
                  <a:ext cx="1816200" cy="216000"/>
                  <a:chOff x="3282840" y="2975040"/>
                  <a:chExt cx="1816200" cy="216000"/>
                </a:xfrm>
              </p:grpSpPr>
              <p:sp>
                <p:nvSpPr>
                  <p:cNvPr id="1679" name=""/>
                  <p:cNvSpPr/>
                  <p:nvPr/>
                </p:nvSpPr>
                <p:spPr>
                  <a:xfrm>
                    <a:off x="35114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37400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39686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41972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44258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46544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48830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32828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7" name=""/>
                <p:cNvGrpSpPr/>
                <p:nvPr/>
              </p:nvGrpSpPr>
              <p:grpSpPr>
                <a:xfrm>
                  <a:off x="3282840" y="3203640"/>
                  <a:ext cx="1816200" cy="216000"/>
                  <a:chOff x="3282840" y="3203640"/>
                  <a:chExt cx="1816200" cy="216000"/>
                </a:xfrm>
              </p:grpSpPr>
              <p:sp>
                <p:nvSpPr>
                  <p:cNvPr id="1688" name=""/>
                  <p:cNvSpPr/>
                  <p:nvPr/>
                </p:nvSpPr>
                <p:spPr>
                  <a:xfrm>
                    <a:off x="35114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37400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39686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41972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44258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46544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48830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32828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6" name=""/>
                <p:cNvGrpSpPr/>
                <p:nvPr/>
              </p:nvGrpSpPr>
              <p:grpSpPr>
                <a:xfrm>
                  <a:off x="3282840" y="3432240"/>
                  <a:ext cx="1816200" cy="216000"/>
                  <a:chOff x="3282840" y="3432240"/>
                  <a:chExt cx="1816200" cy="216000"/>
                </a:xfrm>
              </p:grpSpPr>
              <p:sp>
                <p:nvSpPr>
                  <p:cNvPr id="1697" name=""/>
                  <p:cNvSpPr/>
                  <p:nvPr/>
                </p:nvSpPr>
                <p:spPr>
                  <a:xfrm>
                    <a:off x="35114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37400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39686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41972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44258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46544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48830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32828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5" name=""/>
                <p:cNvGrpSpPr/>
                <p:nvPr/>
              </p:nvGrpSpPr>
              <p:grpSpPr>
                <a:xfrm>
                  <a:off x="3282840" y="3660840"/>
                  <a:ext cx="1816200" cy="216000"/>
                  <a:chOff x="3282840" y="3660840"/>
                  <a:chExt cx="1816200" cy="216000"/>
                </a:xfrm>
              </p:grpSpPr>
              <p:sp>
                <p:nvSpPr>
                  <p:cNvPr id="1706" name=""/>
                  <p:cNvSpPr/>
                  <p:nvPr/>
                </p:nvSpPr>
                <p:spPr>
                  <a:xfrm>
                    <a:off x="35114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37400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39686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41972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44258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46544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48830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32828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4" name=""/>
                <p:cNvGrpSpPr/>
                <p:nvPr/>
              </p:nvGrpSpPr>
              <p:grpSpPr>
                <a:xfrm>
                  <a:off x="3282840" y="3892680"/>
                  <a:ext cx="1816200" cy="215640"/>
                  <a:chOff x="3282840" y="3892680"/>
                  <a:chExt cx="1816200" cy="215640"/>
                </a:xfrm>
              </p:grpSpPr>
              <p:sp>
                <p:nvSpPr>
                  <p:cNvPr id="1715" name=""/>
                  <p:cNvSpPr/>
                  <p:nvPr/>
                </p:nvSpPr>
                <p:spPr>
                  <a:xfrm>
                    <a:off x="35114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37400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39686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41972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44258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46544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48830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32828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3" name=""/>
              <p:cNvGrpSpPr/>
              <p:nvPr/>
            </p:nvGrpSpPr>
            <p:grpSpPr>
              <a:xfrm>
                <a:off x="1454040" y="2517840"/>
                <a:ext cx="1816200" cy="1590480"/>
                <a:chOff x="1454040" y="2517840"/>
                <a:chExt cx="1816200" cy="1590480"/>
              </a:xfrm>
            </p:grpSpPr>
            <p:grpSp>
              <p:nvGrpSpPr>
                <p:cNvPr id="1724" name=""/>
                <p:cNvGrpSpPr/>
                <p:nvPr/>
              </p:nvGrpSpPr>
              <p:grpSpPr>
                <a:xfrm>
                  <a:off x="1454040" y="2517840"/>
                  <a:ext cx="1816200" cy="216000"/>
                  <a:chOff x="1454040" y="2517840"/>
                  <a:chExt cx="1816200" cy="216000"/>
                </a:xfrm>
              </p:grpSpPr>
              <p:sp>
                <p:nvSpPr>
                  <p:cNvPr id="1725" name=""/>
                  <p:cNvSpPr/>
                  <p:nvPr/>
                </p:nvSpPr>
                <p:spPr>
                  <a:xfrm>
                    <a:off x="16826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19112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21398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23684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25970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28256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30542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1454040" y="2517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3" name=""/>
                <p:cNvGrpSpPr/>
                <p:nvPr/>
              </p:nvGrpSpPr>
              <p:grpSpPr>
                <a:xfrm>
                  <a:off x="1454040" y="2746440"/>
                  <a:ext cx="1816200" cy="216000"/>
                  <a:chOff x="1454040" y="2746440"/>
                  <a:chExt cx="1816200" cy="216000"/>
                </a:xfrm>
              </p:grpSpPr>
              <p:sp>
                <p:nvSpPr>
                  <p:cNvPr id="1734" name=""/>
                  <p:cNvSpPr/>
                  <p:nvPr/>
                </p:nvSpPr>
                <p:spPr>
                  <a:xfrm>
                    <a:off x="16826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19112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21398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23684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25970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28256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0542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1454040" y="2746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2" name=""/>
                <p:cNvGrpSpPr/>
                <p:nvPr/>
              </p:nvGrpSpPr>
              <p:grpSpPr>
                <a:xfrm>
                  <a:off x="1454040" y="2975040"/>
                  <a:ext cx="1816200" cy="216000"/>
                  <a:chOff x="1454040" y="2975040"/>
                  <a:chExt cx="1816200" cy="21600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>
                    <a:off x="16826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19112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21398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23684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25970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28256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30542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1454040" y="2975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1454040" y="3203640"/>
                  <a:ext cx="1816200" cy="216000"/>
                  <a:chOff x="1454040" y="3203640"/>
                  <a:chExt cx="1816200" cy="21600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16826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19112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21398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23684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25970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28256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30542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1454040" y="3203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0" name=""/>
                <p:cNvGrpSpPr/>
                <p:nvPr/>
              </p:nvGrpSpPr>
              <p:grpSpPr>
                <a:xfrm>
                  <a:off x="1454040" y="3432240"/>
                  <a:ext cx="1816200" cy="216000"/>
                  <a:chOff x="1454040" y="3432240"/>
                  <a:chExt cx="1816200" cy="216000"/>
                </a:xfrm>
              </p:grpSpPr>
              <p:sp>
                <p:nvSpPr>
                  <p:cNvPr id="1761" name=""/>
                  <p:cNvSpPr/>
                  <p:nvPr/>
                </p:nvSpPr>
                <p:spPr>
                  <a:xfrm>
                    <a:off x="16826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19112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21398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23684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25970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28256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>
                    <a:off x="30542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>
                    <a:off x="1454040" y="3432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9" name=""/>
                <p:cNvGrpSpPr/>
                <p:nvPr/>
              </p:nvGrpSpPr>
              <p:grpSpPr>
                <a:xfrm>
                  <a:off x="1454040" y="3660840"/>
                  <a:ext cx="1816200" cy="216000"/>
                  <a:chOff x="1454040" y="3660840"/>
                  <a:chExt cx="1816200" cy="21600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16826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19112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21398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23684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25970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28256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30542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1454040" y="3660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8" name=""/>
                <p:cNvGrpSpPr/>
                <p:nvPr/>
              </p:nvGrpSpPr>
              <p:grpSpPr>
                <a:xfrm>
                  <a:off x="1454040" y="3892680"/>
                  <a:ext cx="1816200" cy="215640"/>
                  <a:chOff x="1454040" y="3892680"/>
                  <a:chExt cx="1816200" cy="215640"/>
                </a:xfrm>
              </p:grpSpPr>
              <p:sp>
                <p:nvSpPr>
                  <p:cNvPr id="1779" name=""/>
                  <p:cNvSpPr/>
                  <p:nvPr/>
                </p:nvSpPr>
                <p:spPr>
                  <a:xfrm>
                    <a:off x="16826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>
                    <a:off x="19112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21398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23684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25970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28256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>
                    <a:off x="30542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>
                    <a:off x="1454040" y="38926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87" name=""/>
            <p:cNvGrpSpPr/>
            <p:nvPr/>
          </p:nvGrpSpPr>
          <p:grpSpPr>
            <a:xfrm>
              <a:off x="1454040" y="4118040"/>
              <a:ext cx="3645000" cy="1590480"/>
              <a:chOff x="1454040" y="4118040"/>
              <a:chExt cx="3645000" cy="1590480"/>
            </a:xfrm>
          </p:grpSpPr>
          <p:grpSp>
            <p:nvGrpSpPr>
              <p:cNvPr id="1788" name=""/>
              <p:cNvGrpSpPr/>
              <p:nvPr/>
            </p:nvGrpSpPr>
            <p:grpSpPr>
              <a:xfrm>
                <a:off x="3282840" y="4118040"/>
                <a:ext cx="1816200" cy="1590480"/>
                <a:chOff x="3282840" y="4118040"/>
                <a:chExt cx="1816200" cy="1590480"/>
              </a:xfrm>
            </p:grpSpPr>
            <p:grpSp>
              <p:nvGrpSpPr>
                <p:cNvPr id="1789" name=""/>
                <p:cNvGrpSpPr/>
                <p:nvPr/>
              </p:nvGrpSpPr>
              <p:grpSpPr>
                <a:xfrm>
                  <a:off x="3282840" y="4118040"/>
                  <a:ext cx="1816200" cy="216000"/>
                  <a:chOff x="3282840" y="4118040"/>
                  <a:chExt cx="1816200" cy="216000"/>
                </a:xfrm>
              </p:grpSpPr>
              <p:sp>
                <p:nvSpPr>
                  <p:cNvPr id="1790" name=""/>
                  <p:cNvSpPr/>
                  <p:nvPr/>
                </p:nvSpPr>
                <p:spPr>
                  <a:xfrm>
                    <a:off x="35114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37400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39686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41972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44258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46544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48830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2828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8" name=""/>
                <p:cNvGrpSpPr/>
                <p:nvPr/>
              </p:nvGrpSpPr>
              <p:grpSpPr>
                <a:xfrm>
                  <a:off x="3282840" y="4346640"/>
                  <a:ext cx="1816200" cy="216000"/>
                  <a:chOff x="3282840" y="4346640"/>
                  <a:chExt cx="1816200" cy="216000"/>
                </a:xfrm>
              </p:grpSpPr>
              <p:sp>
                <p:nvSpPr>
                  <p:cNvPr id="1799" name=""/>
                  <p:cNvSpPr/>
                  <p:nvPr/>
                </p:nvSpPr>
                <p:spPr>
                  <a:xfrm>
                    <a:off x="35114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>
                    <a:off x="37400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39686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>
                    <a:off x="41972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44258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46544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>
                    <a:off x="48830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32828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7" name=""/>
                <p:cNvGrpSpPr/>
                <p:nvPr/>
              </p:nvGrpSpPr>
              <p:grpSpPr>
                <a:xfrm>
                  <a:off x="3282840" y="4575240"/>
                  <a:ext cx="1816200" cy="216000"/>
                  <a:chOff x="3282840" y="4575240"/>
                  <a:chExt cx="1816200" cy="216000"/>
                </a:xfrm>
              </p:grpSpPr>
              <p:sp>
                <p:nvSpPr>
                  <p:cNvPr id="1808" name=""/>
                  <p:cNvSpPr/>
                  <p:nvPr/>
                </p:nvSpPr>
                <p:spPr>
                  <a:xfrm>
                    <a:off x="35114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>
                    <a:off x="37400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>
                    <a:off x="39686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>
                    <a:off x="41972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>
                    <a:off x="44258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46544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>
                    <a:off x="48830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>
                    <a:off x="32828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6" name=""/>
                <p:cNvGrpSpPr/>
                <p:nvPr/>
              </p:nvGrpSpPr>
              <p:grpSpPr>
                <a:xfrm>
                  <a:off x="3282840" y="4803840"/>
                  <a:ext cx="1816200" cy="216000"/>
                  <a:chOff x="3282840" y="4803840"/>
                  <a:chExt cx="1816200" cy="216000"/>
                </a:xfrm>
              </p:grpSpPr>
              <p:sp>
                <p:nvSpPr>
                  <p:cNvPr id="1817" name=""/>
                  <p:cNvSpPr/>
                  <p:nvPr/>
                </p:nvSpPr>
                <p:spPr>
                  <a:xfrm>
                    <a:off x="35114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37400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39686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41972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44258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46544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48830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32828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5" name=""/>
                <p:cNvGrpSpPr/>
                <p:nvPr/>
              </p:nvGrpSpPr>
              <p:grpSpPr>
                <a:xfrm>
                  <a:off x="3282840" y="5032440"/>
                  <a:ext cx="1816200" cy="216000"/>
                  <a:chOff x="3282840" y="5032440"/>
                  <a:chExt cx="1816200" cy="216000"/>
                </a:xfrm>
              </p:grpSpPr>
              <p:sp>
                <p:nvSpPr>
                  <p:cNvPr id="1826" name=""/>
                  <p:cNvSpPr/>
                  <p:nvPr/>
                </p:nvSpPr>
                <p:spPr>
                  <a:xfrm>
                    <a:off x="35114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37400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39686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41972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>
                    <a:off x="44258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46544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48830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>
                    <a:off x="32828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4" name=""/>
                <p:cNvGrpSpPr/>
                <p:nvPr/>
              </p:nvGrpSpPr>
              <p:grpSpPr>
                <a:xfrm>
                  <a:off x="3282840" y="5261040"/>
                  <a:ext cx="1816200" cy="216000"/>
                  <a:chOff x="3282840" y="5261040"/>
                  <a:chExt cx="1816200" cy="216000"/>
                </a:xfrm>
              </p:grpSpPr>
              <p:sp>
                <p:nvSpPr>
                  <p:cNvPr id="1835" name=""/>
                  <p:cNvSpPr/>
                  <p:nvPr/>
                </p:nvSpPr>
                <p:spPr>
                  <a:xfrm>
                    <a:off x="35114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>
                    <a:off x="37400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39686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>
                    <a:off x="41972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44258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>
                    <a:off x="46544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>
                    <a:off x="48830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>
                    <a:off x="32828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3" name=""/>
                <p:cNvGrpSpPr/>
                <p:nvPr/>
              </p:nvGrpSpPr>
              <p:grpSpPr>
                <a:xfrm>
                  <a:off x="3282840" y="5492880"/>
                  <a:ext cx="1816200" cy="215640"/>
                  <a:chOff x="3282840" y="5492880"/>
                  <a:chExt cx="1816200" cy="215640"/>
                </a:xfrm>
              </p:grpSpPr>
              <p:sp>
                <p:nvSpPr>
                  <p:cNvPr id="1844" name=""/>
                  <p:cNvSpPr/>
                  <p:nvPr/>
                </p:nvSpPr>
                <p:spPr>
                  <a:xfrm>
                    <a:off x="35114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>
                    <a:off x="37400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>
                    <a:off x="39686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>
                    <a:off x="41972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>
                    <a:off x="44258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9" name=""/>
                  <p:cNvSpPr/>
                  <p:nvPr/>
                </p:nvSpPr>
                <p:spPr>
                  <a:xfrm>
                    <a:off x="46544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>
                    <a:off x="48830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1" name=""/>
                  <p:cNvSpPr/>
                  <p:nvPr/>
                </p:nvSpPr>
                <p:spPr>
                  <a:xfrm>
                    <a:off x="32828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52" name=""/>
              <p:cNvGrpSpPr/>
              <p:nvPr/>
            </p:nvGrpSpPr>
            <p:grpSpPr>
              <a:xfrm>
                <a:off x="1454040" y="4118040"/>
                <a:ext cx="1816200" cy="1590480"/>
                <a:chOff x="1454040" y="4118040"/>
                <a:chExt cx="1816200" cy="1590480"/>
              </a:xfrm>
            </p:grpSpPr>
            <p:grpSp>
              <p:nvGrpSpPr>
                <p:cNvPr id="1853" name=""/>
                <p:cNvGrpSpPr/>
                <p:nvPr/>
              </p:nvGrpSpPr>
              <p:grpSpPr>
                <a:xfrm>
                  <a:off x="1454040" y="4118040"/>
                  <a:ext cx="1816200" cy="216000"/>
                  <a:chOff x="1454040" y="4118040"/>
                  <a:chExt cx="1816200" cy="216000"/>
                </a:xfrm>
              </p:grpSpPr>
              <p:sp>
                <p:nvSpPr>
                  <p:cNvPr id="1854" name=""/>
                  <p:cNvSpPr/>
                  <p:nvPr/>
                </p:nvSpPr>
                <p:spPr>
                  <a:xfrm>
                    <a:off x="16826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>
                    <a:off x="19112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>
                    <a:off x="21398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23684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>
                    <a:off x="25970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>
                    <a:off x="28256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>
                    <a:off x="30542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1454040" y="4118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2" name=""/>
                <p:cNvGrpSpPr/>
                <p:nvPr/>
              </p:nvGrpSpPr>
              <p:grpSpPr>
                <a:xfrm>
                  <a:off x="1454040" y="4346640"/>
                  <a:ext cx="1816200" cy="216000"/>
                  <a:chOff x="1454040" y="4346640"/>
                  <a:chExt cx="1816200" cy="216000"/>
                </a:xfrm>
              </p:grpSpPr>
              <p:sp>
                <p:nvSpPr>
                  <p:cNvPr id="1863" name=""/>
                  <p:cNvSpPr/>
                  <p:nvPr/>
                </p:nvSpPr>
                <p:spPr>
                  <a:xfrm>
                    <a:off x="16826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19112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>
                    <a:off x="21398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23684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25970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28256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>
                    <a:off x="30542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>
                    <a:off x="1454040" y="43466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1" name=""/>
                <p:cNvGrpSpPr/>
                <p:nvPr/>
              </p:nvGrpSpPr>
              <p:grpSpPr>
                <a:xfrm>
                  <a:off x="1454040" y="4575240"/>
                  <a:ext cx="1816200" cy="216000"/>
                  <a:chOff x="1454040" y="4575240"/>
                  <a:chExt cx="1816200" cy="216000"/>
                </a:xfrm>
              </p:grpSpPr>
              <p:sp>
                <p:nvSpPr>
                  <p:cNvPr id="1872" name=""/>
                  <p:cNvSpPr/>
                  <p:nvPr/>
                </p:nvSpPr>
                <p:spPr>
                  <a:xfrm>
                    <a:off x="16826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>
                    <a:off x="19112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21398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>
                    <a:off x="23684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25970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28256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>
                    <a:off x="30542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1454040" y="45752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0" name=""/>
                <p:cNvGrpSpPr/>
                <p:nvPr/>
              </p:nvGrpSpPr>
              <p:grpSpPr>
                <a:xfrm>
                  <a:off x="1454040" y="4803840"/>
                  <a:ext cx="1816200" cy="216000"/>
                  <a:chOff x="1454040" y="4803840"/>
                  <a:chExt cx="1816200" cy="216000"/>
                </a:xfrm>
              </p:grpSpPr>
              <p:sp>
                <p:nvSpPr>
                  <p:cNvPr id="1881" name=""/>
                  <p:cNvSpPr/>
                  <p:nvPr/>
                </p:nvSpPr>
                <p:spPr>
                  <a:xfrm>
                    <a:off x="16826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19112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21398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23684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25970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28256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>
                    <a:off x="30542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>
                    <a:off x="1454040" y="48038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9" name=""/>
                <p:cNvGrpSpPr/>
                <p:nvPr/>
              </p:nvGrpSpPr>
              <p:grpSpPr>
                <a:xfrm>
                  <a:off x="1454040" y="5032440"/>
                  <a:ext cx="1816200" cy="216000"/>
                  <a:chOff x="1454040" y="5032440"/>
                  <a:chExt cx="1816200" cy="216000"/>
                </a:xfrm>
              </p:grpSpPr>
              <p:sp>
                <p:nvSpPr>
                  <p:cNvPr id="1890" name=""/>
                  <p:cNvSpPr/>
                  <p:nvPr/>
                </p:nvSpPr>
                <p:spPr>
                  <a:xfrm>
                    <a:off x="16826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>
                    <a:off x="19112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21398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>
                    <a:off x="23684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25970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>
                    <a:off x="28256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>
                    <a:off x="30542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>
                    <a:off x="1454040" y="50324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8" name=""/>
                <p:cNvGrpSpPr/>
                <p:nvPr/>
              </p:nvGrpSpPr>
              <p:grpSpPr>
                <a:xfrm>
                  <a:off x="1454040" y="5261040"/>
                  <a:ext cx="1816200" cy="216000"/>
                  <a:chOff x="1454040" y="5261040"/>
                  <a:chExt cx="1816200" cy="216000"/>
                </a:xfrm>
              </p:grpSpPr>
              <p:sp>
                <p:nvSpPr>
                  <p:cNvPr id="1899" name=""/>
                  <p:cNvSpPr/>
                  <p:nvPr/>
                </p:nvSpPr>
                <p:spPr>
                  <a:xfrm>
                    <a:off x="16826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>
                    <a:off x="19112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21398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>
                    <a:off x="23684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>
                    <a:off x="25970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28256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30542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1454040" y="5261040"/>
                    <a:ext cx="216000" cy="216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7" name=""/>
                <p:cNvGrpSpPr/>
                <p:nvPr/>
              </p:nvGrpSpPr>
              <p:grpSpPr>
                <a:xfrm>
                  <a:off x="1454040" y="5492880"/>
                  <a:ext cx="1816200" cy="215640"/>
                  <a:chOff x="1454040" y="5492880"/>
                  <a:chExt cx="1816200" cy="215640"/>
                </a:xfrm>
              </p:grpSpPr>
              <p:sp>
                <p:nvSpPr>
                  <p:cNvPr id="1908" name=""/>
                  <p:cNvSpPr/>
                  <p:nvPr/>
                </p:nvSpPr>
                <p:spPr>
                  <a:xfrm>
                    <a:off x="16826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19112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21398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23684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25970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28256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30542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1454040" y="5492880"/>
                    <a:ext cx="216000" cy="215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916" name=""/>
          <p:cNvSpPr/>
          <p:nvPr/>
        </p:nvSpPr>
        <p:spPr>
          <a:xfrm>
            <a:off x="2138400" y="2743200"/>
            <a:ext cx="2744640" cy="2744640"/>
          </a:xfrm>
          <a:custGeom>
            <a:avLst/>
            <a:gdLst/>
            <a:ahLst/>
            <a:rect l="l" t="t" r="r" b="b"/>
            <a:pathLst>
              <a:path w="1729" h="1729">
                <a:moveTo>
                  <a:pt x="0" y="1152"/>
                </a:moveTo>
                <a:lnTo>
                  <a:pt x="0" y="432"/>
                </a:lnTo>
                <a:lnTo>
                  <a:pt x="576" y="432"/>
                </a:lnTo>
                <a:lnTo>
                  <a:pt x="576" y="0"/>
                </a:lnTo>
                <a:lnTo>
                  <a:pt x="1296" y="0"/>
                </a:lnTo>
                <a:lnTo>
                  <a:pt x="1296" y="720"/>
                </a:lnTo>
                <a:lnTo>
                  <a:pt x="1728" y="720"/>
                </a:lnTo>
                <a:lnTo>
                  <a:pt x="1728" y="1440"/>
                </a:lnTo>
                <a:lnTo>
                  <a:pt x="864" y="1431"/>
                </a:lnTo>
                <a:lnTo>
                  <a:pt x="864" y="1152"/>
                </a:lnTo>
                <a:lnTo>
                  <a:pt x="432" y="1152"/>
                </a:lnTo>
                <a:lnTo>
                  <a:pt x="432" y="1728"/>
                </a:lnTo>
                <a:lnTo>
                  <a:pt x="0" y="1728"/>
                </a:lnTo>
                <a:lnTo>
                  <a:pt x="0" y="1152"/>
                </a:lnTo>
              </a:path>
            </a:pathLst>
          </a:custGeom>
          <a:solidFill>
            <a:srgbClr val="919191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2362320" y="2971800"/>
            <a:ext cx="2287440" cy="2287440"/>
          </a:xfrm>
          <a:custGeom>
            <a:avLst/>
            <a:gdLst/>
            <a:ahLst/>
            <a:rect l="l" t="t" r="r" b="b"/>
            <a:pathLst>
              <a:path w="1441" h="1441">
                <a:moveTo>
                  <a:pt x="0" y="1440"/>
                </a:moveTo>
                <a:lnTo>
                  <a:pt x="0" y="432"/>
                </a:lnTo>
                <a:lnTo>
                  <a:pt x="576" y="432"/>
                </a:lnTo>
                <a:lnTo>
                  <a:pt x="576" y="0"/>
                </a:lnTo>
                <a:lnTo>
                  <a:pt x="1008" y="0"/>
                </a:lnTo>
                <a:lnTo>
                  <a:pt x="1008" y="720"/>
                </a:lnTo>
                <a:lnTo>
                  <a:pt x="1440" y="720"/>
                </a:lnTo>
                <a:lnTo>
                  <a:pt x="1440" y="1152"/>
                </a:lnTo>
                <a:lnTo>
                  <a:pt x="864" y="1152"/>
                </a:lnTo>
                <a:lnTo>
                  <a:pt x="864" y="864"/>
                </a:lnTo>
                <a:lnTo>
                  <a:pt x="144" y="864"/>
                </a:lnTo>
                <a:lnTo>
                  <a:pt x="144" y="1440"/>
                </a:lnTo>
                <a:lnTo>
                  <a:pt x="0" y="144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nce discrète et morphologie mathématique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ction distance et érosion en 8 connexité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2590920" y="3200400"/>
            <a:ext cx="1144440" cy="915840"/>
          </a:xfrm>
          <a:custGeom>
            <a:avLst/>
            <a:gdLst/>
            <a:ahLst/>
            <a:rect l="l" t="t" r="r" b="b"/>
            <a:pathLst>
              <a:path w="721" h="577">
                <a:moveTo>
                  <a:pt x="0" y="432"/>
                </a:moveTo>
                <a:lnTo>
                  <a:pt x="576" y="432"/>
                </a:lnTo>
                <a:lnTo>
                  <a:pt x="576" y="0"/>
                </a:lnTo>
                <a:lnTo>
                  <a:pt x="720" y="0"/>
                </a:lnTo>
                <a:lnTo>
                  <a:pt x="720" y="576"/>
                </a:lnTo>
                <a:lnTo>
                  <a:pt x="0" y="576"/>
                </a:lnTo>
                <a:lnTo>
                  <a:pt x="0" y="4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968640" y="4349880"/>
            <a:ext cx="44460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492880" y="2521080"/>
            <a:ext cx="215640" cy="2156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492880" y="3054240"/>
            <a:ext cx="21564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5492880" y="3587760"/>
            <a:ext cx="21564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023160" y="2381400"/>
            <a:ext cx="21549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xels à la distance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oints de la frontiè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019200" y="3041640"/>
            <a:ext cx="2069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xels à la distanc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9200" y="3575160"/>
            <a:ext cx="2182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xels à la distance 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5492880" y="4197240"/>
            <a:ext cx="215640" cy="2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5721480" y="4197240"/>
            <a:ext cx="21564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5492880" y="4654440"/>
            <a:ext cx="21564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021360" y="4184640"/>
            <a:ext cx="1626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rodé de tail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021360" y="4641840"/>
            <a:ext cx="1738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rodé de taille 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uelette par ouver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uelette par ouverture avec un carr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111640" y="2414520"/>
                <a:ext cx="30528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λ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lim>
                    </m:limLow>
                    <m:limLow>
                      <m:e>
                        <m:r>
                          <m:t xml:space="preserve">intersect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B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mB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B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936" name="openskel1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3838680" cy="30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transformations de voisinage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inition d'un voisinage bina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lle carrée : point appartenant à une frontière 8 connex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1758960" y="3159000"/>
            <a:ext cx="5532480" cy="2425680"/>
            <a:chOff x="1758960" y="3159000"/>
            <a:chExt cx="5532480" cy="2425680"/>
          </a:xfrm>
        </p:grpSpPr>
        <p:sp>
          <p:nvSpPr>
            <p:cNvPr id="1940" name=""/>
            <p:cNvSpPr/>
            <p:nvPr/>
          </p:nvSpPr>
          <p:spPr>
            <a:xfrm>
              <a:off x="2235240" y="3197160"/>
              <a:ext cx="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1800360" y="3648240"/>
              <a:ext cx="86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1827360" y="3206880"/>
              <a:ext cx="830160" cy="86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827360" y="3205080"/>
              <a:ext cx="83016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822320" y="3195720"/>
              <a:ext cx="836640" cy="85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762200" y="315900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176560" y="315900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604960" y="3159000"/>
              <a:ext cx="101880" cy="101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774800" y="359568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189160" y="3595680"/>
              <a:ext cx="101520" cy="10152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617920" y="359568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766880" y="40068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81240" y="40068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10000" y="40068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378240" y="3197160"/>
              <a:ext cx="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>
              <a:off x="2943360" y="3648240"/>
              <a:ext cx="86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970360" y="3206880"/>
              <a:ext cx="830160" cy="86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970360" y="3205080"/>
              <a:ext cx="83016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965320" y="3195720"/>
              <a:ext cx="836640" cy="85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905200" y="315900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319560" y="315900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747960" y="3159000"/>
              <a:ext cx="10188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917800" y="359568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32160" y="359568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760920" y="3595680"/>
              <a:ext cx="101520" cy="1015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909880" y="40068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324240" y="40068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53000" y="40068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521240" y="3197160"/>
              <a:ext cx="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4086360" y="3648240"/>
              <a:ext cx="86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4113360" y="3206880"/>
              <a:ext cx="830160" cy="86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113360" y="3205080"/>
              <a:ext cx="83016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108320" y="3195720"/>
              <a:ext cx="836640" cy="85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048200" y="315900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462560" y="315900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890960" y="3159000"/>
              <a:ext cx="10188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060800" y="359568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475160" y="359568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903920" y="359568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052880" y="40068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467240" y="40068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896000" y="4006800"/>
              <a:ext cx="101520" cy="1015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664240" y="3197160"/>
              <a:ext cx="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H="1">
              <a:off x="5229360" y="3648240"/>
              <a:ext cx="86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5256360" y="3206880"/>
              <a:ext cx="830160" cy="86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256360" y="3205080"/>
              <a:ext cx="83016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251320" y="3195720"/>
              <a:ext cx="836640" cy="85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191200" y="315900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605560" y="315900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033960" y="3159000"/>
              <a:ext cx="10188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203800" y="359568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618160" y="359568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046920" y="359568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195880" y="40068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610240" y="4006800"/>
              <a:ext cx="101520" cy="1015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039000" y="40068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807240" y="3197160"/>
              <a:ext cx="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6372360" y="3648240"/>
              <a:ext cx="86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6399360" y="3206880"/>
              <a:ext cx="830160" cy="86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399360" y="3205080"/>
              <a:ext cx="83016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394320" y="3195720"/>
              <a:ext cx="836640" cy="85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334200" y="315900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748560" y="315900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176960" y="3159000"/>
              <a:ext cx="10188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346800" y="359568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761160" y="359568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189920" y="359568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338880" y="4006800"/>
              <a:ext cx="101520" cy="1015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753240" y="40068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182000" y="40068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232000" y="4492800"/>
              <a:ext cx="0" cy="84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1797120" y="4943520"/>
              <a:ext cx="86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1824120" y="4502160"/>
              <a:ext cx="830160" cy="86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824120" y="4500720"/>
              <a:ext cx="83016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819440" y="4491000"/>
              <a:ext cx="836280" cy="85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758960" y="445464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173320" y="445464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602080" y="445464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771560" y="4890960"/>
              <a:ext cx="101520" cy="101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185920" y="4890960"/>
              <a:ext cx="101520" cy="1018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614680" y="489096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763640" y="530208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178000" y="530208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606760" y="530208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375000" y="4492800"/>
              <a:ext cx="0" cy="84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2940120" y="4943520"/>
              <a:ext cx="86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2967120" y="4502160"/>
              <a:ext cx="830160" cy="86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967120" y="4500720"/>
              <a:ext cx="83016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962440" y="4491000"/>
              <a:ext cx="836280" cy="85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901960" y="4454640"/>
              <a:ext cx="101520" cy="1015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316320" y="445464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745080" y="445464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914560" y="489096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328920" y="4890960"/>
              <a:ext cx="101520" cy="101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757680" y="489096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906640" y="530208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321000" y="530208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749760" y="530208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518000" y="4492800"/>
              <a:ext cx="0" cy="84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083120" y="4943520"/>
              <a:ext cx="86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110120" y="4502160"/>
              <a:ext cx="830160" cy="86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110120" y="4500720"/>
              <a:ext cx="83016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105440" y="4491000"/>
              <a:ext cx="836280" cy="85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044960" y="445464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459320" y="4454640"/>
              <a:ext cx="101520" cy="1015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888080" y="445464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057560" y="489096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471920" y="4890960"/>
              <a:ext cx="101520" cy="101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900680" y="489096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049640" y="530208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464000" y="530208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892760" y="5302080"/>
              <a:ext cx="1015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416560" y="4616280"/>
              <a:ext cx="101520" cy="101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416560" y="499752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416560" y="53784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646960" y="4514760"/>
              <a:ext cx="96012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int à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646960" y="4896000"/>
              <a:ext cx="96012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int à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646600" y="5276880"/>
              <a:ext cx="156996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int indiffé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transformations de voisinage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lle carrée 8 connex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lle carrée 4 connex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lle hexagon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2484360" y="5054760"/>
            <a:ext cx="984240" cy="882360"/>
            <a:chOff x="2484360" y="5054760"/>
            <a:chExt cx="984240" cy="882360"/>
          </a:xfrm>
        </p:grpSpPr>
        <p:sp>
          <p:nvSpPr>
            <p:cNvPr id="2061" name=""/>
            <p:cNvSpPr/>
            <p:nvPr/>
          </p:nvSpPr>
          <p:spPr>
            <a:xfrm>
              <a:off x="2754360" y="5094360"/>
              <a:ext cx="439560" cy="78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2488680" y="5497560"/>
              <a:ext cx="9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2741760" y="5094360"/>
              <a:ext cx="460080" cy="7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 flipV="1">
              <a:off x="2508120" y="5500440"/>
              <a:ext cx="24624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2494080" y="5108400"/>
              <a:ext cx="26496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2727360" y="5087880"/>
              <a:ext cx="47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2736720" y="5892840"/>
              <a:ext cx="47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>
              <a:off x="3189240" y="5499000"/>
              <a:ext cx="25560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197160" y="5099040"/>
              <a:ext cx="23508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394080" y="545616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170160" y="505476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170160" y="585936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944800" y="5460840"/>
              <a:ext cx="74520" cy="74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720880" y="5059440"/>
              <a:ext cx="7488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720880" y="5864400"/>
              <a:ext cx="74880" cy="72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484360" y="546408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"/>
          <p:cNvGrpSpPr/>
          <p:nvPr/>
        </p:nvGrpSpPr>
        <p:grpSpPr>
          <a:xfrm>
            <a:off x="2523960" y="3668760"/>
            <a:ext cx="957600" cy="949320"/>
            <a:chOff x="2523960" y="3668760"/>
            <a:chExt cx="957600" cy="949320"/>
          </a:xfrm>
        </p:grpSpPr>
        <p:sp>
          <p:nvSpPr>
            <p:cNvPr id="2078" name=""/>
            <p:cNvSpPr/>
            <p:nvPr/>
          </p:nvSpPr>
          <p:spPr>
            <a:xfrm>
              <a:off x="2997360" y="3706920"/>
              <a:ext cx="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2561760" y="4157640"/>
              <a:ext cx="87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V="1">
              <a:off x="2589120" y="3715920"/>
              <a:ext cx="830520" cy="8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589120" y="3714840"/>
              <a:ext cx="83052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584440" y="3705120"/>
              <a:ext cx="836640" cy="85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523960" y="3668760"/>
              <a:ext cx="101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938320" y="3668760"/>
              <a:ext cx="10188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367080" y="366876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536920" y="410544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951280" y="410544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379680" y="4105440"/>
              <a:ext cx="10188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529000" y="451656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943360" y="451656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371760" y="451656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2523960" y="2373480"/>
            <a:ext cx="957600" cy="949320"/>
            <a:chOff x="2523960" y="2373480"/>
            <a:chExt cx="957600" cy="949320"/>
          </a:xfrm>
        </p:grpSpPr>
        <p:sp>
          <p:nvSpPr>
            <p:cNvPr id="2093" name=""/>
            <p:cNvSpPr/>
            <p:nvPr/>
          </p:nvSpPr>
          <p:spPr>
            <a:xfrm>
              <a:off x="2997360" y="2411280"/>
              <a:ext cx="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>
              <a:off x="2561760" y="2862360"/>
              <a:ext cx="87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2589120" y="2421000"/>
              <a:ext cx="830520" cy="86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589120" y="2419200"/>
              <a:ext cx="83052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584440" y="2409840"/>
              <a:ext cx="836640" cy="85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523960" y="2373480"/>
              <a:ext cx="10188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938320" y="2373480"/>
              <a:ext cx="10188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67080" y="237348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536920" y="280980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951280" y="280980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379680" y="2809800"/>
              <a:ext cx="10188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529000" y="3220920"/>
              <a:ext cx="101520" cy="101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943360" y="3220920"/>
              <a:ext cx="101520" cy="101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371760" y="3220920"/>
              <a:ext cx="101520" cy="101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5802480" y="2820960"/>
            <a:ext cx="2435040" cy="124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le de voisin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usieurs sous famil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s définies par rotation d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869080" y="4726080"/>
            <a:ext cx="2435040" cy="124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le de voisin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fam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s définies par rotation d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H="1">
            <a:off x="5187960" y="2749680"/>
            <a:ext cx="596880" cy="139680"/>
          </a:xfrm>
          <a:prstGeom prst="rightArrow">
            <a:avLst>
              <a:gd name="adj1" fmla="val 50000"/>
              <a:gd name="adj2" fmla="val 21367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5187960" y="4044960"/>
            <a:ext cx="596880" cy="139680"/>
          </a:xfrm>
          <a:prstGeom prst="rightArrow">
            <a:avLst>
              <a:gd name="adj1" fmla="val 50000"/>
              <a:gd name="adj2" fmla="val 21367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5187960" y="5492880"/>
            <a:ext cx="596880" cy="139680"/>
          </a:xfrm>
          <a:prstGeom prst="rightArrow">
            <a:avLst>
              <a:gd name="adj1" fmla="val 50000"/>
              <a:gd name="adj2" fmla="val 21367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transformations de voisinage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finition de la famille de voisinag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it V(0) une configuration d'orientation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la rotation unitai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configuration V(i) se déduit de V(0) par une rotation de i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famille est l'union de toutes les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finition d'une transformation de voisin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it x le point courant de l'im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it V(x) la configuration de voisinage de ce po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'érosion est une transformation de voisinage particuliai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3397320" y="4578480"/>
                <a:ext cx="3249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)</m:t>
                              </m:r>
                              <m:r>
                                <m:t xml:space="preserve">⇒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¹</m:t>
                              </m:r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)</m:t>
                              </m:r>
                              <m:r>
                                <m:t xml:space="preserve">⇒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transformations de voisinage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des transformations de voisin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e sont des transformations en tout ou ri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lles ne possèdent pas, en général, de propriétés particuliè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ransformation de voisinage et homotop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i l'inversion du pixel central ne modifie pas la topologie du voisinage, la configuration est dite homotopiq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1585800" y="4425840"/>
            <a:ext cx="6713640" cy="1511280"/>
            <a:chOff x="1585800" y="4425840"/>
            <a:chExt cx="6713640" cy="1511280"/>
          </a:xfrm>
        </p:grpSpPr>
        <p:sp>
          <p:nvSpPr>
            <p:cNvPr id="2118" name=""/>
            <p:cNvSpPr/>
            <p:nvPr/>
          </p:nvSpPr>
          <p:spPr>
            <a:xfrm flipH="1">
              <a:off x="7171920" y="4879800"/>
              <a:ext cx="26532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060960" y="4865760"/>
              <a:ext cx="439920" cy="78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5796000" y="5268960"/>
              <a:ext cx="94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6048000" y="4865760"/>
              <a:ext cx="460440" cy="7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 flipV="1">
              <a:off x="5814720" y="5271840"/>
              <a:ext cx="24588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>
              <a:off x="5800320" y="4879800"/>
              <a:ext cx="26532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6033960" y="4859280"/>
              <a:ext cx="47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6043680" y="5664240"/>
              <a:ext cx="47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>
              <a:off x="6496200" y="5270400"/>
              <a:ext cx="25560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504120" y="4870440"/>
              <a:ext cx="23472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700680" y="5227560"/>
              <a:ext cx="7488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477120" y="4826160"/>
              <a:ext cx="7452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630760"/>
              <a:ext cx="7452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251400" y="5232240"/>
              <a:ext cx="74880" cy="74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027840" y="483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027840" y="5635800"/>
              <a:ext cx="74520" cy="72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91320" y="523548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400560" y="4865760"/>
              <a:ext cx="439560" cy="78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3135240" y="5268960"/>
              <a:ext cx="94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3387240" y="4865760"/>
              <a:ext cx="460440" cy="7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H="1" flipV="1">
              <a:off x="3154320" y="5271840"/>
              <a:ext cx="24624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H="1">
              <a:off x="3139560" y="4879800"/>
              <a:ext cx="26532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3373200" y="4859280"/>
              <a:ext cx="47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3382920" y="5664240"/>
              <a:ext cx="47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3835440" y="5270400"/>
              <a:ext cx="25560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843360" y="4870440"/>
              <a:ext cx="23508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040280" y="522756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816360" y="4826160"/>
              <a:ext cx="7452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816360" y="5630760"/>
              <a:ext cx="7452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591000" y="5232240"/>
              <a:ext cx="7452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367080" y="483084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367080" y="5635800"/>
              <a:ext cx="74520" cy="72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130560" y="5235480"/>
              <a:ext cx="7452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028960" y="4865760"/>
              <a:ext cx="439560" cy="78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1763640" y="5268960"/>
              <a:ext cx="94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2015640" y="4865760"/>
              <a:ext cx="460440" cy="7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 flipV="1">
              <a:off x="1782720" y="5271840"/>
              <a:ext cx="24624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1767960" y="4879800"/>
              <a:ext cx="26532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>
              <a:off x="2001600" y="4859280"/>
              <a:ext cx="47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2011320" y="5664240"/>
              <a:ext cx="47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2463840" y="5270400"/>
              <a:ext cx="25560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471760" y="4870440"/>
              <a:ext cx="23508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668680" y="522756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444760" y="4826160"/>
              <a:ext cx="7452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444760" y="5630760"/>
              <a:ext cx="7452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219400" y="5232240"/>
              <a:ext cx="74520" cy="74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995480" y="483084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95480" y="5635800"/>
              <a:ext cx="74520" cy="72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758960" y="5235480"/>
              <a:ext cx="7452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432560" y="4865760"/>
              <a:ext cx="439920" cy="78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7167600" y="5268960"/>
              <a:ext cx="94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7419600" y="4865760"/>
              <a:ext cx="460440" cy="7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7186320" y="5271840"/>
              <a:ext cx="24588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7405560" y="4859280"/>
              <a:ext cx="47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7415280" y="5664240"/>
              <a:ext cx="47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7867800" y="5270400"/>
              <a:ext cx="25560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875720" y="4870440"/>
              <a:ext cx="23472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072280" y="5227560"/>
              <a:ext cx="7488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848720" y="4826160"/>
              <a:ext cx="7452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848720" y="5630760"/>
              <a:ext cx="7452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623000" y="5232240"/>
              <a:ext cx="7488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399440" y="483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399440" y="5635800"/>
              <a:ext cx="74520" cy="72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162920" y="523548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606680" y="4425840"/>
              <a:ext cx="295884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340240" y="4425840"/>
              <a:ext cx="295920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85800" y="4438800"/>
              <a:ext cx="30132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nfiguration non homotop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440320" y="4438800"/>
              <a:ext cx="2674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nfiguration  homotop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transformations de voisinage (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tion d'épaississement et d'aminciss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finition de l'aminciss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opération enlève des pixels à l'ensemble 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finition de l'épaississ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opération ajoute des pixels à l'ensemble 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i la configuration est homotopique, l'amincissement ou l'épaississement est une opération homotopiq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amincissements et épaississements peuvent être effectués de manière euclidienne ou géodésiq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2282760" y="2932200"/>
                <a:ext cx="207828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oV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∗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292480" y="4227480"/>
                <a:ext cx="210348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·V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familles de voisinage en maille hexagona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lphabet de Go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mple : l'élément structurant 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2" name=""/>
          <p:cNvGrpSpPr/>
          <p:nvPr/>
        </p:nvGrpSpPr>
        <p:grpSpPr>
          <a:xfrm>
            <a:off x="1454040" y="2978280"/>
            <a:ext cx="3568680" cy="2044440"/>
            <a:chOff x="1454040" y="2978280"/>
            <a:chExt cx="3568680" cy="2044440"/>
          </a:xfrm>
        </p:grpSpPr>
        <p:sp>
          <p:nvSpPr>
            <p:cNvPr id="2193" name=""/>
            <p:cNvSpPr/>
            <p:nvPr/>
          </p:nvSpPr>
          <p:spPr>
            <a:xfrm>
              <a:off x="1898640" y="313200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1684440" y="345276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1885680" y="3132000"/>
              <a:ext cx="369720" cy="6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 flipV="1">
              <a:off x="1698480" y="3454560"/>
              <a:ext cx="20016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1687320" y="3143160"/>
              <a:ext cx="21420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1874520" y="312588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1881000" y="3768840"/>
              <a:ext cx="38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2243160" y="345600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252520" y="313524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409840" y="342108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30560" y="3100320"/>
              <a:ext cx="5688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230560" y="374328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050920" y="342576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871640" y="310356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71640" y="3747960"/>
              <a:ext cx="57240" cy="55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682640" y="342756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965320" y="3132000"/>
              <a:ext cx="34956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>
              <a:off x="2751120" y="345276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H="1">
              <a:off x="2952720" y="3132000"/>
              <a:ext cx="370080" cy="6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 flipV="1">
              <a:off x="2765160" y="3454560"/>
              <a:ext cx="19980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2754000" y="3143160"/>
              <a:ext cx="21420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>
              <a:off x="2941560" y="3125880"/>
              <a:ext cx="3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H="1">
              <a:off x="2948040" y="37688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3309840" y="345600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319560" y="313524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476520" y="342108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297240" y="310032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297240" y="374328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117960" y="3425760"/>
              <a:ext cx="5688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938320" y="310356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938320" y="3747960"/>
              <a:ext cx="57240" cy="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749680" y="3427560"/>
              <a:ext cx="5688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032360" y="313200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3817800" y="345276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4019400" y="3132000"/>
              <a:ext cx="370080" cy="6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 flipV="1">
              <a:off x="3832200" y="3454560"/>
              <a:ext cx="20016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3821040" y="3143160"/>
              <a:ext cx="21456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>
              <a:off x="4008240" y="312588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4014720" y="37688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>
              <a:off x="4376520" y="3456000"/>
              <a:ext cx="20772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386240" y="313524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543560" y="342108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363920" y="310032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363920" y="374328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184640" y="342576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05360" y="3103560"/>
              <a:ext cx="5688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005360" y="3747960"/>
              <a:ext cx="568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3816360" y="3427560"/>
              <a:ext cx="572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1898640" y="4125600"/>
              <a:ext cx="34920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1684440" y="444168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H="1" flipV="1">
              <a:off x="1885680" y="4119120"/>
              <a:ext cx="369720" cy="65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1698480" y="4124160"/>
              <a:ext cx="20016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 flipV="1">
              <a:off x="1687320" y="4430880"/>
              <a:ext cx="21420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1874520" y="476892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1881000" y="4125960"/>
              <a:ext cx="38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H="1" flipV="1">
              <a:off x="2243160" y="4114440"/>
              <a:ext cx="2080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V="1">
              <a:off x="2252520" y="4446720"/>
              <a:ext cx="18576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409840" y="441648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230560" y="4737240"/>
              <a:ext cx="5688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230560" y="4094280"/>
              <a:ext cx="56880" cy="56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050920" y="4411800"/>
              <a:ext cx="5724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871640" y="473400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871640" y="4091040"/>
              <a:ext cx="57240" cy="55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682640" y="441180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 flipV="1">
              <a:off x="2955600" y="4125600"/>
              <a:ext cx="37476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786040" y="4441680"/>
              <a:ext cx="73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2973240" y="4119120"/>
              <a:ext cx="344520" cy="65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330720" y="4124160"/>
              <a:ext cx="17460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3327480" y="4430880"/>
              <a:ext cx="18900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968560" y="476892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960640" y="412596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2778120" y="4114440"/>
              <a:ext cx="18252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H="1" flipV="1">
              <a:off x="2765520" y="4446720"/>
              <a:ext cx="21096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749680" y="441648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928960" y="4737240"/>
              <a:ext cx="5724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928960" y="4094280"/>
              <a:ext cx="57240" cy="56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108240" y="4411800"/>
              <a:ext cx="5724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287880" y="4734000"/>
              <a:ext cx="5688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287880" y="4091040"/>
              <a:ext cx="5688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476520" y="4411800"/>
              <a:ext cx="572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H="1" flipV="1">
              <a:off x="4022280" y="4125600"/>
              <a:ext cx="37476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852720" y="4441680"/>
              <a:ext cx="73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4040280" y="4119120"/>
              <a:ext cx="344520" cy="65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397400" y="4124160"/>
              <a:ext cx="17460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4394160" y="4430880"/>
              <a:ext cx="18900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035600" y="476892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027320" y="412596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V="1">
              <a:off x="3844800" y="4114440"/>
              <a:ext cx="18252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 flipV="1">
              <a:off x="3831840" y="4446720"/>
              <a:ext cx="21132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816360" y="441648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995640" y="4737240"/>
              <a:ext cx="57240" cy="56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995640" y="4094280"/>
              <a:ext cx="5724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75280" y="4411800"/>
              <a:ext cx="5688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54560" y="473400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354560" y="4091040"/>
              <a:ext cx="572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543560" y="4411800"/>
              <a:ext cx="5688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454040" y="2978280"/>
              <a:ext cx="3568680" cy="20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352960" y="3548160"/>
              <a:ext cx="3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461040" y="3548160"/>
              <a:ext cx="3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486680" y="3548160"/>
              <a:ext cx="3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352960" y="4538520"/>
              <a:ext cx="3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495960" y="4538520"/>
              <a:ext cx="3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486680" y="4538520"/>
              <a:ext cx="3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5106960" y="2820960"/>
            <a:ext cx="3273480" cy="74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le cas des amincissements cet élément sert à faire des squelettes homotop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5183280" y="4581360"/>
            <a:ext cx="29685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Un pas de squelettisation est défini par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5106960" y="3689280"/>
            <a:ext cx="3289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r faire un amincissement isotrope, il faut faire tourner la configuration de voisi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2703600" y="5280120"/>
                <a:ext cx="4643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oL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oL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  <m:sSub>
                                          <m:e>
                                            <m:r>
                                              <m:t xml:space="preserve">o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sSub>
                                      <m:e>
                                        <m:r>
                                          <m:t xml:space="preserve">oL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oL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oL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oL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lphabet de Golay en maille hexagonale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gurations homotop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2" name=""/>
          <p:cNvGrpSpPr/>
          <p:nvPr/>
        </p:nvGrpSpPr>
        <p:grpSpPr>
          <a:xfrm>
            <a:off x="1523880" y="2514600"/>
            <a:ext cx="6235560" cy="3340080"/>
            <a:chOff x="1523880" y="2514600"/>
            <a:chExt cx="6235560" cy="3340080"/>
          </a:xfrm>
        </p:grpSpPr>
        <p:sp>
          <p:nvSpPr>
            <p:cNvPr id="2303" name=""/>
            <p:cNvSpPr/>
            <p:nvPr/>
          </p:nvSpPr>
          <p:spPr>
            <a:xfrm>
              <a:off x="1892160" y="396396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>
              <a:off x="1677960" y="428436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H="1">
              <a:off x="1879200" y="3963960"/>
              <a:ext cx="369720" cy="6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 flipV="1">
              <a:off x="1692000" y="4285800"/>
              <a:ext cx="2001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1680840" y="3975120"/>
              <a:ext cx="214200" cy="30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>
              <a:off x="1868040" y="395748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2236680" y="4287600"/>
              <a:ext cx="20808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46040" y="3967200"/>
              <a:ext cx="18576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403360" y="425268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224080" y="3932280"/>
              <a:ext cx="5688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044440" y="4257720"/>
              <a:ext cx="5724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865160" y="393516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676160" y="4259160"/>
              <a:ext cx="572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H="1">
              <a:off x="1874520" y="4600440"/>
              <a:ext cx="38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224080" y="4574880"/>
              <a:ext cx="5688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865160" y="4579920"/>
              <a:ext cx="572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892160" y="495432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1677960" y="527508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1879200" y="4954320"/>
              <a:ext cx="369720" cy="6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H="1" flipV="1">
              <a:off x="1692000" y="5276880"/>
              <a:ext cx="20016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1680840" y="4965480"/>
              <a:ext cx="21420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>
              <a:off x="1868040" y="494820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H="1">
              <a:off x="1874520" y="5591160"/>
              <a:ext cx="38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2236680" y="527832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246040" y="495756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403360" y="524340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224080" y="492264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224080" y="556560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044440" y="524808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865160" y="492588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865160" y="5570280"/>
              <a:ext cx="57240" cy="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676160" y="5249880"/>
              <a:ext cx="572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892160" y="298296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H="1">
              <a:off x="1677960" y="330336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1879200" y="2982960"/>
              <a:ext cx="369720" cy="6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 flipV="1">
              <a:off x="1692000" y="3305160"/>
              <a:ext cx="20016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1680840" y="2993760"/>
              <a:ext cx="21420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H="1">
              <a:off x="1868040" y="297648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1874520" y="3619440"/>
              <a:ext cx="38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H="1">
              <a:off x="2236680" y="330660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246040" y="298584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403360" y="327168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224080" y="2950920"/>
              <a:ext cx="5688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224080" y="359388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044440" y="327636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865160" y="295416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865160" y="3598560"/>
              <a:ext cx="57240" cy="55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676160" y="327816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493360" y="3039840"/>
              <a:ext cx="321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493720" y="4030560"/>
              <a:ext cx="371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493720" y="5021280"/>
              <a:ext cx="34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938480" y="298296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H="1">
              <a:off x="4724280" y="330336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4925520" y="2982960"/>
              <a:ext cx="369720" cy="6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 flipV="1">
              <a:off x="4738320" y="3305160"/>
              <a:ext cx="19980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4727160" y="2993760"/>
              <a:ext cx="21420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4914720" y="2976480"/>
              <a:ext cx="3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4921200" y="36194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>
              <a:off x="5283000" y="330660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292720" y="298584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449680" y="327168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270400" y="295092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270400" y="359388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091120" y="327636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11480" y="295416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911480" y="3598560"/>
              <a:ext cx="5724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722840" y="3278160"/>
              <a:ext cx="5688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938480" y="3958920"/>
              <a:ext cx="349200" cy="6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4724280" y="427968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4925520" y="3958920"/>
              <a:ext cx="369720" cy="6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4738320" y="4281480"/>
              <a:ext cx="19980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4727160" y="3970080"/>
              <a:ext cx="21420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4914720" y="3952800"/>
              <a:ext cx="3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5283000" y="428292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292720" y="396216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449680" y="424800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270400" y="392724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091120" y="425268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911480" y="393048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722840" y="4254480"/>
              <a:ext cx="56880" cy="55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4921200" y="459576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270400" y="457020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911480" y="4574880"/>
              <a:ext cx="57240" cy="55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938480" y="495432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>
              <a:off x="4724280" y="527508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>
              <a:off x="4925520" y="4954320"/>
              <a:ext cx="369720" cy="6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 flipV="1">
              <a:off x="4738320" y="5276880"/>
              <a:ext cx="19980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>
              <a:off x="4727160" y="4965480"/>
              <a:ext cx="21420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>
              <a:off x="4914720" y="4948200"/>
              <a:ext cx="3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4921200" y="559116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5283000" y="527832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292720" y="495756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449680" y="524340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270400" y="492264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270400" y="556560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091120" y="524808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911480" y="492588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911480" y="5570280"/>
              <a:ext cx="57240" cy="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722840" y="5249880"/>
              <a:ext cx="56880" cy="55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13120" y="303984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613480" y="4030560"/>
              <a:ext cx="468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613480" y="5021280"/>
              <a:ext cx="442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5" name=""/>
            <p:cNvGrpSpPr/>
            <p:nvPr/>
          </p:nvGrpSpPr>
          <p:grpSpPr>
            <a:xfrm>
              <a:off x="2814480" y="2585880"/>
              <a:ext cx="1596960" cy="2718720"/>
              <a:chOff x="2814480" y="2585880"/>
              <a:chExt cx="1596960" cy="2718720"/>
            </a:xfrm>
          </p:grpSpPr>
          <p:sp>
            <p:nvSpPr>
              <p:cNvPr id="2406" name=""/>
              <p:cNvSpPr/>
              <p:nvPr/>
            </p:nvSpPr>
            <p:spPr>
              <a:xfrm>
                <a:off x="2814480" y="2585880"/>
                <a:ext cx="159696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minciss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2814480" y="3043080"/>
                <a:ext cx="159696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quelet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2814480" y="3895560"/>
                <a:ext cx="1596960" cy="54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quelet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moins utilisé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2814480" y="5024160"/>
                <a:ext cx="159696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Centroï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0" name=""/>
            <p:cNvSpPr/>
            <p:nvPr/>
          </p:nvSpPr>
          <p:spPr>
            <a:xfrm>
              <a:off x="6091200" y="258588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paississ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091200" y="2966760"/>
              <a:ext cx="159696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quelette par zone d'influence (avec 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091200" y="3917880"/>
              <a:ext cx="159696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quelette par zone d'influence (avec 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091200" y="4871880"/>
              <a:ext cx="159696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si enveloppe convex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523880" y="2514600"/>
              <a:ext cx="28828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647960" y="2514600"/>
              <a:ext cx="31114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523880" y="37274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647960" y="3727440"/>
              <a:ext cx="311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523880" y="479412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647960" y="4794120"/>
              <a:ext cx="311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523880" y="28890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647960" y="2889000"/>
              <a:ext cx="311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lphabet de Golay en maille hexagonale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gurations non homotop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1530360" y="2521080"/>
            <a:ext cx="6235560" cy="3340080"/>
            <a:chOff x="1530360" y="2521080"/>
            <a:chExt cx="6235560" cy="3340080"/>
          </a:xfrm>
        </p:grpSpPr>
        <p:sp>
          <p:nvSpPr>
            <p:cNvPr id="2425" name=""/>
            <p:cNvSpPr/>
            <p:nvPr/>
          </p:nvSpPr>
          <p:spPr>
            <a:xfrm>
              <a:off x="1898640" y="397044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H="1">
              <a:off x="1684440" y="429084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H="1">
              <a:off x="1885680" y="3970440"/>
              <a:ext cx="369720" cy="6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 flipV="1">
              <a:off x="1698480" y="4292280"/>
              <a:ext cx="2001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1687320" y="3981600"/>
              <a:ext cx="214200" cy="30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1874520" y="396396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2243160" y="4294080"/>
              <a:ext cx="20808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252520" y="3973680"/>
              <a:ext cx="18576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409840" y="425916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230560" y="3938760"/>
              <a:ext cx="5688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050920" y="4264200"/>
              <a:ext cx="5724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1871640" y="394164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682640" y="4265640"/>
              <a:ext cx="57240" cy="55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>
              <a:off x="1881000" y="4606920"/>
              <a:ext cx="38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230560" y="458136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871640" y="4586400"/>
              <a:ext cx="57240" cy="55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500200" y="40370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1898640" y="496080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1684440" y="528156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>
              <a:off x="1885680" y="4960800"/>
              <a:ext cx="369720" cy="6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 flipV="1">
              <a:off x="1698480" y="5283360"/>
              <a:ext cx="20016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H="1">
              <a:off x="1687320" y="4971960"/>
              <a:ext cx="21420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>
              <a:off x="1874520" y="495468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H="1">
              <a:off x="1881000" y="5597640"/>
              <a:ext cx="38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2243160" y="528480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252520" y="496404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409840" y="524988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230560" y="4929120"/>
              <a:ext cx="5688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230560" y="5572080"/>
              <a:ext cx="5688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050920" y="525456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871640" y="493236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871640" y="5576760"/>
              <a:ext cx="57240" cy="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682640" y="525636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500200" y="5027760"/>
              <a:ext cx="34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944960" y="298944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4730760" y="330984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4932000" y="2989440"/>
              <a:ext cx="369720" cy="6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H="1" flipV="1">
              <a:off x="4744800" y="3311640"/>
              <a:ext cx="19980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4733640" y="3000240"/>
              <a:ext cx="21420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4921200" y="2982960"/>
              <a:ext cx="3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>
              <a:off x="4927680" y="362592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5289480" y="331308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299200" y="299232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456160" y="327816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276880" y="295740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276880" y="360036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097600" y="328284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917960" y="296064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917960" y="3605040"/>
              <a:ext cx="5724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729320" y="3284640"/>
              <a:ext cx="5688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613480" y="3046320"/>
              <a:ext cx="34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944960" y="3965400"/>
              <a:ext cx="349200" cy="6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H="1">
              <a:off x="4730760" y="428616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4932000" y="3965400"/>
              <a:ext cx="369720" cy="6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 flipV="1">
              <a:off x="4744800" y="4287960"/>
              <a:ext cx="19980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4733640" y="3976560"/>
              <a:ext cx="21420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H="1">
              <a:off x="4921200" y="3959280"/>
              <a:ext cx="3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>
              <a:off x="5289480" y="428940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299200" y="396864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456160" y="425448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276880" y="393372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097600" y="425916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917960" y="393696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729320" y="4260960"/>
              <a:ext cx="5688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H="1">
              <a:off x="4927680" y="46022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76880" y="457668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917960" y="4581360"/>
              <a:ext cx="5724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619960" y="4037040"/>
              <a:ext cx="429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944960" y="496080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4730760" y="528156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H="1">
              <a:off x="4932000" y="4960800"/>
              <a:ext cx="369720" cy="6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H="1" flipV="1">
              <a:off x="4744800" y="5283360"/>
              <a:ext cx="19980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H="1">
              <a:off x="4733640" y="4971960"/>
              <a:ext cx="21420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H="1">
              <a:off x="4921200" y="4954680"/>
              <a:ext cx="3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H="1">
              <a:off x="4927680" y="55976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H="1">
              <a:off x="5289480" y="528480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299200" y="496404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456160" y="524988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276880" y="492912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276880" y="557208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097600" y="525456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917960" y="493236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917960" y="5576760"/>
              <a:ext cx="57240" cy="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729320" y="5256360"/>
              <a:ext cx="5688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619960" y="5027760"/>
              <a:ext cx="442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820960" y="259236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inciss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820960" y="3978360"/>
              <a:ext cx="159696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barbage du squelet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820960" y="4954680"/>
              <a:ext cx="159696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rosions linéai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097680" y="259236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paississ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097680" y="2973240"/>
              <a:ext cx="159696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veloppe fortement convex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097680" y="3924360"/>
              <a:ext cx="159696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quelette par zone d'influence (avec L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 M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097680" y="4954680"/>
              <a:ext cx="159696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latations linéai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530360" y="2521080"/>
              <a:ext cx="28828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654440" y="2521080"/>
              <a:ext cx="31114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530360" y="28954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4654440" y="2895480"/>
              <a:ext cx="311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530360" y="373392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654440" y="3733920"/>
              <a:ext cx="311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530360" y="48006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654440" y="4800600"/>
              <a:ext cx="311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pavages réguli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vages triangulaire, carré et hexag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71720" y="2390400"/>
            <a:ext cx="2654280" cy="1711800"/>
            <a:chOff x="1971720" y="2390400"/>
            <a:chExt cx="2654280" cy="1711800"/>
          </a:xfrm>
        </p:grpSpPr>
        <p:sp>
          <p:nvSpPr>
            <p:cNvPr id="71" name=""/>
            <p:cNvSpPr/>
            <p:nvPr/>
          </p:nvSpPr>
          <p:spPr>
            <a:xfrm>
              <a:off x="199548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292560" y="2416320"/>
              <a:ext cx="1008000" cy="16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87640" y="2424240"/>
              <a:ext cx="959040" cy="167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95480" y="325584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95480" y="297036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96920" y="268452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03400" y="2413080"/>
              <a:ext cx="957240" cy="168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303640" y="2422440"/>
              <a:ext cx="1008000" cy="167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00160" y="2982960"/>
              <a:ext cx="63180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30280" y="2416320"/>
              <a:ext cx="962280" cy="167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94040" y="2416320"/>
              <a:ext cx="2611440" cy="1684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0760" y="2422440"/>
              <a:ext cx="957240" cy="167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17760" y="2416320"/>
              <a:ext cx="957240" cy="167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43200" y="2416320"/>
              <a:ext cx="963720" cy="168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68640" y="2416320"/>
              <a:ext cx="631800" cy="11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276440" y="2390400"/>
              <a:ext cx="345960" cy="59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03400" y="3554280"/>
              <a:ext cx="30636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971720" y="2428920"/>
              <a:ext cx="1014480" cy="167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629080" y="2422440"/>
              <a:ext cx="1009440" cy="167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958840" y="2433600"/>
              <a:ext cx="1004760" cy="166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618000" y="2416320"/>
              <a:ext cx="1008000" cy="16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943440" y="2982960"/>
              <a:ext cx="68256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978200" y="2416320"/>
              <a:ext cx="682560" cy="112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003400" y="2390400"/>
              <a:ext cx="300240" cy="59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274640" y="3554280"/>
              <a:ext cx="35100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95480" y="382752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653080" y="3213000"/>
            <a:ext cx="1952640" cy="1959120"/>
            <a:chOff x="5653080" y="3213000"/>
            <a:chExt cx="1952640" cy="1959120"/>
          </a:xfrm>
        </p:grpSpPr>
        <p:grpSp>
          <p:nvGrpSpPr>
            <p:cNvPr id="98" name=""/>
            <p:cNvGrpSpPr/>
            <p:nvPr/>
          </p:nvGrpSpPr>
          <p:grpSpPr>
            <a:xfrm>
              <a:off x="5653080" y="3213000"/>
              <a:ext cx="1951200" cy="470160"/>
              <a:chOff x="5653080" y="3213000"/>
              <a:chExt cx="1951200" cy="470160"/>
            </a:xfrm>
          </p:grpSpPr>
          <p:sp>
            <p:nvSpPr>
              <p:cNvPr id="99" name=""/>
              <p:cNvSpPr/>
              <p:nvPr/>
            </p:nvSpPr>
            <p:spPr>
              <a:xfrm>
                <a:off x="5653080" y="3213000"/>
                <a:ext cx="469800" cy="470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46640" y="3213000"/>
                <a:ext cx="470160" cy="470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640560" y="3213000"/>
                <a:ext cx="469800" cy="470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32680" y="3213000"/>
                <a:ext cx="471600" cy="470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53080" y="3706920"/>
              <a:ext cx="1951200" cy="469800"/>
              <a:chOff x="5653080" y="3706920"/>
              <a:chExt cx="1951200" cy="469800"/>
            </a:xfrm>
          </p:grpSpPr>
          <p:sp>
            <p:nvSpPr>
              <p:cNvPr id="104" name=""/>
              <p:cNvSpPr/>
              <p:nvPr/>
            </p:nvSpPr>
            <p:spPr>
              <a:xfrm>
                <a:off x="5653080" y="3706920"/>
                <a:ext cx="469800" cy="46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146640" y="3706920"/>
                <a:ext cx="470160" cy="46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40560" y="3706920"/>
                <a:ext cx="469800" cy="46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132680" y="3706920"/>
                <a:ext cx="471600" cy="46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653080" y="4200480"/>
              <a:ext cx="1951200" cy="469800"/>
              <a:chOff x="5653080" y="4200480"/>
              <a:chExt cx="1951200" cy="469800"/>
            </a:xfrm>
          </p:grpSpPr>
          <p:sp>
            <p:nvSpPr>
              <p:cNvPr id="109" name=""/>
              <p:cNvSpPr/>
              <p:nvPr/>
            </p:nvSpPr>
            <p:spPr>
              <a:xfrm>
                <a:off x="5653080" y="4200480"/>
                <a:ext cx="469800" cy="46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146640" y="4200480"/>
                <a:ext cx="470160" cy="46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40560" y="4200480"/>
                <a:ext cx="469800" cy="46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32680" y="4200480"/>
                <a:ext cx="471600" cy="46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653080" y="4702320"/>
              <a:ext cx="1951200" cy="469800"/>
              <a:chOff x="5653080" y="4702320"/>
              <a:chExt cx="1951200" cy="469800"/>
            </a:xfrm>
          </p:grpSpPr>
          <p:sp>
            <p:nvSpPr>
              <p:cNvPr id="114" name=""/>
              <p:cNvSpPr/>
              <p:nvPr/>
            </p:nvSpPr>
            <p:spPr>
              <a:xfrm>
                <a:off x="5653080" y="4702320"/>
                <a:ext cx="469800" cy="46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46640" y="4702320"/>
                <a:ext cx="470160" cy="46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40560" y="4702320"/>
                <a:ext cx="469800" cy="46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32680" y="4702320"/>
                <a:ext cx="471600" cy="46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657760" y="3218040"/>
              <a:ext cx="1947960" cy="1954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171880" y="4293720"/>
            <a:ext cx="2207880" cy="1444680"/>
            <a:chOff x="2171880" y="4293720"/>
            <a:chExt cx="2207880" cy="1444680"/>
          </a:xfrm>
        </p:grpSpPr>
        <p:grpSp>
          <p:nvGrpSpPr>
            <p:cNvPr id="120" name=""/>
            <p:cNvGrpSpPr/>
            <p:nvPr/>
          </p:nvGrpSpPr>
          <p:grpSpPr>
            <a:xfrm>
              <a:off x="2171880" y="4293720"/>
              <a:ext cx="2207880" cy="1444680"/>
              <a:chOff x="2171880" y="4293720"/>
              <a:chExt cx="2207880" cy="144468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2189160" y="4319640"/>
                <a:ext cx="2174760" cy="449280"/>
                <a:chOff x="2189160" y="4319640"/>
                <a:chExt cx="2174760" cy="449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189160" y="4319640"/>
                  <a:ext cx="522360" cy="449280"/>
                </a:xfrm>
                <a:prstGeom prst="hexagon">
                  <a:avLst>
                    <a:gd name="adj" fmla="val 29061"/>
                    <a:gd name="vf" fmla="val 11547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743200" y="4543560"/>
                  <a:ext cx="249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017880" y="4319640"/>
                  <a:ext cx="522360" cy="449280"/>
                </a:xfrm>
                <a:prstGeom prst="hexagon">
                  <a:avLst>
                    <a:gd name="adj" fmla="val 29061"/>
                    <a:gd name="vf" fmla="val 11547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567240" y="4543560"/>
                  <a:ext cx="249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841920" y="4319640"/>
                  <a:ext cx="522000" cy="449280"/>
                </a:xfrm>
                <a:prstGeom prst="hexagon">
                  <a:avLst>
                    <a:gd name="adj" fmla="val 29041"/>
                    <a:gd name="vf" fmla="val 11547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189160" y="4794120"/>
                <a:ext cx="2174760" cy="447840"/>
                <a:chOff x="2189160" y="4794120"/>
                <a:chExt cx="2174760" cy="4478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189160" y="4794120"/>
                  <a:ext cx="522360" cy="447840"/>
                </a:xfrm>
                <a:prstGeom prst="hexagon">
                  <a:avLst>
                    <a:gd name="adj" fmla="val 29154"/>
                    <a:gd name="vf" fmla="val 11547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743200" y="5016600"/>
                  <a:ext cx="249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17880" y="4794120"/>
                  <a:ext cx="522360" cy="447840"/>
                </a:xfrm>
                <a:prstGeom prst="hexagon">
                  <a:avLst>
                    <a:gd name="adj" fmla="val 29154"/>
                    <a:gd name="vf" fmla="val 11547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567240" y="5016600"/>
                  <a:ext cx="249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841920" y="4794120"/>
                  <a:ext cx="522000" cy="447840"/>
                </a:xfrm>
                <a:prstGeom prst="hexagon">
                  <a:avLst>
                    <a:gd name="adj" fmla="val 29134"/>
                    <a:gd name="vf" fmla="val 11547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2187720" y="5267160"/>
                <a:ext cx="2174760" cy="449280"/>
                <a:chOff x="2187720" y="5267160"/>
                <a:chExt cx="2174760" cy="449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2187720" y="5267160"/>
                  <a:ext cx="522000" cy="449280"/>
                </a:xfrm>
                <a:prstGeom prst="hexagon">
                  <a:avLst>
                    <a:gd name="adj" fmla="val 29041"/>
                    <a:gd name="vf" fmla="val 11547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39960" y="5491080"/>
                  <a:ext cx="250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16080" y="5267160"/>
                  <a:ext cx="522360" cy="449280"/>
                </a:xfrm>
                <a:prstGeom prst="hexagon">
                  <a:avLst>
                    <a:gd name="adj" fmla="val 29061"/>
                    <a:gd name="vf" fmla="val 11547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564000" y="5491080"/>
                  <a:ext cx="250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40120" y="5267160"/>
                  <a:ext cx="522360" cy="449280"/>
                </a:xfrm>
                <a:prstGeom prst="hexagon">
                  <a:avLst>
                    <a:gd name="adj" fmla="val 29061"/>
                    <a:gd name="vf" fmla="val 11547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2597040" y="572940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32240" y="5726160"/>
                <a:ext cx="52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71880" y="4319640"/>
                <a:ext cx="0" cy="13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4379760" y="4293720"/>
                <a:ext cx="0" cy="1444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187720" y="5729400"/>
                <a:ext cx="10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187720" y="4307040"/>
                <a:ext cx="942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30440" y="4307040"/>
                <a:ext cx="524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51240" y="4307040"/>
                <a:ext cx="117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241880" y="5729400"/>
                <a:ext cx="12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197080" y="4332240"/>
              <a:ext cx="2158920" cy="13734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006640" y="2425680"/>
            <a:ext cx="2577960" cy="16635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64240" y="3225960"/>
            <a:ext cx="1930320" cy="19303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65400" y="4286160"/>
            <a:ext cx="229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lphabet de Golay en maille hexagonale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transformations de voisin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ints particuli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1530360" y="2521080"/>
            <a:ext cx="2882880" cy="334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654440" y="2521080"/>
            <a:ext cx="3111480" cy="334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9" name=""/>
          <p:cNvGrpSpPr/>
          <p:nvPr/>
        </p:nvGrpSpPr>
        <p:grpSpPr>
          <a:xfrm>
            <a:off x="1530360" y="2592360"/>
            <a:ext cx="6235560" cy="2208240"/>
            <a:chOff x="1530360" y="2592360"/>
            <a:chExt cx="6235560" cy="2208240"/>
          </a:xfrm>
        </p:grpSpPr>
        <p:sp>
          <p:nvSpPr>
            <p:cNvPr id="2530" name=""/>
            <p:cNvSpPr/>
            <p:nvPr/>
          </p:nvSpPr>
          <p:spPr>
            <a:xfrm>
              <a:off x="1898640" y="397044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H="1">
              <a:off x="1684440" y="429084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H="1">
              <a:off x="1885680" y="3970440"/>
              <a:ext cx="369720" cy="6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 flipV="1">
              <a:off x="1698480" y="4292280"/>
              <a:ext cx="2001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1687320" y="3981600"/>
              <a:ext cx="214200" cy="30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H="1">
              <a:off x="1874520" y="396396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H="1">
              <a:off x="2243160" y="4294080"/>
              <a:ext cx="20808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252520" y="3973680"/>
              <a:ext cx="18576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409840" y="425916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230560" y="3938760"/>
              <a:ext cx="5688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050920" y="4264200"/>
              <a:ext cx="5724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871640" y="394164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682640" y="4265640"/>
              <a:ext cx="57240" cy="55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 flipH="1">
              <a:off x="1881000" y="4606920"/>
              <a:ext cx="38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230560" y="458136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871640" y="4586400"/>
              <a:ext cx="57240" cy="55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500200" y="40370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944960" y="298944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H="1">
              <a:off x="4730760" y="330984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H="1">
              <a:off x="4932000" y="2989440"/>
              <a:ext cx="369720" cy="6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H="1" flipV="1">
              <a:off x="4744800" y="3311640"/>
              <a:ext cx="19980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H="1">
              <a:off x="4733640" y="3000240"/>
              <a:ext cx="21420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H="1">
              <a:off x="4921200" y="2982960"/>
              <a:ext cx="3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H="1">
              <a:off x="4927680" y="362592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H="1">
              <a:off x="5289480" y="331308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299200" y="299232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456160" y="327816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276880" y="295740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276880" y="3600360"/>
              <a:ext cx="5724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097600" y="3282840"/>
              <a:ext cx="5688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917960" y="296064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917960" y="3605040"/>
              <a:ext cx="5724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729320" y="3284640"/>
              <a:ext cx="56880" cy="55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613120" y="3046320"/>
              <a:ext cx="321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944960" y="3965400"/>
              <a:ext cx="349200" cy="6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>
              <a:off x="4730760" y="428616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H="1">
              <a:off x="4932000" y="3965400"/>
              <a:ext cx="369720" cy="6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H="1" flipV="1">
              <a:off x="4744800" y="4287960"/>
              <a:ext cx="19980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>
              <a:off x="4733640" y="3976560"/>
              <a:ext cx="21420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H="1">
              <a:off x="4921200" y="3959280"/>
              <a:ext cx="3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5289480" y="428940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299200" y="3968640"/>
              <a:ext cx="18576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456160" y="425448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276880" y="393372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097600" y="4259160"/>
              <a:ext cx="5688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917960" y="393696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729320" y="4260960"/>
              <a:ext cx="5688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4927680" y="46022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276880" y="457668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917960" y="4581360"/>
              <a:ext cx="5724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612400" y="4037040"/>
              <a:ext cx="376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820960" y="259236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ut ou ri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820960" y="3978360"/>
              <a:ext cx="159696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oints extrèmes du squelet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097680" y="259236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ut ou ri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530360" y="28954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654440" y="2895480"/>
              <a:ext cx="311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530360" y="373392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54440" y="3733920"/>
              <a:ext cx="311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30360" y="48006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654440" y="4800600"/>
              <a:ext cx="311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898640" y="2979720"/>
              <a:ext cx="3492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H="1">
              <a:off x="1684440" y="330048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H="1">
              <a:off x="1885680" y="2979720"/>
              <a:ext cx="369720" cy="6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H="1" flipV="1">
              <a:off x="1698480" y="3301560"/>
              <a:ext cx="2001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H="1">
              <a:off x="1687320" y="2990880"/>
              <a:ext cx="214200" cy="30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H="1">
              <a:off x="1874520" y="297324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>
              <a:off x="1881000" y="3616200"/>
              <a:ext cx="38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H="1">
              <a:off x="2243160" y="3303720"/>
              <a:ext cx="20808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252520" y="2982960"/>
              <a:ext cx="18576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409840" y="3268800"/>
              <a:ext cx="57240" cy="56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230560" y="294804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230560" y="3591000"/>
              <a:ext cx="56880" cy="57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050920" y="327348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871640" y="2951280"/>
              <a:ext cx="57240" cy="56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871640" y="3595680"/>
              <a:ext cx="57240" cy="55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682640" y="3274920"/>
              <a:ext cx="57240" cy="55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499840" y="3046320"/>
              <a:ext cx="24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820960" y="306396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ints isolé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097680" y="3954600"/>
              <a:ext cx="159696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ints triples du squelet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097680" y="3040200"/>
              <a:ext cx="159696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ints triples du squelet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lphabet de Golay en maille carrée 8 connexe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gurations homotop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2" name=""/>
          <p:cNvGrpSpPr/>
          <p:nvPr/>
        </p:nvGrpSpPr>
        <p:grpSpPr>
          <a:xfrm>
            <a:off x="1525680" y="2521080"/>
            <a:ext cx="6240240" cy="3421080"/>
            <a:chOff x="1525680" y="2521080"/>
            <a:chExt cx="6240240" cy="3421080"/>
          </a:xfrm>
        </p:grpSpPr>
        <p:sp>
          <p:nvSpPr>
            <p:cNvPr id="2613" name=""/>
            <p:cNvSpPr/>
            <p:nvPr/>
          </p:nvSpPr>
          <p:spPr>
            <a:xfrm>
              <a:off x="1530360" y="2521080"/>
              <a:ext cx="28828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654440" y="2521080"/>
              <a:ext cx="31114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1525680" y="4802040"/>
              <a:ext cx="6230880" cy="114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491560" y="5172120"/>
              <a:ext cx="419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752080" y="5172120"/>
              <a:ext cx="419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820960" y="259236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inciss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820960" y="366876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quelet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820960" y="522756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entroï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097680" y="259236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inciss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530360" y="48006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654440" y="4800600"/>
              <a:ext cx="311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530360" y="28954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654440" y="2895480"/>
              <a:ext cx="311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414880" y="3214800"/>
              <a:ext cx="3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418120" y="4119480"/>
              <a:ext cx="3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023920" y="305280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H="1">
              <a:off x="1674360" y="341316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V="1">
              <a:off x="1698480" y="305712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698480" y="3059280"/>
              <a:ext cx="662040" cy="6728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695600" y="3051000"/>
              <a:ext cx="666720" cy="67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647720" y="302256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979640" y="3022560"/>
              <a:ext cx="777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320920" y="3022560"/>
              <a:ext cx="795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657440" y="3371760"/>
              <a:ext cx="7920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989000" y="3371760"/>
              <a:ext cx="777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330280" y="3371760"/>
              <a:ext cx="7956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650960" y="370044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982880" y="3700440"/>
              <a:ext cx="7920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325600" y="3700440"/>
              <a:ext cx="777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023920" y="39574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1674360" y="431784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V="1">
              <a:off x="1698480" y="396216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698480" y="3963960"/>
              <a:ext cx="662040" cy="673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695600" y="3956040"/>
              <a:ext cx="666720" cy="67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647720" y="3927600"/>
              <a:ext cx="795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979640" y="3927600"/>
              <a:ext cx="77760" cy="79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320920" y="3927600"/>
              <a:ext cx="79560" cy="79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657440" y="4276800"/>
              <a:ext cx="7920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989000" y="4276800"/>
              <a:ext cx="777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330280" y="4276800"/>
              <a:ext cx="7956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650960" y="4605480"/>
              <a:ext cx="795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982880" y="460548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325600" y="4605480"/>
              <a:ext cx="777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973840" y="363060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quelet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655240" y="3214800"/>
              <a:ext cx="44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658480" y="4119480"/>
              <a:ext cx="44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264280" y="305280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H="1">
              <a:off x="4915080" y="34131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V="1">
              <a:off x="4938840" y="305712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938840" y="3059280"/>
              <a:ext cx="662040" cy="6728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935600" y="3051000"/>
              <a:ext cx="666720" cy="67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888080" y="302256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219640" y="3022560"/>
              <a:ext cx="777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560920" y="3022560"/>
              <a:ext cx="795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897440" y="3371760"/>
              <a:ext cx="7920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229360" y="3371760"/>
              <a:ext cx="777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570640" y="3371760"/>
              <a:ext cx="7920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890960" y="370044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222880" y="370044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565600" y="3700440"/>
              <a:ext cx="7812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264280" y="39574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>
              <a:off x="4915080" y="431784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4938840" y="396216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938840" y="3963960"/>
              <a:ext cx="662040" cy="673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5600" y="3956040"/>
              <a:ext cx="666720" cy="67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888080" y="392760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19640" y="3927600"/>
              <a:ext cx="777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560920" y="3927600"/>
              <a:ext cx="79560" cy="79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897440" y="4276800"/>
              <a:ext cx="7920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229360" y="4276800"/>
              <a:ext cx="777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570640" y="4276800"/>
              <a:ext cx="7920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890960" y="4605480"/>
              <a:ext cx="7956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222880" y="460548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565600" y="4605480"/>
              <a:ext cx="7812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102360" y="522756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entroï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016000" y="502920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1666800" y="53895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V="1">
              <a:off x="1690560" y="503352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690560" y="5035680"/>
              <a:ext cx="662040" cy="6728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687680" y="5027760"/>
              <a:ext cx="666720" cy="67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639800" y="4998960"/>
              <a:ext cx="795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971720" y="4998960"/>
              <a:ext cx="777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313000" y="4998960"/>
              <a:ext cx="7920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649520" y="5348160"/>
              <a:ext cx="7920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1981080" y="5348160"/>
              <a:ext cx="777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322360" y="5348160"/>
              <a:ext cx="795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1643040" y="5676840"/>
              <a:ext cx="795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1974960" y="5676840"/>
              <a:ext cx="7920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317680" y="5676840"/>
              <a:ext cx="777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254560" y="501984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4905360" y="538020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V="1">
              <a:off x="4929120" y="502416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929120" y="5025960"/>
              <a:ext cx="662040" cy="673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925880" y="5018040"/>
              <a:ext cx="666720" cy="67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878360" y="4989600"/>
              <a:ext cx="795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210280" y="4989600"/>
              <a:ext cx="777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551560" y="498960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888080" y="5338800"/>
              <a:ext cx="7920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219640" y="5338800"/>
              <a:ext cx="777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560920" y="5338800"/>
              <a:ext cx="7956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881600" y="5667480"/>
              <a:ext cx="79200" cy="79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213520" y="5667480"/>
              <a:ext cx="79200" cy="79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556240" y="5667480"/>
              <a:ext cx="77760" cy="79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lphabet de Golay en maille carrée 8 connexe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guration non homotop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8" name=""/>
          <p:cNvGrpSpPr/>
          <p:nvPr/>
        </p:nvGrpSpPr>
        <p:grpSpPr>
          <a:xfrm>
            <a:off x="1530360" y="2521080"/>
            <a:ext cx="6235560" cy="3340080"/>
            <a:chOff x="1530360" y="2521080"/>
            <a:chExt cx="6235560" cy="3340080"/>
          </a:xfrm>
        </p:grpSpPr>
        <p:sp>
          <p:nvSpPr>
            <p:cNvPr id="2719" name=""/>
            <p:cNvSpPr/>
            <p:nvPr/>
          </p:nvSpPr>
          <p:spPr>
            <a:xfrm>
              <a:off x="4654440" y="2521080"/>
              <a:ext cx="31114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769720" y="5172120"/>
              <a:ext cx="419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097680" y="259236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paississ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654440" y="2895480"/>
              <a:ext cx="311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769720" y="3214800"/>
              <a:ext cx="419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769720" y="4133880"/>
              <a:ext cx="419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264280" y="305280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H="1">
              <a:off x="4915080" y="34131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V="1">
              <a:off x="4938840" y="305712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938840" y="3059280"/>
              <a:ext cx="662040" cy="6728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935600" y="3051000"/>
              <a:ext cx="666720" cy="67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888080" y="302256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219640" y="3022560"/>
              <a:ext cx="777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560920" y="3022560"/>
              <a:ext cx="795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897440" y="3371760"/>
              <a:ext cx="7920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229360" y="3371760"/>
              <a:ext cx="7776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570640" y="3371760"/>
              <a:ext cx="7920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890960" y="370044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222880" y="370044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565600" y="3700440"/>
              <a:ext cx="7812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264280" y="39574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flipH="1">
              <a:off x="4915080" y="431784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V="1">
              <a:off x="4938840" y="396216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938840" y="3963960"/>
              <a:ext cx="662040" cy="673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935600" y="3956040"/>
              <a:ext cx="666720" cy="67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888080" y="3927600"/>
              <a:ext cx="7920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219640" y="3927600"/>
              <a:ext cx="777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560920" y="3927600"/>
              <a:ext cx="795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897440" y="4276800"/>
              <a:ext cx="7920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229360" y="4276800"/>
              <a:ext cx="7776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570640" y="4276800"/>
              <a:ext cx="7920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890960" y="4605480"/>
              <a:ext cx="7956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222880" y="460548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565600" y="4605480"/>
              <a:ext cx="7812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254560" y="501984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H="1">
              <a:off x="4905360" y="538020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V="1">
              <a:off x="4929120" y="502416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929120" y="5025960"/>
              <a:ext cx="662040" cy="673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925880" y="5018040"/>
              <a:ext cx="666720" cy="67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878360" y="4989600"/>
              <a:ext cx="795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210280" y="4989600"/>
              <a:ext cx="7776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551560" y="4989600"/>
              <a:ext cx="7920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888080" y="5338800"/>
              <a:ext cx="7920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219640" y="5338800"/>
              <a:ext cx="7776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560920" y="5338800"/>
              <a:ext cx="7956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881600" y="5667480"/>
              <a:ext cx="7920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213520" y="566748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556240" y="5667480"/>
              <a:ext cx="777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1530360" y="2521080"/>
              <a:ext cx="28828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469240" y="5172120"/>
              <a:ext cx="406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1563840" y="2592360"/>
              <a:ext cx="285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incissement et tout ou ri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1530360" y="28954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469240" y="3214800"/>
              <a:ext cx="406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469240" y="4119480"/>
              <a:ext cx="406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023920" y="305280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1674360" y="341316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V="1">
              <a:off x="1698480" y="305712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698480" y="3059280"/>
              <a:ext cx="662040" cy="6728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695600" y="3051000"/>
              <a:ext cx="666720" cy="67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647720" y="3022560"/>
              <a:ext cx="795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979640" y="3022560"/>
              <a:ext cx="777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320920" y="3022560"/>
              <a:ext cx="795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657440" y="3371760"/>
              <a:ext cx="7920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989000" y="3371760"/>
              <a:ext cx="777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330280" y="3371760"/>
              <a:ext cx="7956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650960" y="3700440"/>
              <a:ext cx="795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982880" y="3700440"/>
              <a:ext cx="7920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325600" y="3700440"/>
              <a:ext cx="777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023920" y="39574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>
              <a:off x="1674360" y="431784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1698480" y="396216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1698480" y="3963960"/>
              <a:ext cx="662040" cy="673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1695600" y="3956040"/>
              <a:ext cx="666720" cy="67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1647720" y="3927600"/>
              <a:ext cx="79560" cy="79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1979640" y="3927600"/>
              <a:ext cx="77760" cy="79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320920" y="3927600"/>
              <a:ext cx="79560" cy="79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1657440" y="4276800"/>
              <a:ext cx="7920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1989000" y="4276800"/>
              <a:ext cx="777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330280" y="4276800"/>
              <a:ext cx="7956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1650960" y="4605480"/>
              <a:ext cx="79560" cy="79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1982880" y="4605480"/>
              <a:ext cx="79200" cy="79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325600" y="4605480"/>
              <a:ext cx="777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016000" y="502920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1666800" y="53895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V="1">
              <a:off x="1690560" y="503352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1690560" y="5035680"/>
              <a:ext cx="662040" cy="6728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1687680" y="5027760"/>
              <a:ext cx="666720" cy="67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639800" y="4998960"/>
              <a:ext cx="795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1971720" y="4998960"/>
              <a:ext cx="777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313000" y="4998960"/>
              <a:ext cx="7920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1649520" y="5348160"/>
              <a:ext cx="7920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1981080" y="5348160"/>
              <a:ext cx="777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322360" y="5348160"/>
              <a:ext cx="7956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1643040" y="5676840"/>
              <a:ext cx="795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974960" y="5676840"/>
              <a:ext cx="7920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317680" y="5676840"/>
              <a:ext cx="777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768760" y="3925800"/>
              <a:ext cx="159696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barbage  et points extrèmes du squelet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135840" y="3973680"/>
              <a:ext cx="159696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veloppe fortement convex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lphabet de Golay en maille carrée 8 connexe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res configu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9" name=""/>
          <p:cNvGrpSpPr/>
          <p:nvPr/>
        </p:nvGrpSpPr>
        <p:grpSpPr>
          <a:xfrm>
            <a:off x="1530360" y="2521080"/>
            <a:ext cx="6235560" cy="3458880"/>
            <a:chOff x="1530360" y="2521080"/>
            <a:chExt cx="6235560" cy="3458880"/>
          </a:xfrm>
        </p:grpSpPr>
        <p:sp>
          <p:nvSpPr>
            <p:cNvPr id="2820" name=""/>
            <p:cNvSpPr/>
            <p:nvPr/>
          </p:nvSpPr>
          <p:spPr>
            <a:xfrm>
              <a:off x="4668840" y="2521080"/>
              <a:ext cx="3097080" cy="2325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411880" y="2570040"/>
              <a:ext cx="1596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paississ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654440" y="2895480"/>
              <a:ext cx="311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1530360" y="2521080"/>
              <a:ext cx="2897280" cy="2325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463480" y="5172120"/>
              <a:ext cx="24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563840" y="2570040"/>
              <a:ext cx="285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incissemen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530360" y="28954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469240" y="3214800"/>
              <a:ext cx="419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469240" y="4119480"/>
              <a:ext cx="419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023920" y="305280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H="1">
              <a:off x="1674360" y="341316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1698480" y="305712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698480" y="3059280"/>
              <a:ext cx="662040" cy="6728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695600" y="3051000"/>
              <a:ext cx="666720" cy="67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647720" y="3022560"/>
              <a:ext cx="795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979640" y="3022560"/>
              <a:ext cx="777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320920" y="3022560"/>
              <a:ext cx="795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657440" y="3371760"/>
              <a:ext cx="7920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1989000" y="3371760"/>
              <a:ext cx="777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330280" y="3371760"/>
              <a:ext cx="7956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1650960" y="3700440"/>
              <a:ext cx="795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982880" y="3700440"/>
              <a:ext cx="7920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325600" y="3700440"/>
              <a:ext cx="777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023920" y="39574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 flipH="1">
              <a:off x="1674360" y="431784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V="1">
              <a:off x="1698480" y="396216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1698480" y="3963960"/>
              <a:ext cx="662040" cy="673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1695600" y="3956040"/>
              <a:ext cx="666720" cy="67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647720" y="3927600"/>
              <a:ext cx="795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979640" y="3927600"/>
              <a:ext cx="777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320920" y="3927600"/>
              <a:ext cx="79560" cy="79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1657440" y="4276800"/>
              <a:ext cx="7920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1989000" y="4276800"/>
              <a:ext cx="777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2330280" y="4276800"/>
              <a:ext cx="7956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1650960" y="4605480"/>
              <a:ext cx="795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1982880" y="4605480"/>
              <a:ext cx="7920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325600" y="4605480"/>
              <a:ext cx="777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016000" y="502920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H="1">
              <a:off x="1666800" y="53895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V="1">
              <a:off x="1690560" y="503352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1690560" y="5035680"/>
              <a:ext cx="662040" cy="6728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1687680" y="5027760"/>
              <a:ext cx="666720" cy="67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639800" y="4998960"/>
              <a:ext cx="795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971720" y="4998960"/>
              <a:ext cx="777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2313000" y="4998960"/>
              <a:ext cx="7920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649520" y="5348160"/>
              <a:ext cx="7920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981080" y="5348160"/>
              <a:ext cx="777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322360" y="5348160"/>
              <a:ext cx="7956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643040" y="5676840"/>
              <a:ext cx="795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974960" y="5676840"/>
              <a:ext cx="7920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2317680" y="5676840"/>
              <a:ext cx="77760" cy="795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768760" y="3483000"/>
              <a:ext cx="159696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rosions linéai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671800" y="3224160"/>
              <a:ext cx="5151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671800" y="4129200"/>
              <a:ext cx="5151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219640" y="306216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H="1">
              <a:off x="4870440" y="342252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4894200" y="306684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894200" y="3068640"/>
              <a:ext cx="662040" cy="673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890960" y="3060720"/>
              <a:ext cx="666720" cy="67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843440" y="3032280"/>
              <a:ext cx="795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175360" y="3032280"/>
              <a:ext cx="777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516640" y="3032280"/>
              <a:ext cx="7920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853160" y="3381480"/>
              <a:ext cx="7920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184720" y="3381480"/>
              <a:ext cx="7776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526000" y="3381480"/>
              <a:ext cx="79560" cy="77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846680" y="3710160"/>
              <a:ext cx="7920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178600" y="3710160"/>
              <a:ext cx="7920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5521320" y="3710160"/>
              <a:ext cx="777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5219640" y="396720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 flipH="1">
              <a:off x="4870440" y="43275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V="1">
              <a:off x="4894200" y="3971520"/>
              <a:ext cx="662040" cy="693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894200" y="3973680"/>
              <a:ext cx="662040" cy="6728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890960" y="3965400"/>
              <a:ext cx="666720" cy="67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843440" y="3936960"/>
              <a:ext cx="795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5175360" y="3936960"/>
              <a:ext cx="777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516640" y="393696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853160" y="4286160"/>
              <a:ext cx="7920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184720" y="4286160"/>
              <a:ext cx="7776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5526000" y="4286160"/>
              <a:ext cx="7956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846680" y="4614840"/>
              <a:ext cx="7920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5178600" y="4614840"/>
              <a:ext cx="7920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521320" y="4614840"/>
              <a:ext cx="777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006960" y="3621240"/>
              <a:ext cx="159732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latations linéai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2906640" y="5021280"/>
              <a:ext cx="15969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formation en tout ou ri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ints isolé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530360" y="4859280"/>
              <a:ext cx="2901960" cy="112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cursivité du pav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éfinition : décomposition en éléments identiques selon un facteur d'homothét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e pour les décompositions hiérarchiq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 des pavages régul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pavages carrés et triangulaires sont récursif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avage hexagonal n'est pas récursi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698920" y="4089240"/>
            <a:ext cx="1670040" cy="1676520"/>
            <a:chOff x="2698920" y="4089240"/>
            <a:chExt cx="1670040" cy="1676520"/>
          </a:xfrm>
        </p:grpSpPr>
        <p:sp>
          <p:nvSpPr>
            <p:cNvPr id="155" name=""/>
            <p:cNvSpPr/>
            <p:nvPr/>
          </p:nvSpPr>
          <p:spPr>
            <a:xfrm>
              <a:off x="2698920" y="4089240"/>
              <a:ext cx="1670040" cy="1670040"/>
            </a:xfrm>
            <a:prstGeom prst="triangle">
              <a:avLst>
                <a:gd name="adj" fmla="val 4999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11400" y="51624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82840" y="463392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3480" y="4645080"/>
              <a:ext cx="558720" cy="11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22360" y="4640400"/>
              <a:ext cx="579240" cy="11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812760" y="5168880"/>
              <a:ext cx="2509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16080" y="5164200"/>
              <a:ext cx="21600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851440" y="4041720"/>
            <a:ext cx="1689120" cy="1689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696000" y="4022640"/>
            <a:ext cx="0" cy="17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45320" y="4896000"/>
            <a:ext cx="170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5400" y="4843440"/>
            <a:ext cx="88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19040" y="4843440"/>
            <a:ext cx="88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vage et mail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haque pavé, on associe un point P (le centre d'inertie)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'ensemble des points définit le maill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points  P sont appelé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 entre maillage et pav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 pavage carré correspond un maillage carr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 pavage hexagonal correspond un maillage triangulai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 pavage triangulaire correspond un maillage hexag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ntion pour les pix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400480" y="4915080"/>
                <a:ext cx="26002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IX</m:t>
                        </m:r>
                        <m:r>
                          <m:rPr>
                            <m:lit/>
                            <m:nor/>
                          </m:rPr>
                          <m:t xml:space="preserve">¹Æ</m:t>
                        </m:r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PIX</m:t>
                        </m:r>
                        <m:r>
                          <m:rPr>
                            <m:lit/>
                            <m:nor/>
                          </m:rPr>
                          <m:t xml:space="preserve">=Æ</m:t>
                        </m:r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39760" y="2392200"/>
            <a:ext cx="3378240" cy="337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102960" rIns="102960" tIns="56880" bIns="568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00480" y="3652920"/>
            <a:ext cx="857160" cy="814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95800" y="2770200"/>
            <a:ext cx="0" cy="1689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425320" y="3672000"/>
            <a:ext cx="1739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479680" y="2787480"/>
            <a:ext cx="1660680" cy="172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79680" y="2784600"/>
            <a:ext cx="1660680" cy="168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vage et maillage carr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2920" y="2778120"/>
            <a:ext cx="1649520" cy="16779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30400" y="4081320"/>
            <a:ext cx="338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30400" y="4919760"/>
            <a:ext cx="338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30400" y="3243240"/>
            <a:ext cx="338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9520" y="2392200"/>
            <a:ext cx="0" cy="337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62360" y="2392200"/>
            <a:ext cx="0" cy="337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6680" y="2392200"/>
            <a:ext cx="0" cy="337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88080" y="2687760"/>
            <a:ext cx="215640" cy="21564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44680" y="2687760"/>
            <a:ext cx="216000" cy="215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73400" y="2687760"/>
            <a:ext cx="216000" cy="215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0560" y="2687760"/>
            <a:ext cx="216000" cy="21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11840" y="3559320"/>
            <a:ext cx="215640" cy="21564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8440" y="3559320"/>
            <a:ext cx="216000" cy="215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97160" y="355932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54320" y="3559320"/>
            <a:ext cx="216000" cy="215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97440" y="4383000"/>
            <a:ext cx="216000" cy="2160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54400" y="4383000"/>
            <a:ext cx="215640" cy="2160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82760" y="4383000"/>
            <a:ext cx="216000" cy="2160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40280" y="4383000"/>
            <a:ext cx="215640" cy="2160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354400" y="5226120"/>
            <a:ext cx="2759040" cy="216000"/>
            <a:chOff x="2354400" y="5226120"/>
            <a:chExt cx="2759040" cy="216000"/>
          </a:xfrm>
        </p:grpSpPr>
        <p:sp>
          <p:nvSpPr>
            <p:cNvPr id="198" name=""/>
            <p:cNvSpPr/>
            <p:nvPr/>
          </p:nvSpPr>
          <p:spPr>
            <a:xfrm>
              <a:off x="4897440" y="5226120"/>
              <a:ext cx="216000" cy="2160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54400" y="5226120"/>
              <a:ext cx="215640" cy="2160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82760" y="5226120"/>
              <a:ext cx="216000" cy="2160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40280" y="5226120"/>
              <a:ext cx="215640" cy="2160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773680" y="2335320"/>
            <a:ext cx="501840" cy="5014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10880" y="2470320"/>
            <a:ext cx="2049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s petite ma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2760" y="3021120"/>
            <a:ext cx="463680" cy="4633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11960" y="2959200"/>
            <a:ext cx="1982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s petite maille c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02200" y="3811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02200" y="5106960"/>
            <a:ext cx="216000" cy="2160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02200" y="4249800"/>
            <a:ext cx="216000" cy="2160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54640" y="3755880"/>
            <a:ext cx="1527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02200" y="4802040"/>
            <a:ext cx="216000" cy="2160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54640" y="4213080"/>
            <a:ext cx="202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s 4 conn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54640" y="4913280"/>
            <a:ext cx="202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s 8 conn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vage hexagonal et maillage triangula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102960" rIns="102960" tIns="56880" bIns="568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889360" y="3559320"/>
            <a:ext cx="1565280" cy="93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95760" y="3127320"/>
            <a:ext cx="0" cy="184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89360" y="3594240"/>
            <a:ext cx="1584360" cy="86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701520" y="4489560"/>
            <a:ext cx="816120" cy="44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17800" y="4479840"/>
            <a:ext cx="77472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76400" y="3584520"/>
            <a:ext cx="0" cy="90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86320" y="3594240"/>
            <a:ext cx="0" cy="90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99000" y="3108240"/>
            <a:ext cx="784080" cy="46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898720" y="3083040"/>
            <a:ext cx="755640" cy="52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0840" y="2617920"/>
            <a:ext cx="1025280" cy="901440"/>
          </a:xfrm>
          <a:prstGeom prst="hexagon">
            <a:avLst>
              <a:gd name="adj" fmla="val 28429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52840" y="306720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81320" y="2617920"/>
            <a:ext cx="1025640" cy="901440"/>
          </a:xfrm>
          <a:prstGeom prst="hexagon">
            <a:avLst>
              <a:gd name="adj" fmla="val 28439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33960" y="306720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62440" y="2617920"/>
            <a:ext cx="1025640" cy="901440"/>
          </a:xfrm>
          <a:prstGeom prst="hexagon">
            <a:avLst>
              <a:gd name="adj" fmla="val 28439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90840" y="3544920"/>
            <a:ext cx="1025280" cy="898560"/>
          </a:xfrm>
          <a:prstGeom prst="hexagon">
            <a:avLst>
              <a:gd name="adj" fmla="val 28520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52840" y="399096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81320" y="3544920"/>
            <a:ext cx="1025640" cy="898560"/>
          </a:xfrm>
          <a:prstGeom prst="hexagon">
            <a:avLst>
              <a:gd name="adj" fmla="val 28530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33960" y="399096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62440" y="3544920"/>
            <a:ext cx="1025640" cy="898560"/>
          </a:xfrm>
          <a:prstGeom prst="hexagon">
            <a:avLst>
              <a:gd name="adj" fmla="val 28530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4360" y="4468680"/>
            <a:ext cx="1027080" cy="901800"/>
          </a:xfrm>
          <a:prstGeom prst="hexagon">
            <a:avLst>
              <a:gd name="adj" fmla="val 28468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49600" y="4917960"/>
            <a:ext cx="50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76640" y="4468680"/>
            <a:ext cx="1025640" cy="901800"/>
          </a:xfrm>
          <a:prstGeom prst="hexagon">
            <a:avLst>
              <a:gd name="adj" fmla="val 28428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30720" y="4917960"/>
            <a:ext cx="50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57760" y="4468680"/>
            <a:ext cx="1027080" cy="901800"/>
          </a:xfrm>
          <a:prstGeom prst="hexagon">
            <a:avLst>
              <a:gd name="adj" fmla="val 28468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71680" y="5383080"/>
            <a:ext cx="1049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75120" y="5376960"/>
            <a:ext cx="102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68520" y="2617920"/>
            <a:ext cx="0" cy="27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807160" y="2592360"/>
            <a:ext cx="0" cy="279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84360" y="5383080"/>
            <a:ext cx="23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84360" y="2604960"/>
            <a:ext cx="18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71880" y="2604960"/>
            <a:ext cx="102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48320" y="2604960"/>
            <a:ext cx="249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29240" y="5383080"/>
            <a:ext cx="26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93720" y="2620800"/>
            <a:ext cx="4191120" cy="27403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3800" y="4848120"/>
            <a:ext cx="16200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19240" y="3029040"/>
            <a:ext cx="16056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08280" y="3029040"/>
            <a:ext cx="162000" cy="1620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9120" y="3029040"/>
            <a:ext cx="16020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05120" y="3478320"/>
            <a:ext cx="160200" cy="1602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3240" y="3478320"/>
            <a:ext cx="160200" cy="1602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28960" y="3929040"/>
            <a:ext cx="16020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8000" y="3929040"/>
            <a:ext cx="162000" cy="162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08480" y="3929040"/>
            <a:ext cx="16056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3040" y="4376880"/>
            <a:ext cx="162000" cy="16164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22600" y="4376880"/>
            <a:ext cx="160560" cy="16164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31840" y="4848120"/>
            <a:ext cx="16056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22680" y="4848120"/>
            <a:ext cx="160200" cy="1620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59520" y="37544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59520" y="4192560"/>
            <a:ext cx="216000" cy="2160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11960" y="3699000"/>
            <a:ext cx="1527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11960" y="4156200"/>
            <a:ext cx="202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s 6 conn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74640" y="2595600"/>
            <a:ext cx="422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éristiques des maillages dans 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éristique topolog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théorème de Jordan dans 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te courbe fermée simpl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e se recoupant pas) sépare le plan en 2 domaines : le domaine intérieur et le domaine extéri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cun de ces domaines est connex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90840" y="4057560"/>
            <a:ext cx="3468600" cy="1792440"/>
          </a:xfrm>
          <a:custGeom>
            <a:avLst/>
            <a:gdLst/>
            <a:ahLst/>
            <a:rect l="l" t="t" r="r" b="b"/>
            <a:pathLst>
              <a:path w="2185" h="1129">
                <a:moveTo>
                  <a:pt x="0" y="567"/>
                </a:moveTo>
                <a:lnTo>
                  <a:pt x="492" y="12"/>
                </a:lnTo>
                <a:lnTo>
                  <a:pt x="1032" y="0"/>
                </a:lnTo>
                <a:lnTo>
                  <a:pt x="1800" y="180"/>
                </a:lnTo>
                <a:lnTo>
                  <a:pt x="2184" y="567"/>
                </a:lnTo>
                <a:lnTo>
                  <a:pt x="1752" y="960"/>
                </a:lnTo>
                <a:lnTo>
                  <a:pt x="1080" y="804"/>
                </a:lnTo>
                <a:lnTo>
                  <a:pt x="708" y="1128"/>
                </a:lnTo>
                <a:lnTo>
                  <a:pt x="192" y="912"/>
                </a:lnTo>
                <a:lnTo>
                  <a:pt x="0" y="567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62240" y="4456080"/>
            <a:ext cx="2124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e intéri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44720" y="4344840"/>
            <a:ext cx="1349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e extéri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13960" y="3884760"/>
            <a:ext cx="324720" cy="3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546960" y="4235400"/>
            <a:ext cx="56520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84200" y="622440"/>
            <a:ext cx="713736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llage carré et le théorème de Jord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84200" y="1993680"/>
            <a:ext cx="713736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102960" rIns="102960" tIns="56880" bIns="568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387600" y="3998880"/>
            <a:ext cx="38736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79680" y="4003560"/>
            <a:ext cx="389160" cy="41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76400" y="2674800"/>
            <a:ext cx="1018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4880" y="26748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19240" y="26748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48000" y="26748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73520" y="31114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1640" y="311148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16000" y="311148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44760" y="31114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81440" y="352260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9560" y="352260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23920" y="352260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52680" y="352260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81440" y="39448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9560" y="394488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23920" y="394488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52680" y="39448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91080" y="26748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19560" y="26748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26748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62320" y="2674800"/>
            <a:ext cx="1018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87840" y="31114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16320" y="31114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0680" y="31114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59080" y="311148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95760" y="352260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24240" y="352260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8600" y="352260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67360" y="352260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95760" y="39448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24240" y="39448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38600" y="39448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7360" y="39448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52960" y="26748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67320" y="26748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49720" y="311148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64080" y="31114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57640" y="352260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72000" y="352260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57640" y="394488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72000" y="394488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76400" y="4398840"/>
            <a:ext cx="1018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4880" y="439884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19240" y="439884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8000" y="439884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73520" y="48355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1640" y="483552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16000" y="483552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44760" y="48355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81440" y="524664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9560" y="524664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23920" y="524664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52680" y="524664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81440" y="56689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9560" y="566892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23920" y="566892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52680" y="56689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91080" y="4398840"/>
            <a:ext cx="101520" cy="101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19560" y="439884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33920" y="4398840"/>
            <a:ext cx="101520" cy="101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62320" y="4398840"/>
            <a:ext cx="101880" cy="101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87840" y="483552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16320" y="48355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0680" y="483552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59080" y="4835520"/>
            <a:ext cx="1018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95760" y="524664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24240" y="524664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38600" y="524664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67360" y="524664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95760" y="56689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24240" y="56689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38600" y="56689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67360" y="56689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52960" y="439884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67320" y="439884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49720" y="483552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64080" y="48355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7640" y="524664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72000" y="524664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7640" y="566892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72000" y="566892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9760" y="2938320"/>
            <a:ext cx="2573280" cy="2592360"/>
          </a:xfrm>
          <a:custGeom>
            <a:avLst/>
            <a:gdLst/>
            <a:ahLst/>
            <a:rect l="l" t="t" r="r" b="b"/>
            <a:pathLst>
              <a:path w="1621" h="1633">
                <a:moveTo>
                  <a:pt x="0" y="12"/>
                </a:moveTo>
                <a:lnTo>
                  <a:pt x="0" y="852"/>
                </a:lnTo>
                <a:lnTo>
                  <a:pt x="792" y="852"/>
                </a:lnTo>
                <a:lnTo>
                  <a:pt x="792" y="1632"/>
                </a:lnTo>
                <a:lnTo>
                  <a:pt x="1620" y="1632"/>
                </a:lnTo>
                <a:lnTo>
                  <a:pt x="1620" y="792"/>
                </a:lnTo>
                <a:lnTo>
                  <a:pt x="828" y="792"/>
                </a:lnTo>
                <a:lnTo>
                  <a:pt x="828" y="0"/>
                </a:lnTo>
                <a:lnTo>
                  <a:pt x="0" y="1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15960" y="2620800"/>
            <a:ext cx="4187880" cy="327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97600" y="2487600"/>
            <a:ext cx="228276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théorème de Jordan n'est vérifié que si un domaine est considéré en 4 connexité et l'autre domaine en 8 connex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6:44:32Z</dcterms:created>
  <dc:creator>COSTER</dc:creator>
  <dc:description/>
  <dc:language>en-US</dc:language>
  <cp:lastModifiedBy>Michel Coster</cp:lastModifiedBy>
  <cp:lastPrinted>1999-10-18T08:29:56Z</cp:lastPrinted>
  <dcterms:modified xsi:type="dcterms:W3CDTF">2001-10-09T07:29:54Z</dcterms:modified>
  <cp:revision>28</cp:revision>
  <dc:subject/>
  <dc:title>Morphologie ensembliste discrète</dc:title>
</cp:coreProperties>
</file>