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56.wmf" ContentType="image/x-wmf"/>
  <Override PartName="/ppt/media/image55.wmf" ContentType="image/x-wmf"/>
  <Override PartName="/ppt/media/image53.wmf" ContentType="image/x-wmf"/>
  <Override PartName="/ppt/media/image52.wmf" ContentType="image/x-wmf"/>
  <Override PartName="/ppt/media/image48.wmf" ContentType="image/x-wmf"/>
  <Override PartName="/ppt/media/image50.wmf" ContentType="image/x-wmf"/>
  <Override PartName="/ppt/media/image28.png" ContentType="image/png"/>
  <Override PartName="/ppt/media/image47.png" ContentType="image/png"/>
  <Override PartName="/ppt/media/image46.png" ContentType="image/png"/>
  <Override PartName="/ppt/media/image45.wmf" ContentType="image/x-wmf"/>
  <Override PartName="/ppt/media/image88.png" ContentType="image/png"/>
  <Override PartName="/ppt/media/image44.wmf" ContentType="image/x-wmf"/>
  <Override PartName="/ppt/media/image43.wmf" ContentType="image/x-wmf"/>
  <Override PartName="/ppt/media/image41.wmf" ContentType="image/x-wmf"/>
  <Override PartName="/ppt/media/image40.wmf" ContentType="image/x-wmf"/>
  <Override PartName="/ppt/media/image18.png" ContentType="image/png"/>
  <Override PartName="/ppt/media/image42.wmf" ContentType="image/x-wmf"/>
  <Override PartName="/ppt/media/image85.png" ContentType="image/png"/>
  <Override PartName="/ppt/media/image39.png" ContentType="image/png"/>
  <Override PartName="/ppt/media/image61.wmf" ContentType="image/x-wmf"/>
  <Override PartName="/ppt/media/image36.png" ContentType="image/png"/>
  <Override PartName="/ppt/media/image30.wmf" ContentType="image/x-wmf"/>
  <Override PartName="/ppt/media/image9.wmf" ContentType="image/x-wmf"/>
  <Override PartName="/ppt/media/image86.wmf" ContentType="image/x-wmf"/>
  <Override PartName="/ppt/media/image54.wmf" ContentType="image/x-wmf"/>
  <Override PartName="/ppt/media/image14.png" ContentType="image/png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6.wmf" ContentType="image/x-wmf"/>
  <Override PartName="/ppt/media/image83.wmf" ContentType="image/x-wmf"/>
  <Override PartName="/ppt/media/image51.wmf" ContentType="image/x-wmf"/>
  <Override PartName="/ppt/media/image11.png" ContentType="image/png"/>
  <Override PartName="/ppt/media/image79.wmf" ContentType="image/x-wmf"/>
  <Override PartName="/ppt/media/image29.wmf" ContentType="image/x-wmf"/>
  <Override PartName="/ppt/media/image94.wmf" ContentType="image/x-wmf"/>
  <Override PartName="/ppt/media/image10.wmf" ContentType="image/x-wmf"/>
  <Override PartName="/ppt/media/image35.wmf" ContentType="image/x-wmf"/>
  <Override PartName="/ppt/media/image65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69.wmf" ContentType="image/x-wmf"/>
  <Override PartName="/ppt/media/image2.wmf" ContentType="image/x-wmf"/>
  <Override PartName="/ppt/media/image32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105.wmf" ContentType="image/x-wmf"/>
  <Override PartName="/ppt/media/image98.wmf" ContentType="image/x-wmf"/>
  <Override PartName="/ppt/media/image104.wmf" ContentType="image/x-wmf"/>
  <Override PartName="/ppt/media/image97.wmf" ContentType="image/x-wmf"/>
  <Override PartName="/ppt/media/image60.wmf" ContentType="image/x-wmf"/>
  <Override PartName="/ppt/media/image103.wmf" ContentType="image/x-wmf"/>
  <Override PartName="/ppt/media/image96.wmf" ContentType="image/x-wmf"/>
  <Override PartName="/ppt/media/image102.wmf" ContentType="image/x-wmf"/>
  <Override PartName="/ppt/media/image95.wmf" ContentType="image/x-wmf"/>
  <Override PartName="/ppt/media/image74.wmf" ContentType="image/x-wmf"/>
  <Override PartName="/ppt/media/image89.png" ContentType="image/png"/>
  <Override PartName="/ppt/media/image101.wmf" ContentType="image/x-wmf"/>
  <Override PartName="/ppt/media/image64.wmf" ContentType="image/x-wmf"/>
  <Override PartName="/ppt/media/image99.wmf" ContentType="image/x-wmf"/>
  <Override PartName="/ppt/media/image62.wmf" ContentType="image/x-wmf"/>
  <Override PartName="/ppt/media/image63.wmf" ContentType="image/x-wmf"/>
  <Override PartName="/ppt/media/image93.wmf" ContentType="image/x-wmf"/>
  <Override PartName="/ppt/media/image91.wmf" ContentType="image/x-wmf"/>
  <Override PartName="/ppt/media/image26.png" ContentType="image/png"/>
  <Override PartName="/ppt/media/image92.wmf" ContentType="image/x-wmf"/>
  <Override PartName="/ppt/media/image27.wmf" ContentType="image/x-wmf"/>
  <Override PartName="/ppt/media/image66.png" ContentType="image/png"/>
  <Override PartName="/ppt/media/image23.wmf" ContentType="image/x-wmf"/>
  <Override PartName="/ppt/media/image22.wmf" ContentType="image/x-wmf"/>
  <Override PartName="/ppt/media/image59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67.png" ContentType="image/png"/>
  <Override PartName="/ppt/media/image24.wmf" ContentType="image/x-wmf"/>
  <Override PartName="/ppt/media/image90.wmf" ContentType="image/x-wmf"/>
  <Override PartName="/ppt/media/image25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8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907588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84200" y="4129920"/>
            <a:ext cx="713736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34830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1800" y="1993680"/>
            <a:ext cx="34830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84200" y="4129920"/>
            <a:ext cx="34830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41800" y="4129920"/>
            <a:ext cx="34830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229788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97280" y="1993680"/>
            <a:ext cx="229788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0360" y="1993680"/>
            <a:ext cx="229788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84200" y="4129920"/>
            <a:ext cx="229788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97280" y="4129920"/>
            <a:ext cx="229788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0360" y="4129920"/>
            <a:ext cx="229788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3483000" cy="408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41800" y="1993680"/>
            <a:ext cx="3483000" cy="408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384200" y="622440"/>
            <a:ext cx="7137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34830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1800" y="1993680"/>
            <a:ext cx="3483000" cy="408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84200" y="4129920"/>
            <a:ext cx="34830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3483000" cy="408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1800" y="1993680"/>
            <a:ext cx="34830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41800" y="4129920"/>
            <a:ext cx="34830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34830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1800" y="1993680"/>
            <a:ext cx="34830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84200" y="4129920"/>
            <a:ext cx="713736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87840" y="6173640"/>
            <a:ext cx="304488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orpho Ensembliste MC </a:t>
            </a:r>
            <a:fld id="{EB362369-DCA3-4857-B539-0279997406D0}" type="slidenum">
              <a:rPr b="0" lang="fr-F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image" Target="../media/image35.wmf"/><Relationship Id="rId10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6.png"/><Relationship Id="rId3" Type="http://schemas.openxmlformats.org/officeDocument/2006/relationships/image" Target="../media/image11.png"/><Relationship Id="rId4" Type="http://schemas.openxmlformats.org/officeDocument/2006/relationships/image" Target="../media/image36.png"/><Relationship Id="rId5" Type="http://schemas.openxmlformats.org/officeDocument/2006/relationships/image" Target="../media/image11.png"/><Relationship Id="rId6" Type="http://schemas.openxmlformats.org/officeDocument/2006/relationships/image" Target="../media/image36.png"/><Relationship Id="rId7" Type="http://schemas.openxmlformats.org/officeDocument/2006/relationships/image" Target="../media/image11.png"/><Relationship Id="rId8" Type="http://schemas.openxmlformats.org/officeDocument/2006/relationships/image" Target="../media/image36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37.wmf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image" Target="../media/image3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1.wmf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3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9.wmf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4.wmf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wmf"/><Relationship Id="rId4" Type="http://schemas.openxmlformats.org/officeDocument/2006/relationships/image" Target="../media/image3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60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5.wmf"/><Relationship Id="rId4" Type="http://schemas.openxmlformats.org/officeDocument/2006/relationships/image" Target="../media/image46.png"/><Relationship Id="rId5" Type="http://schemas.openxmlformats.org/officeDocument/2006/relationships/image" Target="../media/image66.png"/><Relationship Id="rId6" Type="http://schemas.openxmlformats.org/officeDocument/2006/relationships/image" Target="../media/image67.png"/><Relationship Id="rId7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2.wmf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5.wmf"/><Relationship Id="rId6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wmf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9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9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85.png"/><Relationship Id="rId6" Type="http://schemas.openxmlformats.org/officeDocument/2006/relationships/image" Target="../media/image66.png"/><Relationship Id="rId7" Type="http://schemas.openxmlformats.org/officeDocument/2006/relationships/image" Target="../media/image46.png"/><Relationship Id="rId8" Type="http://schemas.openxmlformats.org/officeDocument/2006/relationships/image" Target="../media/image85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86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87.wmf"/><Relationship Id="rId13" Type="http://schemas.openxmlformats.org/officeDocument/2006/relationships/image" Target="../media/image46.png"/><Relationship Id="rId14" Type="http://schemas.openxmlformats.org/officeDocument/2006/relationships/image" Target="../media/image46.png"/><Relationship Id="rId15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8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89.png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90.wmf"/><Relationship Id="rId15" Type="http://schemas.openxmlformats.org/officeDocument/2006/relationships/image" Target="../media/image18.png"/><Relationship Id="rId16" Type="http://schemas.openxmlformats.org/officeDocument/2006/relationships/image" Target="../media/image88.png"/><Relationship Id="rId17" Type="http://schemas.openxmlformats.org/officeDocument/2006/relationships/image" Target="../media/image89.png"/><Relationship Id="rId18" Type="http://schemas.openxmlformats.org/officeDocument/2006/relationships/oleObject" Target="../embeddings/oleObject2.bin"/><Relationship Id="rId19" Type="http://schemas.openxmlformats.org/officeDocument/2006/relationships/image" Target="../media/image91.wmf"/><Relationship Id="rId20" Type="http://schemas.openxmlformats.org/officeDocument/2006/relationships/oleObject" Target="../embeddings/oleObject3.bin"/><Relationship Id="rId21" Type="http://schemas.openxmlformats.org/officeDocument/2006/relationships/image" Target="../media/image92.wmf"/><Relationship Id="rId2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3.wmf"/><Relationship Id="rId3" Type="http://schemas.openxmlformats.org/officeDocument/2006/relationships/image" Target="../media/image94.wmf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3.wmf"/><Relationship Id="rId3" Type="http://schemas.openxmlformats.org/officeDocument/2006/relationships/image" Target="../media/image95.wmf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9.wmf"/><Relationship Id="rId7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0.wmf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1.wmf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46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2.wmf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4.wmf"/><Relationship Id="rId5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rs de morphologie mathématiq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. Cos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inuité et opérateurs ensemblistes classiq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osition du problè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uite d'ensembles fermés topologiques : F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ssage à la limite (n infini): de lim F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à  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36840" y="3822840"/>
            <a:ext cx="1269720" cy="126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41600" y="3822840"/>
            <a:ext cx="1270080" cy="126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99000" y="4584600"/>
            <a:ext cx="2565360" cy="1270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99000" y="3137040"/>
            <a:ext cx="1270080" cy="126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94640" y="3137040"/>
            <a:ext cx="1269720" cy="126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32120" y="449568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3240" y="4632480"/>
            <a:ext cx="378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40080" y="3354480"/>
            <a:ext cx="1444680" cy="36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: d = 1/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67000" y="3219480"/>
            <a:ext cx="3543120" cy="2400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26280" y="3506760"/>
            <a:ext cx="911160" cy="36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im F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0840" y="5030640"/>
            <a:ext cx="378000" cy="3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inuité et semi-continuité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fin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emi-continuité supérie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emi-continuité inférie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tinuité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emi-continuité supérieure et semi-continuité inférie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Cas des opérateurs classiq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ion, intersection, .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 opérateur continu est moins sensible au bruit  qu'un opérateur semi continu etc 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981080" y="2743200"/>
          <a:ext cx="211320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743200"/>
                    <a:ext cx="21132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1981080" y="3581280"/>
          <a:ext cx="2156040" cy="3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581280"/>
                    <a:ext cx="21560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érateurs classiques et continuité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on : opérateur conti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606680" y="2897280"/>
            <a:ext cx="6851520" cy="1522440"/>
            <a:chOff x="1606680" y="2897280"/>
            <a:chExt cx="6851520" cy="1522440"/>
          </a:xfrm>
        </p:grpSpPr>
        <p:grpSp>
          <p:nvGrpSpPr>
            <p:cNvPr id="99" name=""/>
            <p:cNvGrpSpPr/>
            <p:nvPr/>
          </p:nvGrpSpPr>
          <p:grpSpPr>
            <a:xfrm>
              <a:off x="2193840" y="3441600"/>
              <a:ext cx="1955880" cy="965160"/>
              <a:chOff x="2193840" y="3441600"/>
              <a:chExt cx="1955880" cy="965160"/>
            </a:xfrm>
          </p:grpSpPr>
          <p:sp>
            <p:nvSpPr>
              <p:cNvPr id="100" name=""/>
              <p:cNvSpPr/>
              <p:nvPr/>
            </p:nvSpPr>
            <p:spPr>
              <a:xfrm>
                <a:off x="2193840" y="3441600"/>
                <a:ext cx="965160" cy="9651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184560" y="3441600"/>
                <a:ext cx="965160" cy="9651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5851440" y="3441600"/>
              <a:ext cx="1955880" cy="965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70560" y="3670200"/>
              <a:ext cx="2717640" cy="5079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06680" y="2973240"/>
              <a:ext cx="911160" cy="36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lim F</a:t>
              </a:r>
              <a:r>
                <a:rPr b="1" lang="fr-FR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25760" y="3359160"/>
              <a:ext cx="29196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00400" y="3429000"/>
              <a:ext cx="0" cy="99072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50080" y="2897280"/>
              <a:ext cx="377640" cy="335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35640" y="3282840"/>
              <a:ext cx="36828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425840" y="2973240"/>
              <a:ext cx="527040" cy="33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7846560" y="3435480"/>
              <a:ext cx="16524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007480" y="3049560"/>
              <a:ext cx="450720" cy="33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12960" y="3670200"/>
              <a:ext cx="2717640" cy="5079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265280" y="3359160"/>
              <a:ext cx="16524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4897440" y="4186080"/>
                  <a:ext cx="103320" cy="23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aphicFrame>
        <p:nvGraphicFramePr>
          <p:cNvPr id="115" name=""/>
          <p:cNvGraphicFramePr/>
          <p:nvPr/>
        </p:nvGraphicFramePr>
        <p:xfrm>
          <a:off x="3124080" y="4876920"/>
          <a:ext cx="3919680" cy="365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24080" y="4876920"/>
                    <a:ext cx="3919680" cy="3650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érateurs classiques et continuité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section : opérateur semi-continu supérieu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606680" y="2897280"/>
            <a:ext cx="6851520" cy="1522440"/>
            <a:chOff x="1606680" y="2897280"/>
            <a:chExt cx="6851520" cy="1522440"/>
          </a:xfrm>
        </p:grpSpPr>
        <p:grpSp>
          <p:nvGrpSpPr>
            <p:cNvPr id="120" name=""/>
            <p:cNvGrpSpPr/>
            <p:nvPr/>
          </p:nvGrpSpPr>
          <p:grpSpPr>
            <a:xfrm>
              <a:off x="2193840" y="3441600"/>
              <a:ext cx="1939680" cy="965160"/>
              <a:chOff x="2193840" y="3441600"/>
              <a:chExt cx="1939680" cy="965160"/>
            </a:xfrm>
          </p:grpSpPr>
          <p:sp>
            <p:nvSpPr>
              <p:cNvPr id="121" name=""/>
              <p:cNvSpPr/>
              <p:nvPr/>
            </p:nvSpPr>
            <p:spPr>
              <a:xfrm>
                <a:off x="2193840" y="3441600"/>
                <a:ext cx="957240" cy="9651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176280" y="3441600"/>
                <a:ext cx="957240" cy="9651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5851440" y="3441600"/>
              <a:ext cx="1940040" cy="965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70560" y="3670200"/>
              <a:ext cx="2695680" cy="5079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06680" y="2973240"/>
              <a:ext cx="903240" cy="36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lim F</a:t>
              </a:r>
              <a:r>
                <a:rPr b="1" lang="fr-FR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25760" y="3359160"/>
              <a:ext cx="28872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50080" y="2897280"/>
              <a:ext cx="374400" cy="335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335640" y="3282840"/>
              <a:ext cx="36504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25840" y="2973240"/>
              <a:ext cx="527040" cy="33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7846920" y="3435480"/>
              <a:ext cx="16344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07480" y="3049560"/>
              <a:ext cx="450720" cy="33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12960" y="3670200"/>
              <a:ext cx="2695680" cy="5079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81320" y="3429000"/>
              <a:ext cx="0" cy="99072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4265640" y="3359160"/>
              <a:ext cx="16344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5" name=""/>
          <p:cNvGraphicFramePr/>
          <p:nvPr/>
        </p:nvGraphicFramePr>
        <p:xfrm>
          <a:off x="3581280" y="4800600"/>
          <a:ext cx="282096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81280" y="4800600"/>
                    <a:ext cx="2820960" cy="3682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658880" y="2832120"/>
            <a:ext cx="6675480" cy="177012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érateurs classiques et continuité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émentation : opérateur semi-continu inférieu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93840" y="3427560"/>
            <a:ext cx="965160" cy="965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27400" y="3427560"/>
            <a:ext cx="965160" cy="965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51440" y="3441600"/>
            <a:ext cx="1955880" cy="965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0880" y="3002040"/>
            <a:ext cx="911160" cy="36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im F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25760" y="3359160"/>
            <a:ext cx="29196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50080" y="2897280"/>
            <a:ext cx="377640" cy="33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35640" y="3282840"/>
            <a:ext cx="368280" cy="29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95720" y="2841480"/>
            <a:ext cx="0" cy="173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191120" y="4952880"/>
          <a:ext cx="1771560" cy="4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4952880"/>
                    <a:ext cx="1771560" cy="4287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1682640" y="5573880"/>
            <a:ext cx="6626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.B. L'union est le plus robuste des opérateurs class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phologie ensemblist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ropriétés topologique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otions de topologi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posante connexe et simplement connex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ractéristiques topologiques des surfa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oméomorphis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priétés topologiq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éservation de la connexité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omotopi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ions de topologi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ante connexe et simplement connex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293480" y="1613160"/>
            <a:ext cx="4033800" cy="4276440"/>
            <a:chOff x="1293480" y="1613160"/>
            <a:chExt cx="4033800" cy="4276440"/>
          </a:xfrm>
        </p:grpSpPr>
        <p:sp>
          <p:nvSpPr>
            <p:cNvPr id="156" name=""/>
            <p:cNvSpPr/>
            <p:nvPr/>
          </p:nvSpPr>
          <p:spPr>
            <a:xfrm>
              <a:off x="1673280" y="2392200"/>
              <a:ext cx="3273480" cy="283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95400" y="2871720"/>
              <a:ext cx="2587680" cy="2001960"/>
            </a:xfrm>
            <a:custGeom>
              <a:avLst/>
              <a:gdLst/>
              <a:ahLst/>
              <a:rect l="l" t="t" r="r" b="b"/>
              <a:pathLst>
                <a:path w="1630" h="1261">
                  <a:moveTo>
                    <a:pt x="198" y="666"/>
                  </a:moveTo>
                  <a:lnTo>
                    <a:pt x="234" y="675"/>
                  </a:lnTo>
                  <a:lnTo>
                    <a:pt x="261" y="657"/>
                  </a:lnTo>
                  <a:lnTo>
                    <a:pt x="279" y="630"/>
                  </a:lnTo>
                  <a:lnTo>
                    <a:pt x="288" y="603"/>
                  </a:lnTo>
                  <a:lnTo>
                    <a:pt x="297" y="522"/>
                  </a:lnTo>
                  <a:lnTo>
                    <a:pt x="297" y="477"/>
                  </a:lnTo>
                  <a:lnTo>
                    <a:pt x="297" y="423"/>
                  </a:lnTo>
                  <a:lnTo>
                    <a:pt x="297" y="378"/>
                  </a:lnTo>
                  <a:lnTo>
                    <a:pt x="306" y="297"/>
                  </a:lnTo>
                  <a:lnTo>
                    <a:pt x="306" y="270"/>
                  </a:lnTo>
                  <a:lnTo>
                    <a:pt x="306" y="243"/>
                  </a:lnTo>
                  <a:lnTo>
                    <a:pt x="315" y="216"/>
                  </a:lnTo>
                  <a:lnTo>
                    <a:pt x="333" y="171"/>
                  </a:lnTo>
                  <a:lnTo>
                    <a:pt x="342" y="144"/>
                  </a:lnTo>
                  <a:lnTo>
                    <a:pt x="360" y="117"/>
                  </a:lnTo>
                  <a:lnTo>
                    <a:pt x="387" y="108"/>
                  </a:lnTo>
                  <a:lnTo>
                    <a:pt x="414" y="99"/>
                  </a:lnTo>
                  <a:lnTo>
                    <a:pt x="450" y="81"/>
                  </a:lnTo>
                  <a:lnTo>
                    <a:pt x="486" y="63"/>
                  </a:lnTo>
                  <a:lnTo>
                    <a:pt x="531" y="36"/>
                  </a:lnTo>
                  <a:lnTo>
                    <a:pt x="558" y="18"/>
                  </a:lnTo>
                  <a:lnTo>
                    <a:pt x="603" y="9"/>
                  </a:lnTo>
                  <a:lnTo>
                    <a:pt x="639" y="0"/>
                  </a:lnTo>
                  <a:lnTo>
                    <a:pt x="702" y="0"/>
                  </a:lnTo>
                  <a:lnTo>
                    <a:pt x="729" y="0"/>
                  </a:lnTo>
                  <a:lnTo>
                    <a:pt x="756" y="0"/>
                  </a:lnTo>
                  <a:lnTo>
                    <a:pt x="801" y="0"/>
                  </a:lnTo>
                  <a:lnTo>
                    <a:pt x="837" y="18"/>
                  </a:lnTo>
                  <a:lnTo>
                    <a:pt x="873" y="18"/>
                  </a:lnTo>
                  <a:lnTo>
                    <a:pt x="927" y="18"/>
                  </a:lnTo>
                  <a:lnTo>
                    <a:pt x="954" y="27"/>
                  </a:lnTo>
                  <a:lnTo>
                    <a:pt x="990" y="27"/>
                  </a:lnTo>
                  <a:lnTo>
                    <a:pt x="1026" y="27"/>
                  </a:lnTo>
                  <a:lnTo>
                    <a:pt x="1062" y="27"/>
                  </a:lnTo>
                  <a:lnTo>
                    <a:pt x="1089" y="27"/>
                  </a:lnTo>
                  <a:lnTo>
                    <a:pt x="1152" y="18"/>
                  </a:lnTo>
                  <a:lnTo>
                    <a:pt x="1188" y="18"/>
                  </a:lnTo>
                  <a:lnTo>
                    <a:pt x="1233" y="18"/>
                  </a:lnTo>
                  <a:lnTo>
                    <a:pt x="1296" y="36"/>
                  </a:lnTo>
                  <a:lnTo>
                    <a:pt x="1368" y="45"/>
                  </a:lnTo>
                  <a:lnTo>
                    <a:pt x="1404" y="54"/>
                  </a:lnTo>
                  <a:lnTo>
                    <a:pt x="1431" y="63"/>
                  </a:lnTo>
                  <a:lnTo>
                    <a:pt x="1458" y="72"/>
                  </a:lnTo>
                  <a:lnTo>
                    <a:pt x="1494" y="99"/>
                  </a:lnTo>
                  <a:lnTo>
                    <a:pt x="1521" y="108"/>
                  </a:lnTo>
                  <a:lnTo>
                    <a:pt x="1539" y="135"/>
                  </a:lnTo>
                  <a:lnTo>
                    <a:pt x="1566" y="171"/>
                  </a:lnTo>
                  <a:lnTo>
                    <a:pt x="1584" y="216"/>
                  </a:lnTo>
                  <a:lnTo>
                    <a:pt x="1593" y="243"/>
                  </a:lnTo>
                  <a:lnTo>
                    <a:pt x="1611" y="288"/>
                  </a:lnTo>
                  <a:lnTo>
                    <a:pt x="1611" y="315"/>
                  </a:lnTo>
                  <a:lnTo>
                    <a:pt x="1620" y="360"/>
                  </a:lnTo>
                  <a:lnTo>
                    <a:pt x="1620" y="405"/>
                  </a:lnTo>
                  <a:lnTo>
                    <a:pt x="1629" y="432"/>
                  </a:lnTo>
                  <a:lnTo>
                    <a:pt x="1629" y="477"/>
                  </a:lnTo>
                  <a:lnTo>
                    <a:pt x="1629" y="504"/>
                  </a:lnTo>
                  <a:lnTo>
                    <a:pt x="1620" y="567"/>
                  </a:lnTo>
                  <a:lnTo>
                    <a:pt x="1611" y="594"/>
                  </a:lnTo>
                  <a:lnTo>
                    <a:pt x="1602" y="621"/>
                  </a:lnTo>
                  <a:lnTo>
                    <a:pt x="1593" y="648"/>
                  </a:lnTo>
                  <a:lnTo>
                    <a:pt x="1584" y="675"/>
                  </a:lnTo>
                  <a:lnTo>
                    <a:pt x="1566" y="711"/>
                  </a:lnTo>
                  <a:lnTo>
                    <a:pt x="1566" y="738"/>
                  </a:lnTo>
                  <a:lnTo>
                    <a:pt x="1539" y="783"/>
                  </a:lnTo>
                  <a:lnTo>
                    <a:pt x="1512" y="837"/>
                  </a:lnTo>
                  <a:lnTo>
                    <a:pt x="1476" y="882"/>
                  </a:lnTo>
                  <a:lnTo>
                    <a:pt x="1458" y="909"/>
                  </a:lnTo>
                  <a:lnTo>
                    <a:pt x="1422" y="945"/>
                  </a:lnTo>
                  <a:lnTo>
                    <a:pt x="1359" y="999"/>
                  </a:lnTo>
                  <a:lnTo>
                    <a:pt x="1314" y="1044"/>
                  </a:lnTo>
                  <a:lnTo>
                    <a:pt x="1278" y="1071"/>
                  </a:lnTo>
                  <a:lnTo>
                    <a:pt x="1251" y="1080"/>
                  </a:lnTo>
                  <a:lnTo>
                    <a:pt x="1206" y="1116"/>
                  </a:lnTo>
                  <a:lnTo>
                    <a:pt x="1179" y="1134"/>
                  </a:lnTo>
                  <a:lnTo>
                    <a:pt x="1134" y="1152"/>
                  </a:lnTo>
                  <a:lnTo>
                    <a:pt x="1098" y="1170"/>
                  </a:lnTo>
                  <a:lnTo>
                    <a:pt x="1053" y="1188"/>
                  </a:lnTo>
                  <a:lnTo>
                    <a:pt x="1017" y="1197"/>
                  </a:lnTo>
                  <a:lnTo>
                    <a:pt x="990" y="1206"/>
                  </a:lnTo>
                  <a:lnTo>
                    <a:pt x="963" y="1215"/>
                  </a:lnTo>
                  <a:lnTo>
                    <a:pt x="927" y="1224"/>
                  </a:lnTo>
                  <a:lnTo>
                    <a:pt x="900" y="1233"/>
                  </a:lnTo>
                  <a:lnTo>
                    <a:pt x="873" y="1242"/>
                  </a:lnTo>
                  <a:lnTo>
                    <a:pt x="846" y="1242"/>
                  </a:lnTo>
                  <a:lnTo>
                    <a:pt x="819" y="1251"/>
                  </a:lnTo>
                  <a:lnTo>
                    <a:pt x="792" y="1251"/>
                  </a:lnTo>
                  <a:lnTo>
                    <a:pt x="765" y="1251"/>
                  </a:lnTo>
                  <a:lnTo>
                    <a:pt x="693" y="1260"/>
                  </a:lnTo>
                  <a:lnTo>
                    <a:pt x="666" y="1260"/>
                  </a:lnTo>
                  <a:lnTo>
                    <a:pt x="630" y="1260"/>
                  </a:lnTo>
                  <a:lnTo>
                    <a:pt x="594" y="1260"/>
                  </a:lnTo>
                  <a:lnTo>
                    <a:pt x="558" y="1251"/>
                  </a:lnTo>
                  <a:lnTo>
                    <a:pt x="486" y="1215"/>
                  </a:lnTo>
                  <a:lnTo>
                    <a:pt x="441" y="1188"/>
                  </a:lnTo>
                  <a:lnTo>
                    <a:pt x="396" y="1161"/>
                  </a:lnTo>
                  <a:lnTo>
                    <a:pt x="369" y="1134"/>
                  </a:lnTo>
                  <a:lnTo>
                    <a:pt x="342" y="1098"/>
                  </a:lnTo>
                  <a:lnTo>
                    <a:pt x="315" y="1062"/>
                  </a:lnTo>
                  <a:lnTo>
                    <a:pt x="288" y="1026"/>
                  </a:lnTo>
                  <a:lnTo>
                    <a:pt x="261" y="990"/>
                  </a:lnTo>
                  <a:lnTo>
                    <a:pt x="243" y="963"/>
                  </a:lnTo>
                  <a:lnTo>
                    <a:pt x="216" y="936"/>
                  </a:lnTo>
                  <a:lnTo>
                    <a:pt x="189" y="909"/>
                  </a:lnTo>
                  <a:lnTo>
                    <a:pt x="171" y="882"/>
                  </a:lnTo>
                  <a:lnTo>
                    <a:pt x="153" y="855"/>
                  </a:lnTo>
                  <a:lnTo>
                    <a:pt x="126" y="828"/>
                  </a:lnTo>
                  <a:lnTo>
                    <a:pt x="108" y="801"/>
                  </a:lnTo>
                  <a:lnTo>
                    <a:pt x="90" y="774"/>
                  </a:lnTo>
                  <a:lnTo>
                    <a:pt x="72" y="747"/>
                  </a:lnTo>
                  <a:lnTo>
                    <a:pt x="54" y="720"/>
                  </a:lnTo>
                  <a:lnTo>
                    <a:pt x="27" y="693"/>
                  </a:lnTo>
                  <a:lnTo>
                    <a:pt x="18" y="666"/>
                  </a:lnTo>
                  <a:lnTo>
                    <a:pt x="9" y="639"/>
                  </a:lnTo>
                  <a:lnTo>
                    <a:pt x="0" y="612"/>
                  </a:lnTo>
                  <a:lnTo>
                    <a:pt x="0" y="585"/>
                  </a:lnTo>
                  <a:lnTo>
                    <a:pt x="27" y="567"/>
                  </a:lnTo>
                  <a:lnTo>
                    <a:pt x="54" y="567"/>
                  </a:lnTo>
                  <a:lnTo>
                    <a:pt x="81" y="567"/>
                  </a:lnTo>
                  <a:lnTo>
                    <a:pt x="108" y="585"/>
                  </a:lnTo>
                  <a:lnTo>
                    <a:pt x="135" y="603"/>
                  </a:lnTo>
                  <a:lnTo>
                    <a:pt x="162" y="621"/>
                  </a:lnTo>
                  <a:lnTo>
                    <a:pt x="171" y="648"/>
                  </a:lnTo>
                  <a:lnTo>
                    <a:pt x="198" y="657"/>
                  </a:lnTo>
                  <a:lnTo>
                    <a:pt x="198" y="666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93480" y="1613160"/>
              <a:ext cx="2746440" cy="294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38440" y="3057480"/>
              <a:ext cx="2688840" cy="283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594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5941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59280" y="30067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7040" y="4402080"/>
              <a:ext cx="144720" cy="144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40160" y="2558880"/>
              <a:ext cx="439920" cy="400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06560" y="4626000"/>
              <a:ext cx="439920" cy="400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4068360" y="2927520"/>
              <a:ext cx="268200" cy="10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365200" y="4459320"/>
              <a:ext cx="331920" cy="15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11600" y="3273480"/>
              <a:ext cx="496800" cy="36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92440" y="3797280"/>
              <a:ext cx="496800" cy="36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579560" y="1613160"/>
            <a:ext cx="4033800" cy="4276440"/>
            <a:chOff x="4579560" y="1613160"/>
            <a:chExt cx="4033800" cy="4276440"/>
          </a:xfrm>
        </p:grpSpPr>
        <p:sp>
          <p:nvSpPr>
            <p:cNvPr id="169" name=""/>
            <p:cNvSpPr/>
            <p:nvPr/>
          </p:nvSpPr>
          <p:spPr>
            <a:xfrm>
              <a:off x="4959360" y="2392200"/>
              <a:ext cx="3273480" cy="283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95800" y="2585880"/>
              <a:ext cx="2673360" cy="2287800"/>
            </a:xfrm>
            <a:custGeom>
              <a:avLst/>
              <a:gdLst/>
              <a:ahLst/>
              <a:rect l="l" t="t" r="r" b="b"/>
              <a:pathLst>
                <a:path w="1684" h="1441">
                  <a:moveTo>
                    <a:pt x="205" y="761"/>
                  </a:moveTo>
                  <a:lnTo>
                    <a:pt x="242" y="771"/>
                  </a:lnTo>
                  <a:lnTo>
                    <a:pt x="270" y="751"/>
                  </a:lnTo>
                  <a:lnTo>
                    <a:pt x="288" y="720"/>
                  </a:lnTo>
                  <a:lnTo>
                    <a:pt x="298" y="689"/>
                  </a:lnTo>
                  <a:lnTo>
                    <a:pt x="307" y="597"/>
                  </a:lnTo>
                  <a:lnTo>
                    <a:pt x="307" y="545"/>
                  </a:lnTo>
                  <a:lnTo>
                    <a:pt x="307" y="483"/>
                  </a:lnTo>
                  <a:lnTo>
                    <a:pt x="307" y="432"/>
                  </a:lnTo>
                  <a:lnTo>
                    <a:pt x="316" y="339"/>
                  </a:lnTo>
                  <a:lnTo>
                    <a:pt x="316" y="309"/>
                  </a:lnTo>
                  <a:lnTo>
                    <a:pt x="316" y="278"/>
                  </a:lnTo>
                  <a:lnTo>
                    <a:pt x="325" y="247"/>
                  </a:lnTo>
                  <a:lnTo>
                    <a:pt x="344" y="195"/>
                  </a:lnTo>
                  <a:lnTo>
                    <a:pt x="353" y="165"/>
                  </a:lnTo>
                  <a:lnTo>
                    <a:pt x="372" y="134"/>
                  </a:lnTo>
                  <a:lnTo>
                    <a:pt x="400" y="123"/>
                  </a:lnTo>
                  <a:lnTo>
                    <a:pt x="428" y="113"/>
                  </a:lnTo>
                  <a:lnTo>
                    <a:pt x="465" y="93"/>
                  </a:lnTo>
                  <a:lnTo>
                    <a:pt x="502" y="72"/>
                  </a:lnTo>
                  <a:lnTo>
                    <a:pt x="549" y="41"/>
                  </a:lnTo>
                  <a:lnTo>
                    <a:pt x="576" y="21"/>
                  </a:lnTo>
                  <a:lnTo>
                    <a:pt x="623" y="10"/>
                  </a:lnTo>
                  <a:lnTo>
                    <a:pt x="660" y="0"/>
                  </a:lnTo>
                  <a:lnTo>
                    <a:pt x="725" y="0"/>
                  </a:lnTo>
                  <a:lnTo>
                    <a:pt x="753" y="0"/>
                  </a:lnTo>
                  <a:lnTo>
                    <a:pt x="781" y="0"/>
                  </a:lnTo>
                  <a:lnTo>
                    <a:pt x="828" y="0"/>
                  </a:lnTo>
                  <a:lnTo>
                    <a:pt x="865" y="21"/>
                  </a:lnTo>
                  <a:lnTo>
                    <a:pt x="902" y="21"/>
                  </a:lnTo>
                  <a:lnTo>
                    <a:pt x="958" y="21"/>
                  </a:lnTo>
                  <a:lnTo>
                    <a:pt x="986" y="31"/>
                  </a:lnTo>
                  <a:lnTo>
                    <a:pt x="1023" y="31"/>
                  </a:lnTo>
                  <a:lnTo>
                    <a:pt x="1060" y="31"/>
                  </a:lnTo>
                  <a:lnTo>
                    <a:pt x="1097" y="31"/>
                  </a:lnTo>
                  <a:lnTo>
                    <a:pt x="1125" y="31"/>
                  </a:lnTo>
                  <a:lnTo>
                    <a:pt x="1190" y="21"/>
                  </a:lnTo>
                  <a:lnTo>
                    <a:pt x="1227" y="21"/>
                  </a:lnTo>
                  <a:lnTo>
                    <a:pt x="1274" y="21"/>
                  </a:lnTo>
                  <a:lnTo>
                    <a:pt x="1339" y="41"/>
                  </a:lnTo>
                  <a:lnTo>
                    <a:pt x="1413" y="51"/>
                  </a:lnTo>
                  <a:lnTo>
                    <a:pt x="1451" y="62"/>
                  </a:lnTo>
                  <a:lnTo>
                    <a:pt x="1478" y="72"/>
                  </a:lnTo>
                  <a:lnTo>
                    <a:pt x="1506" y="82"/>
                  </a:lnTo>
                  <a:lnTo>
                    <a:pt x="1544" y="113"/>
                  </a:lnTo>
                  <a:lnTo>
                    <a:pt x="1571" y="123"/>
                  </a:lnTo>
                  <a:lnTo>
                    <a:pt x="1590" y="154"/>
                  </a:lnTo>
                  <a:lnTo>
                    <a:pt x="1618" y="195"/>
                  </a:lnTo>
                  <a:lnTo>
                    <a:pt x="1637" y="247"/>
                  </a:lnTo>
                  <a:lnTo>
                    <a:pt x="1646" y="278"/>
                  </a:lnTo>
                  <a:lnTo>
                    <a:pt x="1664" y="329"/>
                  </a:lnTo>
                  <a:lnTo>
                    <a:pt x="1664" y="360"/>
                  </a:lnTo>
                  <a:lnTo>
                    <a:pt x="1674" y="411"/>
                  </a:lnTo>
                  <a:lnTo>
                    <a:pt x="1674" y="463"/>
                  </a:lnTo>
                  <a:lnTo>
                    <a:pt x="1683" y="494"/>
                  </a:lnTo>
                  <a:lnTo>
                    <a:pt x="1683" y="545"/>
                  </a:lnTo>
                  <a:lnTo>
                    <a:pt x="1683" y="576"/>
                  </a:lnTo>
                  <a:lnTo>
                    <a:pt x="1674" y="648"/>
                  </a:lnTo>
                  <a:lnTo>
                    <a:pt x="1664" y="679"/>
                  </a:lnTo>
                  <a:lnTo>
                    <a:pt x="1655" y="710"/>
                  </a:lnTo>
                  <a:lnTo>
                    <a:pt x="1646" y="741"/>
                  </a:lnTo>
                  <a:lnTo>
                    <a:pt x="1637" y="771"/>
                  </a:lnTo>
                  <a:lnTo>
                    <a:pt x="1618" y="813"/>
                  </a:lnTo>
                  <a:lnTo>
                    <a:pt x="1618" y="843"/>
                  </a:lnTo>
                  <a:lnTo>
                    <a:pt x="1590" y="895"/>
                  </a:lnTo>
                  <a:lnTo>
                    <a:pt x="1562" y="957"/>
                  </a:lnTo>
                  <a:lnTo>
                    <a:pt x="1525" y="1008"/>
                  </a:lnTo>
                  <a:lnTo>
                    <a:pt x="1506" y="1039"/>
                  </a:lnTo>
                  <a:lnTo>
                    <a:pt x="1469" y="1080"/>
                  </a:lnTo>
                  <a:lnTo>
                    <a:pt x="1404" y="1142"/>
                  </a:lnTo>
                  <a:lnTo>
                    <a:pt x="1358" y="1193"/>
                  </a:lnTo>
                  <a:lnTo>
                    <a:pt x="1320" y="1224"/>
                  </a:lnTo>
                  <a:lnTo>
                    <a:pt x="1292" y="1234"/>
                  </a:lnTo>
                  <a:lnTo>
                    <a:pt x="1246" y="1275"/>
                  </a:lnTo>
                  <a:lnTo>
                    <a:pt x="1218" y="1296"/>
                  </a:lnTo>
                  <a:lnTo>
                    <a:pt x="1172" y="1317"/>
                  </a:lnTo>
                  <a:lnTo>
                    <a:pt x="1134" y="1337"/>
                  </a:lnTo>
                  <a:lnTo>
                    <a:pt x="1088" y="1358"/>
                  </a:lnTo>
                  <a:lnTo>
                    <a:pt x="1051" y="1368"/>
                  </a:lnTo>
                  <a:lnTo>
                    <a:pt x="1023" y="1378"/>
                  </a:lnTo>
                  <a:lnTo>
                    <a:pt x="995" y="1389"/>
                  </a:lnTo>
                  <a:lnTo>
                    <a:pt x="958" y="1399"/>
                  </a:lnTo>
                  <a:lnTo>
                    <a:pt x="930" y="1409"/>
                  </a:lnTo>
                  <a:lnTo>
                    <a:pt x="902" y="1419"/>
                  </a:lnTo>
                  <a:lnTo>
                    <a:pt x="874" y="1419"/>
                  </a:lnTo>
                  <a:lnTo>
                    <a:pt x="846" y="1430"/>
                  </a:lnTo>
                  <a:lnTo>
                    <a:pt x="818" y="1430"/>
                  </a:lnTo>
                  <a:lnTo>
                    <a:pt x="790" y="1430"/>
                  </a:lnTo>
                  <a:lnTo>
                    <a:pt x="716" y="1440"/>
                  </a:lnTo>
                  <a:lnTo>
                    <a:pt x="688" y="1440"/>
                  </a:lnTo>
                  <a:lnTo>
                    <a:pt x="651" y="1440"/>
                  </a:lnTo>
                  <a:lnTo>
                    <a:pt x="614" y="1440"/>
                  </a:lnTo>
                  <a:lnTo>
                    <a:pt x="576" y="1430"/>
                  </a:lnTo>
                  <a:lnTo>
                    <a:pt x="502" y="1389"/>
                  </a:lnTo>
                  <a:lnTo>
                    <a:pt x="456" y="1358"/>
                  </a:lnTo>
                  <a:lnTo>
                    <a:pt x="409" y="1327"/>
                  </a:lnTo>
                  <a:lnTo>
                    <a:pt x="381" y="1296"/>
                  </a:lnTo>
                  <a:lnTo>
                    <a:pt x="353" y="1255"/>
                  </a:lnTo>
                  <a:lnTo>
                    <a:pt x="325" y="1214"/>
                  </a:lnTo>
                  <a:lnTo>
                    <a:pt x="298" y="1173"/>
                  </a:lnTo>
                  <a:lnTo>
                    <a:pt x="270" y="1131"/>
                  </a:lnTo>
                  <a:lnTo>
                    <a:pt x="251" y="1101"/>
                  </a:lnTo>
                  <a:lnTo>
                    <a:pt x="223" y="1070"/>
                  </a:lnTo>
                  <a:lnTo>
                    <a:pt x="195" y="1039"/>
                  </a:lnTo>
                  <a:lnTo>
                    <a:pt x="177" y="1008"/>
                  </a:lnTo>
                  <a:lnTo>
                    <a:pt x="158" y="977"/>
                  </a:lnTo>
                  <a:lnTo>
                    <a:pt x="130" y="946"/>
                  </a:lnTo>
                  <a:lnTo>
                    <a:pt x="112" y="915"/>
                  </a:lnTo>
                  <a:lnTo>
                    <a:pt x="93" y="885"/>
                  </a:lnTo>
                  <a:lnTo>
                    <a:pt x="74" y="854"/>
                  </a:lnTo>
                  <a:lnTo>
                    <a:pt x="56" y="823"/>
                  </a:lnTo>
                  <a:lnTo>
                    <a:pt x="28" y="792"/>
                  </a:lnTo>
                  <a:lnTo>
                    <a:pt x="19" y="761"/>
                  </a:lnTo>
                  <a:lnTo>
                    <a:pt x="9" y="730"/>
                  </a:lnTo>
                  <a:lnTo>
                    <a:pt x="0" y="699"/>
                  </a:lnTo>
                  <a:lnTo>
                    <a:pt x="0" y="669"/>
                  </a:lnTo>
                  <a:lnTo>
                    <a:pt x="28" y="648"/>
                  </a:lnTo>
                  <a:lnTo>
                    <a:pt x="56" y="648"/>
                  </a:lnTo>
                  <a:lnTo>
                    <a:pt x="84" y="648"/>
                  </a:lnTo>
                  <a:lnTo>
                    <a:pt x="112" y="669"/>
                  </a:lnTo>
                  <a:lnTo>
                    <a:pt x="139" y="689"/>
                  </a:lnTo>
                  <a:lnTo>
                    <a:pt x="167" y="710"/>
                  </a:lnTo>
                  <a:lnTo>
                    <a:pt x="177" y="741"/>
                  </a:lnTo>
                  <a:lnTo>
                    <a:pt x="205" y="751"/>
                  </a:lnTo>
                  <a:lnTo>
                    <a:pt x="205" y="761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9560" y="1613160"/>
              <a:ext cx="2746440" cy="294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24520" y="3057480"/>
              <a:ext cx="2688840" cy="283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594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5941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45360" y="30067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83120" y="4402080"/>
              <a:ext cx="144720" cy="144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26240" y="2558880"/>
              <a:ext cx="439920" cy="400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92640" y="4626000"/>
              <a:ext cx="439920" cy="400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7354440" y="2927520"/>
              <a:ext cx="268200" cy="10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5651640" y="4459320"/>
              <a:ext cx="331560" cy="15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97680" y="3273480"/>
              <a:ext cx="496800" cy="36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78520" y="3797280"/>
              <a:ext cx="497160" cy="36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4520" y="3755880"/>
              <a:ext cx="546120" cy="446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1711440" y="5645160"/>
            <a:ext cx="53258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t 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chemins dans X,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t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oint de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64040" y="5245200"/>
            <a:ext cx="3264120" cy="30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5716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sante connex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77960" y="5245200"/>
            <a:ext cx="3263760" cy="30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sante simplement connex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actéristiques topologiques des su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mbre de surf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mbre de bords d'une su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73360" y="2992320"/>
            <a:ext cx="3173400" cy="2235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59360" y="2992320"/>
            <a:ext cx="3173400" cy="2235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08120" y="3370320"/>
            <a:ext cx="1675080" cy="167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8181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80000" y="3341520"/>
            <a:ext cx="2060640" cy="1446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8181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51560" y="3913200"/>
            <a:ext cx="345960" cy="345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81280" y="5245200"/>
            <a:ext cx="3160440" cy="33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face sphérique sans b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64040" y="5245200"/>
            <a:ext cx="3160800" cy="33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face avec un b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actéristiques topologiques des su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re d'une surface g(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mbre de coupures possibles sans perdre la connexité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30520" y="2892600"/>
            <a:ext cx="3216240" cy="233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59360" y="2892600"/>
            <a:ext cx="3216240" cy="233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38480" y="3257640"/>
            <a:ext cx="2187360" cy="1730160"/>
          </a:xfrm>
          <a:custGeom>
            <a:avLst/>
            <a:gdLst/>
            <a:ahLst/>
            <a:rect l="l" t="t" r="r" b="b"/>
            <a:pathLst>
              <a:path w="1378" h="1090">
                <a:moveTo>
                  <a:pt x="0" y="468"/>
                </a:moveTo>
                <a:lnTo>
                  <a:pt x="0" y="441"/>
                </a:lnTo>
                <a:lnTo>
                  <a:pt x="0" y="396"/>
                </a:lnTo>
                <a:lnTo>
                  <a:pt x="0" y="360"/>
                </a:lnTo>
                <a:lnTo>
                  <a:pt x="0" y="315"/>
                </a:lnTo>
                <a:lnTo>
                  <a:pt x="0" y="288"/>
                </a:lnTo>
                <a:lnTo>
                  <a:pt x="18" y="234"/>
                </a:lnTo>
                <a:lnTo>
                  <a:pt x="36" y="207"/>
                </a:lnTo>
                <a:lnTo>
                  <a:pt x="90" y="153"/>
                </a:lnTo>
                <a:lnTo>
                  <a:pt x="126" y="117"/>
                </a:lnTo>
                <a:lnTo>
                  <a:pt x="189" y="54"/>
                </a:lnTo>
                <a:lnTo>
                  <a:pt x="225" y="27"/>
                </a:lnTo>
                <a:lnTo>
                  <a:pt x="261" y="0"/>
                </a:lnTo>
                <a:lnTo>
                  <a:pt x="288" y="0"/>
                </a:lnTo>
                <a:lnTo>
                  <a:pt x="324" y="9"/>
                </a:lnTo>
                <a:lnTo>
                  <a:pt x="369" y="27"/>
                </a:lnTo>
                <a:lnTo>
                  <a:pt x="396" y="27"/>
                </a:lnTo>
                <a:lnTo>
                  <a:pt x="495" y="27"/>
                </a:lnTo>
                <a:lnTo>
                  <a:pt x="540" y="27"/>
                </a:lnTo>
                <a:lnTo>
                  <a:pt x="567" y="27"/>
                </a:lnTo>
                <a:lnTo>
                  <a:pt x="594" y="27"/>
                </a:lnTo>
                <a:lnTo>
                  <a:pt x="666" y="0"/>
                </a:lnTo>
                <a:lnTo>
                  <a:pt x="711" y="0"/>
                </a:lnTo>
                <a:lnTo>
                  <a:pt x="756" y="0"/>
                </a:lnTo>
                <a:lnTo>
                  <a:pt x="801" y="0"/>
                </a:lnTo>
                <a:lnTo>
                  <a:pt x="837" y="9"/>
                </a:lnTo>
                <a:lnTo>
                  <a:pt x="873" y="18"/>
                </a:lnTo>
                <a:lnTo>
                  <a:pt x="900" y="36"/>
                </a:lnTo>
                <a:lnTo>
                  <a:pt x="936" y="54"/>
                </a:lnTo>
                <a:lnTo>
                  <a:pt x="963" y="72"/>
                </a:lnTo>
                <a:lnTo>
                  <a:pt x="999" y="99"/>
                </a:lnTo>
                <a:lnTo>
                  <a:pt x="1062" y="135"/>
                </a:lnTo>
                <a:lnTo>
                  <a:pt x="1098" y="153"/>
                </a:lnTo>
                <a:lnTo>
                  <a:pt x="1143" y="189"/>
                </a:lnTo>
                <a:lnTo>
                  <a:pt x="1188" y="216"/>
                </a:lnTo>
                <a:lnTo>
                  <a:pt x="1224" y="252"/>
                </a:lnTo>
                <a:lnTo>
                  <a:pt x="1251" y="288"/>
                </a:lnTo>
                <a:lnTo>
                  <a:pt x="1269" y="324"/>
                </a:lnTo>
                <a:lnTo>
                  <a:pt x="1296" y="351"/>
                </a:lnTo>
                <a:lnTo>
                  <a:pt x="1314" y="396"/>
                </a:lnTo>
                <a:lnTo>
                  <a:pt x="1332" y="432"/>
                </a:lnTo>
                <a:lnTo>
                  <a:pt x="1350" y="459"/>
                </a:lnTo>
                <a:lnTo>
                  <a:pt x="1368" y="504"/>
                </a:lnTo>
                <a:lnTo>
                  <a:pt x="1368" y="531"/>
                </a:lnTo>
                <a:lnTo>
                  <a:pt x="1368" y="576"/>
                </a:lnTo>
                <a:lnTo>
                  <a:pt x="1368" y="621"/>
                </a:lnTo>
                <a:lnTo>
                  <a:pt x="1368" y="711"/>
                </a:lnTo>
                <a:lnTo>
                  <a:pt x="1377" y="756"/>
                </a:lnTo>
                <a:lnTo>
                  <a:pt x="1377" y="792"/>
                </a:lnTo>
                <a:lnTo>
                  <a:pt x="1377" y="828"/>
                </a:lnTo>
                <a:lnTo>
                  <a:pt x="1377" y="864"/>
                </a:lnTo>
                <a:lnTo>
                  <a:pt x="1359" y="909"/>
                </a:lnTo>
                <a:lnTo>
                  <a:pt x="1341" y="936"/>
                </a:lnTo>
                <a:lnTo>
                  <a:pt x="1314" y="963"/>
                </a:lnTo>
                <a:lnTo>
                  <a:pt x="1287" y="990"/>
                </a:lnTo>
                <a:lnTo>
                  <a:pt x="1260" y="999"/>
                </a:lnTo>
                <a:lnTo>
                  <a:pt x="1233" y="999"/>
                </a:lnTo>
                <a:lnTo>
                  <a:pt x="1206" y="999"/>
                </a:lnTo>
                <a:lnTo>
                  <a:pt x="1170" y="999"/>
                </a:lnTo>
                <a:lnTo>
                  <a:pt x="1143" y="999"/>
                </a:lnTo>
                <a:lnTo>
                  <a:pt x="1116" y="999"/>
                </a:lnTo>
                <a:lnTo>
                  <a:pt x="1080" y="999"/>
                </a:lnTo>
                <a:lnTo>
                  <a:pt x="1035" y="999"/>
                </a:lnTo>
                <a:lnTo>
                  <a:pt x="1008" y="999"/>
                </a:lnTo>
                <a:lnTo>
                  <a:pt x="963" y="1008"/>
                </a:lnTo>
                <a:lnTo>
                  <a:pt x="918" y="1017"/>
                </a:lnTo>
                <a:lnTo>
                  <a:pt x="882" y="1026"/>
                </a:lnTo>
                <a:lnTo>
                  <a:pt x="855" y="1026"/>
                </a:lnTo>
                <a:lnTo>
                  <a:pt x="819" y="1035"/>
                </a:lnTo>
                <a:lnTo>
                  <a:pt x="783" y="1044"/>
                </a:lnTo>
                <a:lnTo>
                  <a:pt x="747" y="1053"/>
                </a:lnTo>
                <a:lnTo>
                  <a:pt x="720" y="1062"/>
                </a:lnTo>
                <a:lnTo>
                  <a:pt x="693" y="1071"/>
                </a:lnTo>
                <a:lnTo>
                  <a:pt x="648" y="1080"/>
                </a:lnTo>
                <a:lnTo>
                  <a:pt x="621" y="1080"/>
                </a:lnTo>
                <a:lnTo>
                  <a:pt x="585" y="1089"/>
                </a:lnTo>
                <a:lnTo>
                  <a:pt x="558" y="1089"/>
                </a:lnTo>
                <a:lnTo>
                  <a:pt x="522" y="1089"/>
                </a:lnTo>
                <a:lnTo>
                  <a:pt x="486" y="1089"/>
                </a:lnTo>
                <a:lnTo>
                  <a:pt x="450" y="1089"/>
                </a:lnTo>
                <a:lnTo>
                  <a:pt x="405" y="1080"/>
                </a:lnTo>
                <a:lnTo>
                  <a:pt x="369" y="1071"/>
                </a:lnTo>
                <a:lnTo>
                  <a:pt x="342" y="1062"/>
                </a:lnTo>
                <a:lnTo>
                  <a:pt x="315" y="1044"/>
                </a:lnTo>
                <a:lnTo>
                  <a:pt x="279" y="1026"/>
                </a:lnTo>
                <a:lnTo>
                  <a:pt x="243" y="990"/>
                </a:lnTo>
                <a:lnTo>
                  <a:pt x="216" y="963"/>
                </a:lnTo>
                <a:lnTo>
                  <a:pt x="198" y="936"/>
                </a:lnTo>
                <a:lnTo>
                  <a:pt x="189" y="909"/>
                </a:lnTo>
                <a:lnTo>
                  <a:pt x="162" y="873"/>
                </a:lnTo>
                <a:lnTo>
                  <a:pt x="153" y="846"/>
                </a:lnTo>
                <a:lnTo>
                  <a:pt x="135" y="819"/>
                </a:lnTo>
                <a:lnTo>
                  <a:pt x="126" y="792"/>
                </a:lnTo>
                <a:lnTo>
                  <a:pt x="117" y="765"/>
                </a:lnTo>
                <a:lnTo>
                  <a:pt x="99" y="738"/>
                </a:lnTo>
                <a:lnTo>
                  <a:pt x="90" y="711"/>
                </a:lnTo>
                <a:lnTo>
                  <a:pt x="72" y="684"/>
                </a:lnTo>
                <a:lnTo>
                  <a:pt x="54" y="648"/>
                </a:lnTo>
                <a:lnTo>
                  <a:pt x="45" y="621"/>
                </a:lnTo>
                <a:lnTo>
                  <a:pt x="36" y="594"/>
                </a:lnTo>
                <a:lnTo>
                  <a:pt x="27" y="567"/>
                </a:lnTo>
                <a:lnTo>
                  <a:pt x="18" y="540"/>
                </a:lnTo>
                <a:lnTo>
                  <a:pt x="9" y="513"/>
                </a:lnTo>
                <a:lnTo>
                  <a:pt x="0" y="486"/>
                </a:lnTo>
                <a:lnTo>
                  <a:pt x="0" y="4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67160" y="3057480"/>
            <a:ext cx="2644920" cy="2030400"/>
          </a:xfrm>
          <a:custGeom>
            <a:avLst/>
            <a:gdLst/>
            <a:ahLst/>
            <a:rect l="l" t="t" r="r" b="b"/>
            <a:pathLst>
              <a:path w="1666" h="1279">
                <a:moveTo>
                  <a:pt x="99" y="513"/>
                </a:moveTo>
                <a:lnTo>
                  <a:pt x="99" y="486"/>
                </a:lnTo>
                <a:lnTo>
                  <a:pt x="90" y="450"/>
                </a:lnTo>
                <a:lnTo>
                  <a:pt x="81" y="405"/>
                </a:lnTo>
                <a:lnTo>
                  <a:pt x="72" y="369"/>
                </a:lnTo>
                <a:lnTo>
                  <a:pt x="72" y="324"/>
                </a:lnTo>
                <a:lnTo>
                  <a:pt x="72" y="297"/>
                </a:lnTo>
                <a:lnTo>
                  <a:pt x="72" y="270"/>
                </a:lnTo>
                <a:lnTo>
                  <a:pt x="90" y="243"/>
                </a:lnTo>
                <a:lnTo>
                  <a:pt x="126" y="207"/>
                </a:lnTo>
                <a:lnTo>
                  <a:pt x="162" y="180"/>
                </a:lnTo>
                <a:lnTo>
                  <a:pt x="207" y="162"/>
                </a:lnTo>
                <a:lnTo>
                  <a:pt x="234" y="153"/>
                </a:lnTo>
                <a:lnTo>
                  <a:pt x="261" y="126"/>
                </a:lnTo>
                <a:lnTo>
                  <a:pt x="297" y="99"/>
                </a:lnTo>
                <a:lnTo>
                  <a:pt x="342" y="54"/>
                </a:lnTo>
                <a:lnTo>
                  <a:pt x="369" y="45"/>
                </a:lnTo>
                <a:lnTo>
                  <a:pt x="396" y="45"/>
                </a:lnTo>
                <a:lnTo>
                  <a:pt x="423" y="36"/>
                </a:lnTo>
                <a:lnTo>
                  <a:pt x="459" y="27"/>
                </a:lnTo>
                <a:lnTo>
                  <a:pt x="486" y="27"/>
                </a:lnTo>
                <a:lnTo>
                  <a:pt x="540" y="0"/>
                </a:lnTo>
                <a:lnTo>
                  <a:pt x="576" y="0"/>
                </a:lnTo>
                <a:lnTo>
                  <a:pt x="603" y="0"/>
                </a:lnTo>
                <a:lnTo>
                  <a:pt x="639" y="9"/>
                </a:lnTo>
                <a:lnTo>
                  <a:pt x="675" y="18"/>
                </a:lnTo>
                <a:lnTo>
                  <a:pt x="711" y="18"/>
                </a:lnTo>
                <a:lnTo>
                  <a:pt x="738" y="18"/>
                </a:lnTo>
                <a:lnTo>
                  <a:pt x="765" y="27"/>
                </a:lnTo>
                <a:lnTo>
                  <a:pt x="810" y="27"/>
                </a:lnTo>
                <a:lnTo>
                  <a:pt x="846" y="27"/>
                </a:lnTo>
                <a:lnTo>
                  <a:pt x="882" y="18"/>
                </a:lnTo>
                <a:lnTo>
                  <a:pt x="918" y="9"/>
                </a:lnTo>
                <a:lnTo>
                  <a:pt x="945" y="0"/>
                </a:lnTo>
                <a:lnTo>
                  <a:pt x="981" y="0"/>
                </a:lnTo>
                <a:lnTo>
                  <a:pt x="1017" y="0"/>
                </a:lnTo>
                <a:lnTo>
                  <a:pt x="1053" y="18"/>
                </a:lnTo>
                <a:lnTo>
                  <a:pt x="1080" y="36"/>
                </a:lnTo>
                <a:lnTo>
                  <a:pt x="1125" y="54"/>
                </a:lnTo>
                <a:lnTo>
                  <a:pt x="1161" y="63"/>
                </a:lnTo>
                <a:lnTo>
                  <a:pt x="1197" y="72"/>
                </a:lnTo>
                <a:lnTo>
                  <a:pt x="1224" y="81"/>
                </a:lnTo>
                <a:lnTo>
                  <a:pt x="1251" y="90"/>
                </a:lnTo>
                <a:lnTo>
                  <a:pt x="1278" y="99"/>
                </a:lnTo>
                <a:lnTo>
                  <a:pt x="1314" y="108"/>
                </a:lnTo>
                <a:lnTo>
                  <a:pt x="1359" y="126"/>
                </a:lnTo>
                <a:lnTo>
                  <a:pt x="1386" y="144"/>
                </a:lnTo>
                <a:lnTo>
                  <a:pt x="1404" y="171"/>
                </a:lnTo>
                <a:lnTo>
                  <a:pt x="1422" y="207"/>
                </a:lnTo>
                <a:lnTo>
                  <a:pt x="1422" y="234"/>
                </a:lnTo>
                <a:lnTo>
                  <a:pt x="1440" y="279"/>
                </a:lnTo>
                <a:lnTo>
                  <a:pt x="1467" y="315"/>
                </a:lnTo>
                <a:lnTo>
                  <a:pt x="1485" y="360"/>
                </a:lnTo>
                <a:lnTo>
                  <a:pt x="1503" y="387"/>
                </a:lnTo>
                <a:lnTo>
                  <a:pt x="1521" y="423"/>
                </a:lnTo>
                <a:lnTo>
                  <a:pt x="1539" y="459"/>
                </a:lnTo>
                <a:lnTo>
                  <a:pt x="1557" y="495"/>
                </a:lnTo>
                <a:lnTo>
                  <a:pt x="1584" y="531"/>
                </a:lnTo>
                <a:lnTo>
                  <a:pt x="1602" y="567"/>
                </a:lnTo>
                <a:lnTo>
                  <a:pt x="1611" y="594"/>
                </a:lnTo>
                <a:lnTo>
                  <a:pt x="1629" y="621"/>
                </a:lnTo>
                <a:lnTo>
                  <a:pt x="1638" y="657"/>
                </a:lnTo>
                <a:lnTo>
                  <a:pt x="1656" y="684"/>
                </a:lnTo>
                <a:lnTo>
                  <a:pt x="1656" y="711"/>
                </a:lnTo>
                <a:lnTo>
                  <a:pt x="1665" y="738"/>
                </a:lnTo>
                <a:lnTo>
                  <a:pt x="1665" y="774"/>
                </a:lnTo>
                <a:lnTo>
                  <a:pt x="1665" y="810"/>
                </a:lnTo>
                <a:lnTo>
                  <a:pt x="1656" y="837"/>
                </a:lnTo>
                <a:lnTo>
                  <a:pt x="1638" y="873"/>
                </a:lnTo>
                <a:lnTo>
                  <a:pt x="1620" y="900"/>
                </a:lnTo>
                <a:lnTo>
                  <a:pt x="1593" y="927"/>
                </a:lnTo>
                <a:lnTo>
                  <a:pt x="1584" y="954"/>
                </a:lnTo>
                <a:lnTo>
                  <a:pt x="1557" y="981"/>
                </a:lnTo>
                <a:lnTo>
                  <a:pt x="1539" y="1008"/>
                </a:lnTo>
                <a:lnTo>
                  <a:pt x="1530" y="1035"/>
                </a:lnTo>
                <a:lnTo>
                  <a:pt x="1503" y="1071"/>
                </a:lnTo>
                <a:lnTo>
                  <a:pt x="1476" y="1107"/>
                </a:lnTo>
                <a:lnTo>
                  <a:pt x="1440" y="1152"/>
                </a:lnTo>
                <a:lnTo>
                  <a:pt x="1404" y="1188"/>
                </a:lnTo>
                <a:lnTo>
                  <a:pt x="1377" y="1224"/>
                </a:lnTo>
                <a:lnTo>
                  <a:pt x="1350" y="1242"/>
                </a:lnTo>
                <a:lnTo>
                  <a:pt x="1323" y="1251"/>
                </a:lnTo>
                <a:lnTo>
                  <a:pt x="1287" y="1260"/>
                </a:lnTo>
                <a:lnTo>
                  <a:pt x="1215" y="1278"/>
                </a:lnTo>
                <a:lnTo>
                  <a:pt x="1188" y="1278"/>
                </a:lnTo>
                <a:lnTo>
                  <a:pt x="1161" y="1278"/>
                </a:lnTo>
                <a:lnTo>
                  <a:pt x="1134" y="1278"/>
                </a:lnTo>
                <a:lnTo>
                  <a:pt x="1107" y="1269"/>
                </a:lnTo>
                <a:lnTo>
                  <a:pt x="1080" y="1242"/>
                </a:lnTo>
                <a:lnTo>
                  <a:pt x="1071" y="1215"/>
                </a:lnTo>
                <a:lnTo>
                  <a:pt x="1053" y="1179"/>
                </a:lnTo>
                <a:lnTo>
                  <a:pt x="1035" y="1152"/>
                </a:lnTo>
                <a:lnTo>
                  <a:pt x="999" y="1125"/>
                </a:lnTo>
                <a:lnTo>
                  <a:pt x="972" y="1107"/>
                </a:lnTo>
                <a:lnTo>
                  <a:pt x="945" y="1098"/>
                </a:lnTo>
                <a:lnTo>
                  <a:pt x="918" y="1089"/>
                </a:lnTo>
                <a:lnTo>
                  <a:pt x="891" y="1080"/>
                </a:lnTo>
                <a:lnTo>
                  <a:pt x="855" y="1080"/>
                </a:lnTo>
                <a:lnTo>
                  <a:pt x="819" y="1098"/>
                </a:lnTo>
                <a:lnTo>
                  <a:pt x="792" y="1116"/>
                </a:lnTo>
                <a:lnTo>
                  <a:pt x="756" y="1134"/>
                </a:lnTo>
                <a:lnTo>
                  <a:pt x="720" y="1152"/>
                </a:lnTo>
                <a:lnTo>
                  <a:pt x="684" y="1161"/>
                </a:lnTo>
                <a:lnTo>
                  <a:pt x="648" y="1161"/>
                </a:lnTo>
                <a:lnTo>
                  <a:pt x="621" y="1170"/>
                </a:lnTo>
                <a:lnTo>
                  <a:pt x="594" y="1188"/>
                </a:lnTo>
                <a:lnTo>
                  <a:pt x="567" y="1197"/>
                </a:lnTo>
                <a:lnTo>
                  <a:pt x="540" y="1215"/>
                </a:lnTo>
                <a:lnTo>
                  <a:pt x="513" y="1224"/>
                </a:lnTo>
                <a:lnTo>
                  <a:pt x="486" y="1233"/>
                </a:lnTo>
                <a:lnTo>
                  <a:pt x="459" y="1233"/>
                </a:lnTo>
                <a:lnTo>
                  <a:pt x="423" y="1233"/>
                </a:lnTo>
                <a:lnTo>
                  <a:pt x="396" y="1242"/>
                </a:lnTo>
                <a:lnTo>
                  <a:pt x="369" y="1242"/>
                </a:lnTo>
                <a:lnTo>
                  <a:pt x="342" y="1242"/>
                </a:lnTo>
                <a:lnTo>
                  <a:pt x="288" y="1242"/>
                </a:lnTo>
                <a:lnTo>
                  <a:pt x="252" y="1242"/>
                </a:lnTo>
                <a:lnTo>
                  <a:pt x="225" y="1233"/>
                </a:lnTo>
                <a:lnTo>
                  <a:pt x="189" y="1206"/>
                </a:lnTo>
                <a:lnTo>
                  <a:pt x="153" y="1188"/>
                </a:lnTo>
                <a:lnTo>
                  <a:pt x="117" y="1152"/>
                </a:lnTo>
                <a:lnTo>
                  <a:pt x="81" y="1125"/>
                </a:lnTo>
                <a:lnTo>
                  <a:pt x="63" y="1098"/>
                </a:lnTo>
                <a:lnTo>
                  <a:pt x="45" y="1062"/>
                </a:lnTo>
                <a:lnTo>
                  <a:pt x="36" y="1026"/>
                </a:lnTo>
                <a:lnTo>
                  <a:pt x="27" y="999"/>
                </a:lnTo>
                <a:lnTo>
                  <a:pt x="9" y="963"/>
                </a:lnTo>
                <a:lnTo>
                  <a:pt x="0" y="936"/>
                </a:lnTo>
                <a:lnTo>
                  <a:pt x="0" y="909"/>
                </a:lnTo>
                <a:lnTo>
                  <a:pt x="0" y="882"/>
                </a:lnTo>
                <a:lnTo>
                  <a:pt x="0" y="846"/>
                </a:lnTo>
                <a:lnTo>
                  <a:pt x="0" y="819"/>
                </a:lnTo>
                <a:lnTo>
                  <a:pt x="9" y="783"/>
                </a:lnTo>
                <a:lnTo>
                  <a:pt x="27" y="756"/>
                </a:lnTo>
                <a:lnTo>
                  <a:pt x="45" y="729"/>
                </a:lnTo>
                <a:lnTo>
                  <a:pt x="54" y="702"/>
                </a:lnTo>
                <a:lnTo>
                  <a:pt x="72" y="675"/>
                </a:lnTo>
                <a:lnTo>
                  <a:pt x="90" y="648"/>
                </a:lnTo>
                <a:lnTo>
                  <a:pt x="117" y="612"/>
                </a:lnTo>
                <a:lnTo>
                  <a:pt x="135" y="585"/>
                </a:lnTo>
                <a:lnTo>
                  <a:pt x="144" y="558"/>
                </a:lnTo>
                <a:lnTo>
                  <a:pt x="144" y="531"/>
                </a:lnTo>
                <a:lnTo>
                  <a:pt x="117" y="531"/>
                </a:lnTo>
                <a:lnTo>
                  <a:pt x="90" y="513"/>
                </a:lnTo>
                <a:lnTo>
                  <a:pt x="99" y="513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39000" y="3500280"/>
            <a:ext cx="901440" cy="787680"/>
          </a:xfrm>
          <a:custGeom>
            <a:avLst/>
            <a:gdLst/>
            <a:ahLst/>
            <a:rect l="l" t="t" r="r" b="b"/>
            <a:pathLst>
              <a:path w="568" h="496">
                <a:moveTo>
                  <a:pt x="9" y="243"/>
                </a:moveTo>
                <a:lnTo>
                  <a:pt x="9" y="216"/>
                </a:lnTo>
                <a:lnTo>
                  <a:pt x="9" y="189"/>
                </a:lnTo>
                <a:lnTo>
                  <a:pt x="18" y="135"/>
                </a:lnTo>
                <a:lnTo>
                  <a:pt x="36" y="99"/>
                </a:lnTo>
                <a:lnTo>
                  <a:pt x="54" y="72"/>
                </a:lnTo>
                <a:lnTo>
                  <a:pt x="81" y="54"/>
                </a:lnTo>
                <a:lnTo>
                  <a:pt x="108" y="36"/>
                </a:lnTo>
                <a:lnTo>
                  <a:pt x="135" y="18"/>
                </a:lnTo>
                <a:lnTo>
                  <a:pt x="162" y="9"/>
                </a:lnTo>
                <a:lnTo>
                  <a:pt x="189" y="0"/>
                </a:lnTo>
                <a:lnTo>
                  <a:pt x="225" y="0"/>
                </a:lnTo>
                <a:lnTo>
                  <a:pt x="252" y="0"/>
                </a:lnTo>
                <a:lnTo>
                  <a:pt x="288" y="9"/>
                </a:lnTo>
                <a:lnTo>
                  <a:pt x="324" y="18"/>
                </a:lnTo>
                <a:lnTo>
                  <a:pt x="351" y="36"/>
                </a:lnTo>
                <a:lnTo>
                  <a:pt x="387" y="63"/>
                </a:lnTo>
                <a:lnTo>
                  <a:pt x="414" y="72"/>
                </a:lnTo>
                <a:lnTo>
                  <a:pt x="441" y="90"/>
                </a:lnTo>
                <a:lnTo>
                  <a:pt x="477" y="126"/>
                </a:lnTo>
                <a:lnTo>
                  <a:pt x="513" y="153"/>
                </a:lnTo>
                <a:lnTo>
                  <a:pt x="540" y="189"/>
                </a:lnTo>
                <a:lnTo>
                  <a:pt x="549" y="225"/>
                </a:lnTo>
                <a:lnTo>
                  <a:pt x="558" y="261"/>
                </a:lnTo>
                <a:lnTo>
                  <a:pt x="567" y="297"/>
                </a:lnTo>
                <a:lnTo>
                  <a:pt x="567" y="333"/>
                </a:lnTo>
                <a:lnTo>
                  <a:pt x="567" y="360"/>
                </a:lnTo>
                <a:lnTo>
                  <a:pt x="567" y="396"/>
                </a:lnTo>
                <a:lnTo>
                  <a:pt x="549" y="423"/>
                </a:lnTo>
                <a:lnTo>
                  <a:pt x="522" y="450"/>
                </a:lnTo>
                <a:lnTo>
                  <a:pt x="495" y="468"/>
                </a:lnTo>
                <a:lnTo>
                  <a:pt x="459" y="477"/>
                </a:lnTo>
                <a:lnTo>
                  <a:pt x="423" y="477"/>
                </a:lnTo>
                <a:lnTo>
                  <a:pt x="387" y="495"/>
                </a:lnTo>
                <a:lnTo>
                  <a:pt x="360" y="495"/>
                </a:lnTo>
                <a:lnTo>
                  <a:pt x="333" y="495"/>
                </a:lnTo>
                <a:lnTo>
                  <a:pt x="306" y="486"/>
                </a:lnTo>
                <a:lnTo>
                  <a:pt x="279" y="477"/>
                </a:lnTo>
                <a:lnTo>
                  <a:pt x="252" y="459"/>
                </a:lnTo>
                <a:lnTo>
                  <a:pt x="225" y="459"/>
                </a:lnTo>
                <a:lnTo>
                  <a:pt x="198" y="459"/>
                </a:lnTo>
                <a:lnTo>
                  <a:pt x="171" y="459"/>
                </a:lnTo>
                <a:lnTo>
                  <a:pt x="135" y="459"/>
                </a:lnTo>
                <a:lnTo>
                  <a:pt x="108" y="459"/>
                </a:lnTo>
                <a:lnTo>
                  <a:pt x="81" y="432"/>
                </a:lnTo>
                <a:lnTo>
                  <a:pt x="72" y="405"/>
                </a:lnTo>
                <a:lnTo>
                  <a:pt x="45" y="369"/>
                </a:lnTo>
                <a:lnTo>
                  <a:pt x="36" y="342"/>
                </a:lnTo>
                <a:lnTo>
                  <a:pt x="18" y="315"/>
                </a:lnTo>
                <a:lnTo>
                  <a:pt x="0" y="288"/>
                </a:lnTo>
                <a:lnTo>
                  <a:pt x="0" y="261"/>
                </a:lnTo>
                <a:lnTo>
                  <a:pt x="0" y="234"/>
                </a:lnTo>
                <a:lnTo>
                  <a:pt x="9" y="243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122960" y="4356000"/>
            <a:ext cx="3891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07040" y="3786120"/>
            <a:ext cx="11635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21400" y="4554360"/>
            <a:ext cx="378000" cy="378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35200" y="5245200"/>
            <a:ext cx="3206520" cy="33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face de genre g(s)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64040" y="5245200"/>
            <a:ext cx="3206880" cy="33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face de genre g(s)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014560" y="3152520"/>
            <a:ext cx="191916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Homéomorphisme et transformation homotopiq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oméomorphis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éfini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'homéomorphisme est une transformation bijective et bicontinue qui permet de faire coïncider deux objets par déformation réversible de l'un d'entre-eux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ormation homotopiq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éfini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e transformation est dite homotopique si l'image et l'image transformée peuvent se déduire l'une de l'autre par un homéomorphism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outes les caractéristiques des surfaces restent inchangé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 à la morphologie mathématiq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appels historiq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Morphologie mathématique ensemblis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966 : G. Matheron "Les variables régionalisées et leurs estimations" (Masso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967 : G. Matheron "Eléments pour une théorie des milieux poreux" (Masso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969 : J. Serra "Introduction à la morphologie mathématique" (Cahiers CMM Fontainebleau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982 : J. Serra "Image analysis and mathematical morphology" (Academic Pres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Extension aux fon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982 : J. Serra "Image analysis and mathematical morphology" (Academic Press) chap. X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984 : J. Serra "Image analysis and mathematical morphology, theoretical advances" (Academic Press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èmes de connaissance loca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552760" y="2101680"/>
            <a:ext cx="5270400" cy="3477240"/>
            <a:chOff x="2552760" y="2101680"/>
            <a:chExt cx="5270400" cy="3477240"/>
          </a:xfrm>
        </p:grpSpPr>
        <p:sp>
          <p:nvSpPr>
            <p:cNvPr id="211" name=""/>
            <p:cNvSpPr/>
            <p:nvPr/>
          </p:nvSpPr>
          <p:spPr>
            <a:xfrm>
              <a:off x="2552760" y="2641680"/>
              <a:ext cx="1830240" cy="1787400"/>
            </a:xfrm>
            <a:custGeom>
              <a:avLst/>
              <a:gdLst/>
              <a:ahLst/>
              <a:rect l="l" t="t" r="r" b="b"/>
              <a:pathLst>
                <a:path w="1153" h="1126">
                  <a:moveTo>
                    <a:pt x="495" y="207"/>
                  </a:moveTo>
                  <a:lnTo>
                    <a:pt x="0" y="603"/>
                  </a:lnTo>
                  <a:lnTo>
                    <a:pt x="423" y="972"/>
                  </a:lnTo>
                  <a:lnTo>
                    <a:pt x="1152" y="1125"/>
                  </a:lnTo>
                  <a:lnTo>
                    <a:pt x="702" y="738"/>
                  </a:lnTo>
                  <a:lnTo>
                    <a:pt x="981" y="378"/>
                  </a:lnTo>
                  <a:lnTo>
                    <a:pt x="963" y="0"/>
                  </a:lnTo>
                  <a:lnTo>
                    <a:pt x="495" y="207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24200" y="4056120"/>
              <a:ext cx="2259000" cy="1187280"/>
            </a:xfrm>
            <a:custGeom>
              <a:avLst/>
              <a:gdLst/>
              <a:ahLst/>
              <a:rect l="l" t="t" r="r" b="b"/>
              <a:pathLst>
                <a:path w="1423" h="748">
                  <a:moveTo>
                    <a:pt x="351" y="495"/>
                  </a:moveTo>
                  <a:lnTo>
                    <a:pt x="828" y="0"/>
                  </a:lnTo>
                  <a:lnTo>
                    <a:pt x="1422" y="360"/>
                  </a:lnTo>
                  <a:lnTo>
                    <a:pt x="864" y="459"/>
                  </a:lnTo>
                  <a:lnTo>
                    <a:pt x="864" y="747"/>
                  </a:lnTo>
                  <a:lnTo>
                    <a:pt x="153" y="720"/>
                  </a:lnTo>
                  <a:lnTo>
                    <a:pt x="0" y="432"/>
                  </a:lnTo>
                  <a:lnTo>
                    <a:pt x="351" y="495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65800" y="4254480"/>
              <a:ext cx="717480" cy="646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951440" y="2911320"/>
              <a:ext cx="1731960" cy="113220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62120" y="3355920"/>
              <a:ext cx="320760" cy="530280"/>
            </a:xfrm>
            <a:custGeom>
              <a:avLst/>
              <a:gdLst/>
              <a:ahLst/>
              <a:rect l="l" t="t" r="r" b="b"/>
              <a:pathLst>
                <a:path w="202" h="334">
                  <a:moveTo>
                    <a:pt x="0" y="153"/>
                  </a:moveTo>
                  <a:lnTo>
                    <a:pt x="198" y="0"/>
                  </a:lnTo>
                  <a:lnTo>
                    <a:pt x="201" y="333"/>
                  </a:lnTo>
                  <a:lnTo>
                    <a:pt x="0" y="153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14920" y="2646360"/>
              <a:ext cx="287280" cy="120600"/>
            </a:xfrm>
            <a:custGeom>
              <a:avLst/>
              <a:gdLst/>
              <a:ahLst/>
              <a:rect l="l" t="t" r="r" b="b"/>
              <a:pathLst>
                <a:path w="181" h="76">
                  <a:moveTo>
                    <a:pt x="0" y="75"/>
                  </a:moveTo>
                  <a:lnTo>
                    <a:pt x="180" y="75"/>
                  </a:lnTo>
                  <a:lnTo>
                    <a:pt x="168" y="0"/>
                  </a:lnTo>
                  <a:lnTo>
                    <a:pt x="0" y="75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524640" y="3146400"/>
              <a:ext cx="168120" cy="649440"/>
            </a:xfrm>
            <a:custGeom>
              <a:avLst/>
              <a:gdLst/>
              <a:ahLst/>
              <a:rect l="l" t="t" r="r" b="b"/>
              <a:pathLst>
                <a:path w="106" h="409">
                  <a:moveTo>
                    <a:pt x="0" y="0"/>
                  </a:moveTo>
                  <a:lnTo>
                    <a:pt x="24" y="24"/>
                  </a:lnTo>
                  <a:lnTo>
                    <a:pt x="63" y="75"/>
                  </a:lnTo>
                  <a:lnTo>
                    <a:pt x="87" y="126"/>
                  </a:lnTo>
                  <a:lnTo>
                    <a:pt x="99" y="162"/>
                  </a:lnTo>
                  <a:lnTo>
                    <a:pt x="102" y="201"/>
                  </a:lnTo>
                  <a:lnTo>
                    <a:pt x="105" y="243"/>
                  </a:lnTo>
                  <a:lnTo>
                    <a:pt x="93" y="270"/>
                  </a:lnTo>
                  <a:lnTo>
                    <a:pt x="81" y="306"/>
                  </a:lnTo>
                  <a:lnTo>
                    <a:pt x="54" y="351"/>
                  </a:lnTo>
                  <a:lnTo>
                    <a:pt x="27" y="390"/>
                  </a:lnTo>
                  <a:lnTo>
                    <a:pt x="3" y="40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527880" y="4264200"/>
              <a:ext cx="441360" cy="626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81520" y="5013360"/>
              <a:ext cx="1220760" cy="230040"/>
            </a:xfrm>
            <a:custGeom>
              <a:avLst/>
              <a:gdLst/>
              <a:ahLst/>
              <a:rect l="l" t="t" r="r" b="b"/>
              <a:pathLst>
                <a:path w="769" h="145">
                  <a:moveTo>
                    <a:pt x="0" y="6"/>
                  </a:moveTo>
                  <a:lnTo>
                    <a:pt x="54" y="120"/>
                  </a:lnTo>
                  <a:lnTo>
                    <a:pt x="765" y="144"/>
                  </a:lnTo>
                  <a:lnTo>
                    <a:pt x="768" y="0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905200" y="2784600"/>
              <a:ext cx="3595680" cy="22240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26120" y="5243400"/>
              <a:ext cx="2597040" cy="33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sque de mesure 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075360" y="5006520"/>
              <a:ext cx="25560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11680" y="2101680"/>
              <a:ext cx="3997080" cy="33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bjets coupant le bord du masq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946320" y="2449440"/>
              <a:ext cx="741240" cy="74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4560480" y="2449440"/>
              <a:ext cx="498600" cy="224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88160" y="2449440"/>
              <a:ext cx="487080" cy="214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45000" y="2463840"/>
              <a:ext cx="44640" cy="9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1882800" y="5676840"/>
            <a:ext cx="6354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 faut tenir compte de ce masque pour les opéra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05080" y="2000160"/>
            <a:ext cx="7119720" cy="407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transformations en tout ou ri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otion d'élément structur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finition :Ensembl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de géométrie connue repéré par son centre placé en un point x de l'espace et noté B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x : disque, carré, hexagone, bi-point 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lément transposé noté       : symétrique de B par rapport à l'orig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886280" y="3394080"/>
                <a:ext cx="21924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˘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33" name=""/>
          <p:cNvGrpSpPr/>
          <p:nvPr/>
        </p:nvGrpSpPr>
        <p:grpSpPr>
          <a:xfrm>
            <a:off x="5581800" y="4006800"/>
            <a:ext cx="887400" cy="752400"/>
            <a:chOff x="5581800" y="4006800"/>
            <a:chExt cx="887400" cy="752400"/>
          </a:xfrm>
        </p:grpSpPr>
        <p:sp>
          <p:nvSpPr>
            <p:cNvPr id="234" name=""/>
            <p:cNvSpPr/>
            <p:nvPr/>
          </p:nvSpPr>
          <p:spPr>
            <a:xfrm>
              <a:off x="5581800" y="4071960"/>
              <a:ext cx="887400" cy="687240"/>
            </a:xfrm>
            <a:custGeom>
              <a:avLst/>
              <a:gdLst/>
              <a:ahLst/>
              <a:rect l="l" t="t" r="r" b="b"/>
              <a:pathLst>
                <a:path w="559" h="433">
                  <a:moveTo>
                    <a:pt x="0" y="312"/>
                  </a:moveTo>
                  <a:lnTo>
                    <a:pt x="267" y="0"/>
                  </a:lnTo>
                  <a:lnTo>
                    <a:pt x="558" y="432"/>
                  </a:lnTo>
                  <a:lnTo>
                    <a:pt x="0" y="312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31000" y="4006800"/>
              <a:ext cx="158760" cy="158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476520" y="5108400"/>
            <a:ext cx="887400" cy="750960"/>
            <a:chOff x="3476520" y="5108400"/>
            <a:chExt cx="887400" cy="750960"/>
          </a:xfrm>
        </p:grpSpPr>
        <p:sp>
          <p:nvSpPr>
            <p:cNvPr id="237" name=""/>
            <p:cNvSpPr/>
            <p:nvPr/>
          </p:nvSpPr>
          <p:spPr>
            <a:xfrm>
              <a:off x="3476520" y="5108400"/>
              <a:ext cx="887400" cy="687600"/>
            </a:xfrm>
            <a:custGeom>
              <a:avLst/>
              <a:gdLst/>
              <a:ahLst/>
              <a:rect l="l" t="t" r="r" b="b"/>
              <a:pathLst>
                <a:path w="559" h="433">
                  <a:moveTo>
                    <a:pt x="558" y="120"/>
                  </a:moveTo>
                  <a:lnTo>
                    <a:pt x="291" y="432"/>
                  </a:lnTo>
                  <a:lnTo>
                    <a:pt x="0" y="0"/>
                  </a:lnTo>
                  <a:lnTo>
                    <a:pt x="558" y="12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54520" y="5700600"/>
              <a:ext cx="158760" cy="158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193840" y="4948200"/>
            <a:ext cx="5646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952880" y="3830760"/>
            <a:ext cx="0" cy="2025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335480" y="5527800"/>
          <a:ext cx="282600" cy="36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35480" y="5527800"/>
                    <a:ext cx="282600" cy="36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4997520" y="4950000"/>
            <a:ext cx="496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6477120" y="3905280"/>
          <a:ext cx="282600" cy="32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7120" y="3905280"/>
                    <a:ext cx="28260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différents types d'éléments structura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éments structurants limi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87560" y="2673360"/>
            <a:ext cx="2959200" cy="143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59360" y="2673360"/>
            <a:ext cx="2959200" cy="143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9360" y="4121280"/>
            <a:ext cx="2959200" cy="143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92480" y="2825640"/>
            <a:ext cx="901440" cy="90180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87560" y="4121280"/>
            <a:ext cx="2959200" cy="143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11560" y="4292640"/>
            <a:ext cx="863280" cy="8636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59320" y="3200400"/>
            <a:ext cx="2006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40240" y="4570560"/>
            <a:ext cx="79560" cy="792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05840" y="4570560"/>
            <a:ext cx="79200" cy="792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62320" y="3351240"/>
            <a:ext cx="3406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qu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36840" y="4722840"/>
            <a:ext cx="33087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tour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i-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u ce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982880" y="3803760"/>
            <a:ext cx="2968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lément convexe isot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54680" y="3803760"/>
            <a:ext cx="2968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lément convexe anisot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82880" y="5259240"/>
            <a:ext cx="2968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lément concave isot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954680" y="5259240"/>
            <a:ext cx="2968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lément concave anisot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87560" y="3816360"/>
            <a:ext cx="295920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959360" y="3816360"/>
            <a:ext cx="295920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87560" y="5264280"/>
            <a:ext cx="295920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59360" y="5264280"/>
            <a:ext cx="295920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ons entre B et Y, ensemble testé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81440" y="2841480"/>
            <a:ext cx="3059280" cy="2102040"/>
          </a:xfrm>
          <a:custGeom>
            <a:avLst/>
            <a:gdLst/>
            <a:ahLst/>
            <a:rect l="l" t="t" r="r" b="b"/>
            <a:pathLst>
              <a:path w="1927" h="1324">
                <a:moveTo>
                  <a:pt x="441" y="1179"/>
                </a:moveTo>
                <a:lnTo>
                  <a:pt x="414" y="1179"/>
                </a:lnTo>
                <a:lnTo>
                  <a:pt x="387" y="1152"/>
                </a:lnTo>
                <a:lnTo>
                  <a:pt x="360" y="1125"/>
                </a:lnTo>
                <a:lnTo>
                  <a:pt x="324" y="1089"/>
                </a:lnTo>
                <a:lnTo>
                  <a:pt x="306" y="1062"/>
                </a:lnTo>
                <a:lnTo>
                  <a:pt x="279" y="1026"/>
                </a:lnTo>
                <a:lnTo>
                  <a:pt x="252" y="990"/>
                </a:lnTo>
                <a:lnTo>
                  <a:pt x="216" y="954"/>
                </a:lnTo>
                <a:lnTo>
                  <a:pt x="189" y="918"/>
                </a:lnTo>
                <a:lnTo>
                  <a:pt x="162" y="882"/>
                </a:lnTo>
                <a:lnTo>
                  <a:pt x="144" y="837"/>
                </a:lnTo>
                <a:lnTo>
                  <a:pt x="126" y="810"/>
                </a:lnTo>
                <a:lnTo>
                  <a:pt x="108" y="783"/>
                </a:lnTo>
                <a:lnTo>
                  <a:pt x="72" y="729"/>
                </a:lnTo>
                <a:lnTo>
                  <a:pt x="54" y="702"/>
                </a:lnTo>
                <a:lnTo>
                  <a:pt x="45" y="675"/>
                </a:lnTo>
                <a:lnTo>
                  <a:pt x="36" y="648"/>
                </a:lnTo>
                <a:lnTo>
                  <a:pt x="27" y="621"/>
                </a:lnTo>
                <a:lnTo>
                  <a:pt x="18" y="594"/>
                </a:lnTo>
                <a:lnTo>
                  <a:pt x="9" y="567"/>
                </a:lnTo>
                <a:lnTo>
                  <a:pt x="0" y="540"/>
                </a:lnTo>
                <a:lnTo>
                  <a:pt x="0" y="513"/>
                </a:lnTo>
                <a:lnTo>
                  <a:pt x="0" y="486"/>
                </a:lnTo>
                <a:lnTo>
                  <a:pt x="0" y="459"/>
                </a:lnTo>
                <a:lnTo>
                  <a:pt x="18" y="423"/>
                </a:lnTo>
                <a:lnTo>
                  <a:pt x="36" y="396"/>
                </a:lnTo>
                <a:lnTo>
                  <a:pt x="63" y="351"/>
                </a:lnTo>
                <a:lnTo>
                  <a:pt x="81" y="324"/>
                </a:lnTo>
                <a:lnTo>
                  <a:pt x="108" y="306"/>
                </a:lnTo>
                <a:lnTo>
                  <a:pt x="135" y="279"/>
                </a:lnTo>
                <a:lnTo>
                  <a:pt x="180" y="234"/>
                </a:lnTo>
                <a:lnTo>
                  <a:pt x="225" y="207"/>
                </a:lnTo>
                <a:lnTo>
                  <a:pt x="261" y="180"/>
                </a:lnTo>
                <a:lnTo>
                  <a:pt x="297" y="153"/>
                </a:lnTo>
                <a:lnTo>
                  <a:pt x="333" y="135"/>
                </a:lnTo>
                <a:lnTo>
                  <a:pt x="378" y="117"/>
                </a:lnTo>
                <a:lnTo>
                  <a:pt x="405" y="108"/>
                </a:lnTo>
                <a:lnTo>
                  <a:pt x="432" y="108"/>
                </a:lnTo>
                <a:lnTo>
                  <a:pt x="468" y="108"/>
                </a:lnTo>
                <a:lnTo>
                  <a:pt x="531" y="135"/>
                </a:lnTo>
                <a:lnTo>
                  <a:pt x="567" y="153"/>
                </a:lnTo>
                <a:lnTo>
                  <a:pt x="612" y="189"/>
                </a:lnTo>
                <a:lnTo>
                  <a:pt x="639" y="216"/>
                </a:lnTo>
                <a:lnTo>
                  <a:pt x="666" y="243"/>
                </a:lnTo>
                <a:lnTo>
                  <a:pt x="693" y="261"/>
                </a:lnTo>
                <a:lnTo>
                  <a:pt x="729" y="279"/>
                </a:lnTo>
                <a:lnTo>
                  <a:pt x="774" y="297"/>
                </a:lnTo>
                <a:lnTo>
                  <a:pt x="819" y="297"/>
                </a:lnTo>
                <a:lnTo>
                  <a:pt x="864" y="297"/>
                </a:lnTo>
                <a:lnTo>
                  <a:pt x="909" y="288"/>
                </a:lnTo>
                <a:lnTo>
                  <a:pt x="954" y="270"/>
                </a:lnTo>
                <a:lnTo>
                  <a:pt x="990" y="243"/>
                </a:lnTo>
                <a:lnTo>
                  <a:pt x="1035" y="216"/>
                </a:lnTo>
                <a:lnTo>
                  <a:pt x="1071" y="189"/>
                </a:lnTo>
                <a:lnTo>
                  <a:pt x="1107" y="162"/>
                </a:lnTo>
                <a:lnTo>
                  <a:pt x="1152" y="135"/>
                </a:lnTo>
                <a:lnTo>
                  <a:pt x="1188" y="108"/>
                </a:lnTo>
                <a:lnTo>
                  <a:pt x="1278" y="63"/>
                </a:lnTo>
                <a:lnTo>
                  <a:pt x="1341" y="36"/>
                </a:lnTo>
                <a:lnTo>
                  <a:pt x="1386" y="18"/>
                </a:lnTo>
                <a:lnTo>
                  <a:pt x="1431" y="9"/>
                </a:lnTo>
                <a:lnTo>
                  <a:pt x="1476" y="0"/>
                </a:lnTo>
                <a:lnTo>
                  <a:pt x="1512" y="0"/>
                </a:lnTo>
                <a:lnTo>
                  <a:pt x="1539" y="0"/>
                </a:lnTo>
                <a:lnTo>
                  <a:pt x="1575" y="18"/>
                </a:lnTo>
                <a:lnTo>
                  <a:pt x="1629" y="45"/>
                </a:lnTo>
                <a:lnTo>
                  <a:pt x="1683" y="81"/>
                </a:lnTo>
                <a:lnTo>
                  <a:pt x="1728" y="99"/>
                </a:lnTo>
                <a:lnTo>
                  <a:pt x="1755" y="126"/>
                </a:lnTo>
                <a:lnTo>
                  <a:pt x="1782" y="153"/>
                </a:lnTo>
                <a:lnTo>
                  <a:pt x="1818" y="189"/>
                </a:lnTo>
                <a:lnTo>
                  <a:pt x="1836" y="225"/>
                </a:lnTo>
                <a:lnTo>
                  <a:pt x="1854" y="270"/>
                </a:lnTo>
                <a:lnTo>
                  <a:pt x="1863" y="306"/>
                </a:lnTo>
                <a:lnTo>
                  <a:pt x="1881" y="369"/>
                </a:lnTo>
                <a:lnTo>
                  <a:pt x="1899" y="441"/>
                </a:lnTo>
                <a:lnTo>
                  <a:pt x="1917" y="495"/>
                </a:lnTo>
                <a:lnTo>
                  <a:pt x="1926" y="558"/>
                </a:lnTo>
                <a:lnTo>
                  <a:pt x="1926" y="603"/>
                </a:lnTo>
                <a:lnTo>
                  <a:pt x="1926" y="666"/>
                </a:lnTo>
                <a:lnTo>
                  <a:pt x="1926" y="711"/>
                </a:lnTo>
                <a:lnTo>
                  <a:pt x="1917" y="774"/>
                </a:lnTo>
                <a:lnTo>
                  <a:pt x="1908" y="819"/>
                </a:lnTo>
                <a:lnTo>
                  <a:pt x="1881" y="882"/>
                </a:lnTo>
                <a:lnTo>
                  <a:pt x="1854" y="936"/>
                </a:lnTo>
                <a:lnTo>
                  <a:pt x="1836" y="999"/>
                </a:lnTo>
                <a:lnTo>
                  <a:pt x="1809" y="1044"/>
                </a:lnTo>
                <a:lnTo>
                  <a:pt x="1782" y="1089"/>
                </a:lnTo>
                <a:lnTo>
                  <a:pt x="1764" y="1125"/>
                </a:lnTo>
                <a:lnTo>
                  <a:pt x="1737" y="1152"/>
                </a:lnTo>
                <a:lnTo>
                  <a:pt x="1719" y="1179"/>
                </a:lnTo>
                <a:lnTo>
                  <a:pt x="1683" y="1206"/>
                </a:lnTo>
                <a:lnTo>
                  <a:pt x="1647" y="1233"/>
                </a:lnTo>
                <a:lnTo>
                  <a:pt x="1602" y="1260"/>
                </a:lnTo>
                <a:lnTo>
                  <a:pt x="1557" y="1278"/>
                </a:lnTo>
                <a:lnTo>
                  <a:pt x="1512" y="1287"/>
                </a:lnTo>
                <a:lnTo>
                  <a:pt x="1467" y="1305"/>
                </a:lnTo>
                <a:lnTo>
                  <a:pt x="1422" y="1314"/>
                </a:lnTo>
                <a:lnTo>
                  <a:pt x="1377" y="1314"/>
                </a:lnTo>
                <a:lnTo>
                  <a:pt x="1332" y="1323"/>
                </a:lnTo>
                <a:lnTo>
                  <a:pt x="1233" y="1323"/>
                </a:lnTo>
                <a:lnTo>
                  <a:pt x="1188" y="1323"/>
                </a:lnTo>
                <a:lnTo>
                  <a:pt x="1143" y="1323"/>
                </a:lnTo>
                <a:lnTo>
                  <a:pt x="1107" y="1323"/>
                </a:lnTo>
                <a:lnTo>
                  <a:pt x="1071" y="1323"/>
                </a:lnTo>
                <a:lnTo>
                  <a:pt x="1044" y="1314"/>
                </a:lnTo>
                <a:lnTo>
                  <a:pt x="1017" y="1314"/>
                </a:lnTo>
                <a:lnTo>
                  <a:pt x="990" y="1314"/>
                </a:lnTo>
                <a:lnTo>
                  <a:pt x="963" y="1314"/>
                </a:lnTo>
                <a:lnTo>
                  <a:pt x="927" y="1314"/>
                </a:lnTo>
                <a:lnTo>
                  <a:pt x="900" y="1314"/>
                </a:lnTo>
                <a:lnTo>
                  <a:pt x="855" y="1314"/>
                </a:lnTo>
                <a:lnTo>
                  <a:pt x="819" y="1305"/>
                </a:lnTo>
                <a:lnTo>
                  <a:pt x="792" y="1305"/>
                </a:lnTo>
                <a:lnTo>
                  <a:pt x="765" y="1296"/>
                </a:lnTo>
                <a:lnTo>
                  <a:pt x="738" y="1287"/>
                </a:lnTo>
                <a:lnTo>
                  <a:pt x="711" y="1287"/>
                </a:lnTo>
                <a:lnTo>
                  <a:pt x="684" y="1278"/>
                </a:lnTo>
                <a:lnTo>
                  <a:pt x="657" y="1260"/>
                </a:lnTo>
                <a:lnTo>
                  <a:pt x="630" y="1251"/>
                </a:lnTo>
                <a:lnTo>
                  <a:pt x="603" y="1242"/>
                </a:lnTo>
                <a:lnTo>
                  <a:pt x="576" y="1233"/>
                </a:lnTo>
                <a:lnTo>
                  <a:pt x="549" y="1224"/>
                </a:lnTo>
                <a:lnTo>
                  <a:pt x="522" y="1215"/>
                </a:lnTo>
                <a:lnTo>
                  <a:pt x="495" y="1206"/>
                </a:lnTo>
                <a:lnTo>
                  <a:pt x="468" y="1197"/>
                </a:lnTo>
                <a:lnTo>
                  <a:pt x="441" y="1188"/>
                </a:lnTo>
                <a:lnTo>
                  <a:pt x="441" y="1179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051000" y="2141640"/>
            <a:ext cx="660600" cy="660240"/>
            <a:chOff x="3051000" y="2141640"/>
            <a:chExt cx="660600" cy="660240"/>
          </a:xfrm>
        </p:grpSpPr>
        <p:sp>
          <p:nvSpPr>
            <p:cNvPr id="270" name=""/>
            <p:cNvSpPr/>
            <p:nvPr/>
          </p:nvSpPr>
          <p:spPr>
            <a:xfrm>
              <a:off x="3051000" y="2141640"/>
              <a:ext cx="660600" cy="660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30720" y="2440080"/>
              <a:ext cx="101520" cy="101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065560" y="3218040"/>
            <a:ext cx="660600" cy="660240"/>
            <a:chOff x="5065560" y="3218040"/>
            <a:chExt cx="660600" cy="660240"/>
          </a:xfrm>
        </p:grpSpPr>
        <p:sp>
          <p:nvSpPr>
            <p:cNvPr id="273" name=""/>
            <p:cNvSpPr/>
            <p:nvPr/>
          </p:nvSpPr>
          <p:spPr>
            <a:xfrm>
              <a:off x="5065560" y="3218040"/>
              <a:ext cx="660600" cy="660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45280" y="3516480"/>
              <a:ext cx="101520" cy="101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5880240" y="4784760"/>
            <a:ext cx="660240" cy="660240"/>
            <a:chOff x="5880240" y="4784760"/>
            <a:chExt cx="660240" cy="660240"/>
          </a:xfrm>
        </p:grpSpPr>
        <p:sp>
          <p:nvSpPr>
            <p:cNvPr id="276" name=""/>
            <p:cNvSpPr/>
            <p:nvPr/>
          </p:nvSpPr>
          <p:spPr>
            <a:xfrm>
              <a:off x="5880240" y="4784760"/>
              <a:ext cx="660240" cy="660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159600" y="5083200"/>
              <a:ext cx="101520" cy="101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4011480" y="2230560"/>
            <a:ext cx="3140280" cy="36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en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: ne touche pas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360600" y="2421000"/>
            <a:ext cx="641520" cy="7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54120" y="3552840"/>
            <a:ext cx="3054240" cy="36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en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st inclus dans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630680" y="3579840"/>
            <a:ext cx="74448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25560" y="5002200"/>
            <a:ext cx="2140200" cy="36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en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uche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873680" y="5122800"/>
            <a:ext cx="1316160" cy="6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05080" y="2000160"/>
            <a:ext cx="7119720" cy="407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riétés générales des transformations en tout ou ri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ité ou semi continuit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ariance avec les transl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tibilité avec les homothé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aissance locale uniforme ou si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naissance locale uniforme (Z : champ de mesur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naissance locale sim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voir avec les transformations géodésiqu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981080" y="2895480"/>
          <a:ext cx="179892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895480"/>
                    <a:ext cx="1798920" cy="3794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6000840" y="3716280"/>
          <a:ext cx="1785960" cy="52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00840" y="3716280"/>
                    <a:ext cx="1785960" cy="5256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2220480" y="5022720"/>
            <a:ext cx="37962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l faut trouver un masque Z' vérifiant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2600" y="3790800"/>
            <a:ext cx="4140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rsque la transformation dépend de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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562720" y="5334120"/>
          <a:ext cx="2730240" cy="34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5334120"/>
                    <a:ext cx="2730240" cy="341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'érosion morphologiq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éfin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: ensemble analysé, B élément structurant (disque taille 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976640" y="5643720"/>
          <a:ext cx="2941920" cy="3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76640" y="5643720"/>
                    <a:ext cx="2941920" cy="3682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992240" y="3875040"/>
            <a:ext cx="8175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1614600" y="3129120"/>
            <a:ext cx="2438280" cy="2438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01" name="g1iser15" descr=""/>
          <p:cNvPicPr/>
          <p:nvPr/>
        </p:nvPicPr>
        <p:blipFill>
          <a:blip r:embed="rId4"/>
          <a:stretch/>
        </p:blipFill>
        <p:spPr>
          <a:xfrm>
            <a:off x="5094360" y="3141720"/>
            <a:ext cx="2431800" cy="242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2" name=""/>
          <p:cNvSpPr/>
          <p:nvPr/>
        </p:nvSpPr>
        <p:spPr>
          <a:xfrm>
            <a:off x="1986840" y="5638680"/>
            <a:ext cx="1630080" cy="34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e init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6757920" y="5302080"/>
            <a:ext cx="790920" cy="335520"/>
            <a:chOff x="6757920" y="5302080"/>
            <a:chExt cx="790920" cy="335520"/>
          </a:xfrm>
        </p:grpSpPr>
        <p:sp>
          <p:nvSpPr>
            <p:cNvPr id="304" name=""/>
            <p:cNvSpPr/>
            <p:nvPr/>
          </p:nvSpPr>
          <p:spPr>
            <a:xfrm>
              <a:off x="6757920" y="5354280"/>
              <a:ext cx="216000" cy="2160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986520" y="5354280"/>
              <a:ext cx="216000" cy="216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215120" y="5302080"/>
              <a:ext cx="33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4548240" y="5638680"/>
            <a:ext cx="309600" cy="33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osion morphologiq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luence de l'élément structur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: ensemble analysé, B élément structurant (lign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300640" y="5638680"/>
          <a:ext cx="2941560" cy="3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0640" y="5638680"/>
                    <a:ext cx="2941560" cy="3682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5019840" y="5638680"/>
            <a:ext cx="215640" cy="216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1781280" y="3081240"/>
            <a:ext cx="2438280" cy="2438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14" name=""/>
          <p:cNvSpPr/>
          <p:nvPr/>
        </p:nvSpPr>
        <p:spPr>
          <a:xfrm>
            <a:off x="2201040" y="5638680"/>
            <a:ext cx="1630080" cy="34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e init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5429160" y="3014640"/>
          <a:ext cx="2503440" cy="250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29160" y="3014640"/>
                    <a:ext cx="2503440" cy="25052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317" name=""/>
          <p:cNvGrpSpPr/>
          <p:nvPr/>
        </p:nvGrpSpPr>
        <p:grpSpPr>
          <a:xfrm>
            <a:off x="6757920" y="5183280"/>
            <a:ext cx="790920" cy="335520"/>
            <a:chOff x="6757920" y="5183280"/>
            <a:chExt cx="790920" cy="335520"/>
          </a:xfrm>
        </p:grpSpPr>
        <p:sp>
          <p:nvSpPr>
            <p:cNvPr id="318" name=""/>
            <p:cNvSpPr/>
            <p:nvPr/>
          </p:nvSpPr>
          <p:spPr>
            <a:xfrm>
              <a:off x="6757920" y="5235480"/>
              <a:ext cx="216000" cy="2160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86520" y="5235480"/>
              <a:ext cx="216000" cy="216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15120" y="5183280"/>
              <a:ext cx="33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riétés de l'éro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priétés algébriq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768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'érosion est une transformation croissa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7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768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'érosion est une transformation anti-extens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7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768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'érosion est une transformation semi-continue supérie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768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'érosion n'est pas idempote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7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priétés topologiq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768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'érosion ne préserve pas la connexité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768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'érosion n'est pas une transformation homotopiq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2514600" y="2743200"/>
          <a:ext cx="2549520" cy="3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743200"/>
                    <a:ext cx="2549520" cy="3524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2514600" y="3429000"/>
          <a:ext cx="1127160" cy="35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3429000"/>
                    <a:ext cx="1127160" cy="3510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2514600" y="4648320"/>
          <a:ext cx="202716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4648320"/>
                    <a:ext cx="2027160" cy="3888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priété de croissance et anti-extensivité de l'éro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708200" y="2098800"/>
          <a:ext cx="2547720" cy="3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8200" y="2098800"/>
                    <a:ext cx="2547720" cy="3524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1708200" y="2576520"/>
          <a:ext cx="1127160" cy="35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8200" y="2576520"/>
                    <a:ext cx="1127160" cy="3510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6591240" y="5029200"/>
          <a:ext cx="662040" cy="34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91240" y="5029200"/>
                    <a:ext cx="6620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6610320" y="4540320"/>
                <a:ext cx="154080" cy="1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37" name=""/>
          <p:cNvGraphicFramePr/>
          <p:nvPr/>
        </p:nvGraphicFramePr>
        <p:xfrm>
          <a:off x="6540480" y="3751200"/>
          <a:ext cx="663480" cy="344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40480" y="3751200"/>
                    <a:ext cx="66348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6553080" y="3249720"/>
                <a:ext cx="166680" cy="1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40" name="" descr=""/>
          <p:cNvPicPr/>
          <p:nvPr/>
        </p:nvPicPr>
        <p:blipFill>
          <a:blip r:embed="rId9"/>
          <a:stretch/>
        </p:blipFill>
        <p:spPr>
          <a:xfrm>
            <a:off x="1944720" y="3071880"/>
            <a:ext cx="3416400" cy="2695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41" name=""/>
          <p:cNvSpPr/>
          <p:nvPr/>
        </p:nvSpPr>
        <p:spPr>
          <a:xfrm>
            <a:off x="5950080" y="3130560"/>
            <a:ext cx="368280" cy="3682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0080" y="3740040"/>
            <a:ext cx="368280" cy="368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956200" y="4432320"/>
            <a:ext cx="35568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950080" y="5035680"/>
            <a:ext cx="368280" cy="368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87880" y="4721400"/>
            <a:ext cx="930240" cy="84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22880" y="4813200"/>
            <a:ext cx="603000" cy="603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308480" y="4784760"/>
            <a:ext cx="646200" cy="646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34120" y="4883040"/>
            <a:ext cx="4010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71600" y="1981080"/>
            <a:ext cx="7162920" cy="411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i-continuité supérieure de l'éro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994040" y="3213000"/>
            <a:ext cx="2565360" cy="1270080"/>
            <a:chOff x="1994040" y="3213000"/>
            <a:chExt cx="2565360" cy="1270080"/>
          </a:xfrm>
        </p:grpSpPr>
        <p:sp>
          <p:nvSpPr>
            <p:cNvPr id="352" name=""/>
            <p:cNvSpPr/>
            <p:nvPr/>
          </p:nvSpPr>
          <p:spPr>
            <a:xfrm>
              <a:off x="1994040" y="3213000"/>
              <a:ext cx="1269720" cy="1270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216160" y="3435480"/>
              <a:ext cx="825480" cy="825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289320" y="3213000"/>
              <a:ext cx="1270080" cy="1270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11440" y="3435480"/>
              <a:ext cx="825480" cy="8254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5499000" y="3213000"/>
            <a:ext cx="2565360" cy="1270080"/>
            <a:chOff x="5499000" y="3213000"/>
            <a:chExt cx="2565360" cy="1270080"/>
          </a:xfrm>
        </p:grpSpPr>
        <p:sp>
          <p:nvSpPr>
            <p:cNvPr id="357" name=""/>
            <p:cNvSpPr/>
            <p:nvPr/>
          </p:nvSpPr>
          <p:spPr>
            <a:xfrm>
              <a:off x="5499000" y="3213000"/>
              <a:ext cx="2565360" cy="12700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21480" y="3435480"/>
              <a:ext cx="2120760" cy="8254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139840" y="2216160"/>
            <a:ext cx="444600" cy="444600"/>
            <a:chOff x="2139840" y="2216160"/>
            <a:chExt cx="444600" cy="444600"/>
          </a:xfrm>
        </p:grpSpPr>
        <p:sp>
          <p:nvSpPr>
            <p:cNvPr id="360" name=""/>
            <p:cNvSpPr/>
            <p:nvPr/>
          </p:nvSpPr>
          <p:spPr>
            <a:xfrm>
              <a:off x="2368440" y="2444760"/>
              <a:ext cx="216000" cy="216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68440" y="2216160"/>
              <a:ext cx="216000" cy="216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139840" y="2216160"/>
              <a:ext cx="216000" cy="216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139840" y="2444760"/>
              <a:ext cx="216000" cy="216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2652840" y="2328840"/>
            <a:ext cx="34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911240" y="2139840"/>
            <a:ext cx="1130400" cy="67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820960" y="4538520"/>
            <a:ext cx="911160" cy="36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im F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630840" y="4538520"/>
            <a:ext cx="378000" cy="3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92880" y="2139840"/>
            <a:ext cx="291960" cy="2923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869080" y="2100240"/>
            <a:ext cx="1596960" cy="36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im F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t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92880" y="2521080"/>
            <a:ext cx="291960" cy="2919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21360" y="2481120"/>
            <a:ext cx="2130480" cy="36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fr-FR" sz="1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lim F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t E</a:t>
            </a:r>
            <a:r>
              <a:rPr b="1" lang="fr-FR" sz="1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40240" y="2063880"/>
            <a:ext cx="2882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82640" y="3054240"/>
            <a:ext cx="3264120" cy="181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959360" y="3054240"/>
            <a:ext cx="3263760" cy="181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4038480" y="5181480"/>
          <a:ext cx="1816200" cy="34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38480" y="5181480"/>
                    <a:ext cx="1816200" cy="341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7" name=""/>
          <p:cNvSpPr/>
          <p:nvPr/>
        </p:nvSpPr>
        <p:spPr>
          <a:xfrm>
            <a:off x="1371600" y="1981080"/>
            <a:ext cx="7162920" cy="411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 à la morphologie mathématiq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appels historiques (suit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ppareillage (images binai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971 : J. Klein et J. Serra : premier processeur spécialisé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974 : LEITZ TAS : premier processeur commerc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ppareillage (images numériqu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980 : LEITZ TAS + et KONTRON IBAS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Logiciels spécialisés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(Visilog (Noésis), Aphélion (Adcis), ...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veloppements à l'étran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SA : travaux de Sternberg (1975-1978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SA : Livre de C.R. Giardina et E.R. Dougherty (1988) "Morphological methods in image and signal process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'érosion est non idempoten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1771560" y="2168640"/>
          <a:ext cx="2027160" cy="39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2168640"/>
                    <a:ext cx="2027160" cy="3902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381" name=""/>
          <p:cNvGrpSpPr/>
          <p:nvPr/>
        </p:nvGrpSpPr>
        <p:grpSpPr>
          <a:xfrm>
            <a:off x="5950080" y="3564000"/>
            <a:ext cx="301320" cy="249120"/>
            <a:chOff x="5950080" y="3564000"/>
            <a:chExt cx="301320" cy="249120"/>
          </a:xfrm>
        </p:grpSpPr>
        <p:pic>
          <p:nvPicPr>
            <p:cNvPr id="382" name="" descr=""/>
            <p:cNvPicPr/>
            <p:nvPr/>
          </p:nvPicPr>
          <p:blipFill>
            <a:blip r:embed="rId3"/>
            <a:stretch/>
          </p:blipFill>
          <p:spPr>
            <a:xfrm>
              <a:off x="5959440" y="3564000"/>
              <a:ext cx="291960" cy="249120"/>
            </a:xfrm>
            <a:prstGeom prst="rect">
              <a:avLst/>
            </a:prstGeom>
            <a:ln w="12600">
              <a:solidFill>
                <a:srgbClr val="919191"/>
              </a:solidFill>
              <a:miter/>
            </a:ln>
          </p:spPr>
        </p:pic>
        <p:sp>
          <p:nvSpPr>
            <p:cNvPr id="383" name=""/>
            <p:cNvSpPr/>
            <p:nvPr/>
          </p:nvSpPr>
          <p:spPr>
            <a:xfrm>
              <a:off x="5950080" y="3568680"/>
              <a:ext cx="291960" cy="23508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5956200" y="2813040"/>
            <a:ext cx="279360" cy="222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950080" y="4330800"/>
            <a:ext cx="291960" cy="234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6477120" y="2819520"/>
                <a:ext cx="304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87" name=""/>
          <p:cNvGraphicFramePr/>
          <p:nvPr/>
        </p:nvGraphicFramePr>
        <p:xfrm>
          <a:off x="6438960" y="3503520"/>
          <a:ext cx="662040" cy="344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38960" y="3503520"/>
                    <a:ext cx="66204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"/>
          <p:cNvGraphicFramePr/>
          <p:nvPr/>
        </p:nvGraphicFramePr>
        <p:xfrm>
          <a:off x="6397560" y="4224240"/>
          <a:ext cx="2103480" cy="389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97560" y="4224240"/>
                    <a:ext cx="2103480" cy="3891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6478560" y="4954680"/>
            <a:ext cx="1825560" cy="58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'érosion est itér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91520" y="457200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2030040" y="2971440"/>
            <a:ext cx="3267360" cy="2453040"/>
            <a:chOff x="2030040" y="2971440"/>
            <a:chExt cx="3267360" cy="2453040"/>
          </a:xfrm>
        </p:grpSpPr>
        <p:sp>
          <p:nvSpPr>
            <p:cNvPr id="394" name=""/>
            <p:cNvSpPr/>
            <p:nvPr/>
          </p:nvSpPr>
          <p:spPr>
            <a:xfrm>
              <a:off x="2111400" y="3052800"/>
              <a:ext cx="1440" cy="14716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111400" y="4524480"/>
              <a:ext cx="4906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2602080" y="4033440"/>
              <a:ext cx="1440" cy="4906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02080" y="4033800"/>
              <a:ext cx="3268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2930400" y="4043520"/>
              <a:ext cx="7920" cy="815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2274480" y="4849920"/>
              <a:ext cx="6541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74840" y="4849920"/>
              <a:ext cx="1800" cy="490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74840" y="5340240"/>
              <a:ext cx="17985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073400" y="4033440"/>
              <a:ext cx="1800" cy="1306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073400" y="4033800"/>
              <a:ext cx="9813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5054760" y="3052440"/>
              <a:ext cx="1440" cy="981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3909960" y="3052800"/>
              <a:ext cx="11448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3902040" y="3052800"/>
              <a:ext cx="7920" cy="3556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3255480" y="3379680"/>
              <a:ext cx="65412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3255840" y="3052800"/>
              <a:ext cx="1800" cy="326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111040" y="3052800"/>
              <a:ext cx="1144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274840" y="3216240"/>
              <a:ext cx="2616120" cy="1960560"/>
            </a:xfrm>
            <a:custGeom>
              <a:avLst/>
              <a:gdLst/>
              <a:ahLst/>
              <a:rect l="l" t="t" r="r" b="b"/>
              <a:pathLst>
                <a:path w="8238" h="6175">
                  <a:moveTo>
                    <a:pt x="0" y="0"/>
                  </a:moveTo>
                  <a:lnTo>
                    <a:pt x="2575" y="0"/>
                  </a:lnTo>
                  <a:lnTo>
                    <a:pt x="2575" y="1029"/>
                  </a:lnTo>
                  <a:lnTo>
                    <a:pt x="5663" y="1029"/>
                  </a:lnTo>
                  <a:lnTo>
                    <a:pt x="5663" y="0"/>
                  </a:lnTo>
                  <a:lnTo>
                    <a:pt x="8238" y="0"/>
                  </a:lnTo>
                  <a:lnTo>
                    <a:pt x="8238" y="2059"/>
                  </a:lnTo>
                  <a:lnTo>
                    <a:pt x="5149" y="2059"/>
                  </a:lnTo>
                  <a:lnTo>
                    <a:pt x="5149" y="6175"/>
                  </a:lnTo>
                  <a:lnTo>
                    <a:pt x="516" y="6175"/>
                  </a:lnTo>
                  <a:lnTo>
                    <a:pt x="516" y="5660"/>
                  </a:lnTo>
                  <a:lnTo>
                    <a:pt x="2575" y="5660"/>
                  </a:lnTo>
                  <a:lnTo>
                    <a:pt x="2575" y="2059"/>
                  </a:lnTo>
                  <a:lnTo>
                    <a:pt x="516" y="2059"/>
                  </a:lnTo>
                  <a:lnTo>
                    <a:pt x="516" y="3602"/>
                  </a:lnTo>
                  <a:lnTo>
                    <a:pt x="0" y="36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38280" y="3379680"/>
              <a:ext cx="490680" cy="32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37200" y="3379680"/>
              <a:ext cx="490320" cy="32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255840" y="3706920"/>
              <a:ext cx="490680" cy="13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727520" y="4361040"/>
              <a:ext cx="1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727520" y="5013360"/>
              <a:ext cx="1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30400" y="2971800"/>
              <a:ext cx="3105000" cy="1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135400" y="2971800"/>
              <a:ext cx="1800" cy="24512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2030040" y="5423040"/>
              <a:ext cx="3105000" cy="1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2030400" y="2971440"/>
              <a:ext cx="1440" cy="24512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4199040" y="4465800"/>
              <a:ext cx="1079280" cy="603000"/>
              <a:chOff x="4199040" y="4465800"/>
              <a:chExt cx="1079280" cy="603000"/>
            </a:xfrm>
          </p:grpSpPr>
          <p:sp>
            <p:nvSpPr>
              <p:cNvPr id="421" name=""/>
              <p:cNvSpPr/>
              <p:nvPr/>
            </p:nvSpPr>
            <p:spPr>
              <a:xfrm>
                <a:off x="4199040" y="4465800"/>
                <a:ext cx="631800" cy="603000"/>
              </a:xfrm>
              <a:prstGeom prst="ellipse">
                <a:avLst/>
              </a:prstGeom>
              <a:solidFill>
                <a:srgbClr val="cecec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951440" y="4618080"/>
                <a:ext cx="326880" cy="298440"/>
              </a:xfrm>
              <a:prstGeom prst="ellipse">
                <a:avLst/>
              </a:prstGeom>
              <a:solidFill>
                <a:srgbClr val="cecec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943160" y="4614840"/>
                <a:ext cx="3276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295880" y="4594320"/>
                <a:ext cx="472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4951440" y="4599000"/>
              <a:ext cx="345960" cy="331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168800" y="4430880"/>
              <a:ext cx="689040" cy="688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948200" y="4613400"/>
              <a:ext cx="34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62400" y="4599000"/>
              <a:ext cx="472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1371600" y="1981080"/>
            <a:ext cx="7162920" cy="411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714680" y="2738520"/>
            <a:ext cx="4000320" cy="309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riétés générales de l'éro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'érosion est invariante par trans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2082960" y="3289320"/>
            <a:ext cx="1788840" cy="233028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4554360" y="2622600"/>
            <a:ext cx="1789200" cy="233028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 flipV="1">
            <a:off x="3583080" y="4646160"/>
            <a:ext cx="2435040" cy="722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4876920" y="4994280"/>
                <a:ext cx="2872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437" name=""/>
          <p:cNvGraphicFramePr/>
          <p:nvPr/>
        </p:nvGraphicFramePr>
        <p:xfrm>
          <a:off x="2205000" y="2598840"/>
          <a:ext cx="1916280" cy="40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5000" y="2598840"/>
                    <a:ext cx="1916280" cy="4032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riétés générales de l'éro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'érosion est compatible avec les homothé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2527200" y="3868560"/>
            <a:ext cx="900360" cy="117000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4983120" y="2674800"/>
            <a:ext cx="1789200" cy="233064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5994360" y="2670120"/>
            <a:ext cx="289080" cy="289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333840" y="2662200"/>
            <a:ext cx="438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9760" y="3700440"/>
            <a:ext cx="131760" cy="131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362040" y="3633840"/>
            <a:ext cx="327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130560" y="3606840"/>
            <a:ext cx="544680" cy="344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888160" y="2535120"/>
            <a:ext cx="1001520" cy="51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39880" y="4998960"/>
            <a:ext cx="333720" cy="33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568920" y="4884840"/>
            <a:ext cx="458640" cy="33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3203640" y="4794120"/>
            <a:ext cx="326880" cy="19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6132600" y="4537080"/>
            <a:ext cx="426960" cy="34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178760" y="3421080"/>
            <a:ext cx="206280" cy="206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348680" y="3403440"/>
            <a:ext cx="1234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sem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178760" y="4349880"/>
            <a:ext cx="206280" cy="206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377120" y="4332240"/>
            <a:ext cx="803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rod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930920" y="2521080"/>
            <a:ext cx="2149200" cy="28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416320" y="3392640"/>
            <a:ext cx="1716120" cy="207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2286000" y="2743200"/>
          <a:ext cx="1963800" cy="56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743200"/>
                    <a:ext cx="1963800" cy="5698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61" name=""/>
          <p:cNvSpPr/>
          <p:nvPr/>
        </p:nvSpPr>
        <p:spPr>
          <a:xfrm>
            <a:off x="1882800" y="5695920"/>
            <a:ext cx="6417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rai pour une union finie de convexe : ensembles fractals excl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riétés générales de l'éro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aissance locale unifor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'érosion par B d'un ensemble X intersecté par un masque Z est connu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ans un masque Z' obtenue par érosion de Z par 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'est le théorème du masque de mes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2087640" y="2871720"/>
          <a:ext cx="3666960" cy="3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7640" y="2871720"/>
                    <a:ext cx="3666960" cy="3524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66" name=""/>
          <p:cNvGrpSpPr/>
          <p:nvPr/>
        </p:nvGrpSpPr>
        <p:grpSpPr>
          <a:xfrm>
            <a:off x="1859040" y="3528720"/>
            <a:ext cx="6397560" cy="2503800"/>
            <a:chOff x="1859040" y="3528720"/>
            <a:chExt cx="6397560" cy="2503800"/>
          </a:xfrm>
        </p:grpSpPr>
        <p:sp>
          <p:nvSpPr>
            <p:cNvPr id="467" name=""/>
            <p:cNvSpPr/>
            <p:nvPr/>
          </p:nvSpPr>
          <p:spPr>
            <a:xfrm>
              <a:off x="3494160" y="5661000"/>
              <a:ext cx="1144440" cy="3715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1859040" y="3528720"/>
              <a:ext cx="6397560" cy="2367720"/>
              <a:chOff x="1859040" y="3528720"/>
              <a:chExt cx="6397560" cy="2367720"/>
            </a:xfrm>
          </p:grpSpPr>
          <p:sp>
            <p:nvSpPr>
              <p:cNvPr id="469" name=""/>
              <p:cNvSpPr/>
              <p:nvPr/>
            </p:nvSpPr>
            <p:spPr>
              <a:xfrm>
                <a:off x="2013120" y="3692520"/>
                <a:ext cx="4263840" cy="19591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859040" y="3692520"/>
                <a:ext cx="654120" cy="1628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838600" y="3529080"/>
                <a:ext cx="981000" cy="1141200"/>
              </a:xfrm>
              <a:custGeom>
                <a:avLst/>
                <a:gdLst/>
                <a:ahLst/>
                <a:rect l="l" t="t" r="r" b="b"/>
                <a:pathLst>
                  <a:path w="1852" h="2155">
                    <a:moveTo>
                      <a:pt x="0" y="2155"/>
                    </a:moveTo>
                    <a:lnTo>
                      <a:pt x="0" y="308"/>
                    </a:lnTo>
                    <a:lnTo>
                      <a:pt x="927" y="308"/>
                    </a:lnTo>
                    <a:lnTo>
                      <a:pt x="927" y="0"/>
                    </a:lnTo>
                    <a:lnTo>
                      <a:pt x="1544" y="0"/>
                    </a:lnTo>
                    <a:lnTo>
                      <a:pt x="1852" y="0"/>
                    </a:lnTo>
                    <a:lnTo>
                      <a:pt x="1852" y="1847"/>
                    </a:lnTo>
                    <a:lnTo>
                      <a:pt x="927" y="1847"/>
                    </a:lnTo>
                    <a:lnTo>
                      <a:pt x="927" y="923"/>
                    </a:lnTo>
                    <a:lnTo>
                      <a:pt x="310" y="923"/>
                    </a:lnTo>
                    <a:lnTo>
                      <a:pt x="310" y="2155"/>
                    </a:lnTo>
                    <a:lnTo>
                      <a:pt x="0" y="215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145040" y="3529080"/>
                <a:ext cx="1633320" cy="1303200"/>
              </a:xfrm>
              <a:custGeom>
                <a:avLst/>
                <a:gdLst/>
                <a:ahLst/>
                <a:rect l="l" t="t" r="r" b="b"/>
                <a:pathLst>
                  <a:path w="3087" h="2463">
                    <a:moveTo>
                      <a:pt x="0" y="0"/>
                    </a:moveTo>
                    <a:lnTo>
                      <a:pt x="0" y="923"/>
                    </a:lnTo>
                    <a:lnTo>
                      <a:pt x="1544" y="923"/>
                    </a:lnTo>
                    <a:lnTo>
                      <a:pt x="1544" y="2463"/>
                    </a:lnTo>
                    <a:lnTo>
                      <a:pt x="3087" y="2463"/>
                    </a:lnTo>
                    <a:lnTo>
                      <a:pt x="3087" y="0"/>
                    </a:lnTo>
                    <a:lnTo>
                      <a:pt x="2161" y="0"/>
                    </a:lnTo>
                    <a:lnTo>
                      <a:pt x="2161" y="308"/>
                    </a:lnTo>
                    <a:lnTo>
                      <a:pt x="1852" y="308"/>
                    </a:lnTo>
                    <a:lnTo>
                      <a:pt x="185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492360" y="5159520"/>
                <a:ext cx="1143000" cy="650880"/>
              </a:xfrm>
              <a:custGeom>
                <a:avLst/>
                <a:gdLst/>
                <a:ahLst/>
                <a:rect l="l" t="t" r="r" b="b"/>
                <a:pathLst>
                  <a:path w="2161" h="1231">
                    <a:moveTo>
                      <a:pt x="0" y="1231"/>
                    </a:moveTo>
                    <a:lnTo>
                      <a:pt x="0" y="0"/>
                    </a:lnTo>
                    <a:lnTo>
                      <a:pt x="1234" y="0"/>
                    </a:lnTo>
                    <a:lnTo>
                      <a:pt x="1234" y="923"/>
                    </a:lnTo>
                    <a:lnTo>
                      <a:pt x="2161" y="923"/>
                    </a:lnTo>
                    <a:lnTo>
                      <a:pt x="2161" y="1231"/>
                    </a:lnTo>
                    <a:lnTo>
                      <a:pt x="0" y="123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145040" y="4343400"/>
                <a:ext cx="490320" cy="6523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942160" y="4832280"/>
                <a:ext cx="490320" cy="8143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126040" y="4995720"/>
                <a:ext cx="488880" cy="6508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022480" y="3855960"/>
                <a:ext cx="326880" cy="1303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492360" y="3692520"/>
                <a:ext cx="163800" cy="65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309920" y="3692520"/>
                <a:ext cx="652680" cy="163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126040" y="3855960"/>
                <a:ext cx="488880" cy="814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309920" y="4506840"/>
                <a:ext cx="162000" cy="32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656160" y="5321160"/>
                <a:ext cx="326880" cy="32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289480" y="5159520"/>
                <a:ext cx="162000" cy="32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105600" y="4995720"/>
                <a:ext cx="163440" cy="48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859040" y="3529080"/>
                <a:ext cx="45734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432480" y="3529080"/>
                <a:ext cx="1800" cy="2281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1859040" y="5810400"/>
                <a:ext cx="45734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1859040" y="3528720"/>
                <a:ext cx="1440" cy="2281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022480" y="3692520"/>
                <a:ext cx="42465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269040" y="3692520"/>
                <a:ext cx="1440" cy="1954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2022480" y="5646600"/>
                <a:ext cx="42465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>
                <a:off x="2022480" y="3692520"/>
                <a:ext cx="1440" cy="1954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707160" y="4349880"/>
                <a:ext cx="220680" cy="2156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996240" y="3808440"/>
                <a:ext cx="3337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078680" y="4341960"/>
                <a:ext cx="734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(X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707160" y="3816360"/>
                <a:ext cx="220680" cy="2160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707160" y="4959360"/>
                <a:ext cx="220680" cy="2160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076880" y="4951440"/>
                <a:ext cx="11797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Z' = E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(Z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713640" y="5575320"/>
                <a:ext cx="207720" cy="2030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148160" y="5560920"/>
                <a:ext cx="3214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3505320" y="5645160"/>
              <a:ext cx="630000" cy="1573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riétés topologiques de l'éro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'érosion ne préserve pas la connexité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'érosion n'est pas une transformation homotopiq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2249640" y="2800440"/>
            <a:ext cx="3416040" cy="2786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pSp>
        <p:nvGrpSpPr>
          <p:cNvPr id="505" name=""/>
          <p:cNvGrpSpPr/>
          <p:nvPr/>
        </p:nvGrpSpPr>
        <p:grpSpPr>
          <a:xfrm>
            <a:off x="5950080" y="3567240"/>
            <a:ext cx="298440" cy="242640"/>
            <a:chOff x="5950080" y="3567240"/>
            <a:chExt cx="298440" cy="242640"/>
          </a:xfrm>
        </p:grpSpPr>
        <p:pic>
          <p:nvPicPr>
            <p:cNvPr id="506" name="" descr=""/>
            <p:cNvPicPr/>
            <p:nvPr/>
          </p:nvPicPr>
          <p:blipFill>
            <a:blip r:embed="rId2"/>
            <a:stretch/>
          </p:blipFill>
          <p:spPr>
            <a:xfrm>
              <a:off x="5962680" y="3567240"/>
              <a:ext cx="285840" cy="2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5950080" y="3568680"/>
              <a:ext cx="291960" cy="235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950080" y="4330800"/>
            <a:ext cx="291960" cy="234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6477120" y="3581280"/>
                <a:ext cx="304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10" name=""/>
          <p:cNvGraphicFramePr/>
          <p:nvPr/>
        </p:nvGraphicFramePr>
        <p:xfrm>
          <a:off x="6415200" y="4226040"/>
          <a:ext cx="676080" cy="50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15200" y="4226040"/>
                    <a:ext cx="67608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"/>
          <p:cNvSpPr/>
          <p:nvPr/>
        </p:nvSpPr>
        <p:spPr>
          <a:xfrm>
            <a:off x="5165640" y="2889360"/>
            <a:ext cx="317520" cy="284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222880" y="2913120"/>
            <a:ext cx="303120" cy="303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094360" y="2841480"/>
            <a:ext cx="460440" cy="446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162400" y="2909880"/>
            <a:ext cx="327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943600" y="3830760"/>
            <a:ext cx="291960" cy="234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dilatation morphologiq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éfin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: ensemble analysé, B élément structurant (disqu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2390760" y="2811600"/>
          <a:ext cx="4811760" cy="38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0760" y="2811600"/>
                    <a:ext cx="4811760" cy="3888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521" name="" descr=""/>
          <p:cNvPicPr/>
          <p:nvPr/>
        </p:nvPicPr>
        <p:blipFill>
          <a:blip r:embed="rId3"/>
          <a:stretch/>
        </p:blipFill>
        <p:spPr>
          <a:xfrm>
            <a:off x="1774800" y="3314880"/>
            <a:ext cx="3289320" cy="2597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pSp>
        <p:nvGrpSpPr>
          <p:cNvPr id="522" name=""/>
          <p:cNvGrpSpPr/>
          <p:nvPr/>
        </p:nvGrpSpPr>
        <p:grpSpPr>
          <a:xfrm>
            <a:off x="5950080" y="3503520"/>
            <a:ext cx="617760" cy="335520"/>
            <a:chOff x="5950080" y="3503520"/>
            <a:chExt cx="617760" cy="335520"/>
          </a:xfrm>
        </p:grpSpPr>
        <p:sp>
          <p:nvSpPr>
            <p:cNvPr id="523" name=""/>
            <p:cNvSpPr/>
            <p:nvPr/>
          </p:nvSpPr>
          <p:spPr>
            <a:xfrm>
              <a:off x="5950080" y="3511440"/>
              <a:ext cx="215640" cy="2160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34120" y="3503520"/>
              <a:ext cx="33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5950080" y="4189320"/>
            <a:ext cx="1137600" cy="280440"/>
            <a:chOff x="5950080" y="4189320"/>
            <a:chExt cx="1137600" cy="280440"/>
          </a:xfrm>
        </p:grpSpPr>
        <p:sp>
          <p:nvSpPr>
            <p:cNvPr id="526" name=""/>
            <p:cNvSpPr/>
            <p:nvPr/>
          </p:nvSpPr>
          <p:spPr>
            <a:xfrm>
              <a:off x="5950080" y="4197240"/>
              <a:ext cx="215640" cy="2160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78680" y="4197240"/>
              <a:ext cx="215640" cy="216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465960" y="4189320"/>
              <a:ext cx="6217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X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4376520" y="3724200"/>
            <a:ext cx="327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latation morphologiq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luence de la forme de l'élément structur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 du disque circulai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 du carré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1539720" y="3241800"/>
            <a:ext cx="3416400" cy="2695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4950000" y="3251160"/>
            <a:ext cx="3416040" cy="2695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34" name=""/>
          <p:cNvSpPr/>
          <p:nvPr/>
        </p:nvSpPr>
        <p:spPr>
          <a:xfrm>
            <a:off x="7491240" y="3695760"/>
            <a:ext cx="327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5245200" y="2760840"/>
            <a:ext cx="1266120" cy="335520"/>
            <a:chOff x="5245200" y="2760840"/>
            <a:chExt cx="1266120" cy="335520"/>
          </a:xfrm>
        </p:grpSpPr>
        <p:sp>
          <p:nvSpPr>
            <p:cNvPr id="536" name=""/>
            <p:cNvSpPr/>
            <p:nvPr/>
          </p:nvSpPr>
          <p:spPr>
            <a:xfrm>
              <a:off x="5245200" y="2768760"/>
              <a:ext cx="215640" cy="215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473800" y="2768760"/>
              <a:ext cx="215640" cy="215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764320" y="2760840"/>
              <a:ext cx="747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X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245200" y="2417760"/>
            <a:ext cx="617760" cy="335520"/>
            <a:chOff x="5245200" y="2417760"/>
            <a:chExt cx="617760" cy="335520"/>
          </a:xfrm>
        </p:grpSpPr>
        <p:sp>
          <p:nvSpPr>
            <p:cNvPr id="540" name=""/>
            <p:cNvSpPr/>
            <p:nvPr/>
          </p:nvSpPr>
          <p:spPr>
            <a:xfrm>
              <a:off x="5245200" y="2425680"/>
              <a:ext cx="215640" cy="2160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529240" y="2417760"/>
              <a:ext cx="33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4095720" y="3552840"/>
            <a:ext cx="60948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10200" y="3600360"/>
            <a:ext cx="295200" cy="295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96160" y="3583080"/>
            <a:ext cx="3452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riétés de la dila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priétés algébriq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dilatation est une transformation croissa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dilatation est une transformation extens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dilatation est une transformation contin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dilatation n'est pas idempote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dilatation est duale de l'érosion par complé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priétés topologiq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dilatation préserve la connexité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dilatation n'est pas une transformation homotopiq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2514600" y="2743200"/>
          <a:ext cx="2573280" cy="3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743200"/>
                    <a:ext cx="2573280" cy="3510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2514600" y="3392640"/>
          <a:ext cx="1125360" cy="3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3392640"/>
                    <a:ext cx="1125360" cy="3524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51" name=""/>
          <p:cNvGraphicFramePr/>
          <p:nvPr/>
        </p:nvGraphicFramePr>
        <p:xfrm>
          <a:off x="2514600" y="4361040"/>
          <a:ext cx="206676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4361040"/>
                    <a:ext cx="2066760" cy="3888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priété de croissance et extensivité de la dila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1892160" y="3051000"/>
            <a:ext cx="3416400" cy="2695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555" name=""/>
          <p:cNvGraphicFramePr/>
          <p:nvPr/>
        </p:nvGraphicFramePr>
        <p:xfrm>
          <a:off x="1863720" y="2090880"/>
          <a:ext cx="2536920" cy="35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63720" y="2090880"/>
                    <a:ext cx="2536920" cy="3524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57" name=""/>
          <p:cNvGraphicFramePr/>
          <p:nvPr/>
        </p:nvGraphicFramePr>
        <p:xfrm>
          <a:off x="1862280" y="2563920"/>
          <a:ext cx="1127160" cy="350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62280" y="2563920"/>
                    <a:ext cx="1127160" cy="3506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59" name=""/>
          <p:cNvSpPr/>
          <p:nvPr/>
        </p:nvSpPr>
        <p:spPr>
          <a:xfrm>
            <a:off x="3697200" y="5030640"/>
            <a:ext cx="612720" cy="613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833640" y="5184720"/>
            <a:ext cx="34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673600" y="2749680"/>
            <a:ext cx="216000" cy="215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680080" y="3365640"/>
            <a:ext cx="203040" cy="203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673600" y="4044960"/>
            <a:ext cx="216000" cy="216000"/>
          </a:xfrm>
          <a:prstGeom prst="rect">
            <a:avLst/>
          </a:prstGeom>
          <a:solidFill>
            <a:srgbClr val="919191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673600" y="4654440"/>
            <a:ext cx="216000" cy="2160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936040" y="4646520"/>
            <a:ext cx="747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929200" y="4037040"/>
            <a:ext cx="333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36040" y="3351240"/>
            <a:ext cx="747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929200" y="2741760"/>
            <a:ext cx="333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371600" y="1981080"/>
            <a:ext cx="7162920" cy="411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dilatation est non idempoten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1716120" y="3174840"/>
            <a:ext cx="3416400" cy="2695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572" name=""/>
          <p:cNvGraphicFramePr/>
          <p:nvPr/>
        </p:nvGraphicFramePr>
        <p:xfrm>
          <a:off x="1679400" y="2125800"/>
          <a:ext cx="2065680" cy="39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9400" y="2125800"/>
                    <a:ext cx="2065680" cy="3902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74" name=""/>
          <p:cNvGrpSpPr/>
          <p:nvPr/>
        </p:nvGrpSpPr>
        <p:grpSpPr>
          <a:xfrm>
            <a:off x="5707080" y="3630600"/>
            <a:ext cx="301680" cy="249120"/>
            <a:chOff x="5707080" y="3630600"/>
            <a:chExt cx="301680" cy="249120"/>
          </a:xfrm>
        </p:grpSpPr>
        <p:pic>
          <p:nvPicPr>
            <p:cNvPr id="575" name="" descr=""/>
            <p:cNvPicPr/>
            <p:nvPr/>
          </p:nvPicPr>
          <p:blipFill>
            <a:blip r:embed="rId4"/>
            <a:stretch/>
          </p:blipFill>
          <p:spPr>
            <a:xfrm>
              <a:off x="5716440" y="3630600"/>
              <a:ext cx="292320" cy="249120"/>
            </a:xfrm>
            <a:prstGeom prst="rect">
              <a:avLst/>
            </a:prstGeom>
            <a:ln w="12600">
              <a:solidFill>
                <a:srgbClr val="919191"/>
              </a:solidFill>
              <a:miter/>
            </a:ln>
          </p:spPr>
        </p:pic>
        <p:sp>
          <p:nvSpPr>
            <p:cNvPr id="576" name=""/>
            <p:cNvSpPr/>
            <p:nvPr/>
          </p:nvSpPr>
          <p:spPr>
            <a:xfrm>
              <a:off x="5707080" y="3635280"/>
              <a:ext cx="291960" cy="23508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5713560" y="4413240"/>
            <a:ext cx="279360" cy="222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721480" y="2882880"/>
            <a:ext cx="291960" cy="235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6172200" y="3627360"/>
                <a:ext cx="58572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80" name=""/>
          <p:cNvGraphicFramePr/>
          <p:nvPr/>
        </p:nvGraphicFramePr>
        <p:xfrm>
          <a:off x="6103800" y="4300560"/>
          <a:ext cx="2102040" cy="39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03800" y="4300560"/>
                    <a:ext cx="2102040" cy="3906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82" name=""/>
          <p:cNvSpPr/>
          <p:nvPr/>
        </p:nvSpPr>
        <p:spPr>
          <a:xfrm>
            <a:off x="6183360" y="5083200"/>
            <a:ext cx="1825560" cy="58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dilatation est itér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162920" y="47242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081840" y="2894040"/>
            <a:ext cx="333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205160" y="3456000"/>
            <a:ext cx="472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248000" y="4098960"/>
            <a:ext cx="34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371600" y="1981080"/>
            <a:ext cx="7162920" cy="411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phologie mathématique ensemblis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tude dans l ’espace conti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otions de mathématiques utiles à la M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s principaux opérateurs et leurs proprié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osion et dila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'érosion et la dilatation par le même élément structurant sont duales vis à vis de la complé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1760400" y="2567160"/>
          <a:ext cx="1946520" cy="46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0" y="2567160"/>
                    <a:ext cx="1946520" cy="4680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1657440" y="3102120"/>
            <a:ext cx="5209920" cy="268920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2887560" y="4722840"/>
            <a:ext cx="333720" cy="33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817720" y="3274920"/>
            <a:ext cx="734760" cy="33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2889000" y="3664080"/>
            <a:ext cx="88920" cy="44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2736360" y="4413240"/>
            <a:ext cx="16524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02480" y="4037040"/>
            <a:ext cx="469800" cy="33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722280" y="3274920"/>
            <a:ext cx="843120" cy="33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6089400" y="3511440"/>
            <a:ext cx="61740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6013080" y="4349880"/>
            <a:ext cx="69372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916520" y="2706840"/>
            <a:ext cx="301680" cy="30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890960" y="2684520"/>
            <a:ext cx="34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riétés générales de la dila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dilatation est contin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dilatation est invariante par trans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dilatation est compatible avec les homothé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latation et connaissance loca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1812960" y="2871720"/>
          <a:ext cx="1938240" cy="4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2960" y="2871720"/>
                    <a:ext cx="1938240" cy="4017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07" name=""/>
          <p:cNvGraphicFramePr/>
          <p:nvPr/>
        </p:nvGraphicFramePr>
        <p:xfrm>
          <a:off x="1817640" y="4002120"/>
          <a:ext cx="1992240" cy="56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17640" y="4002120"/>
                    <a:ext cx="1992240" cy="5684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1752480" y="4952880"/>
          <a:ext cx="3692520" cy="35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952880"/>
                    <a:ext cx="3692520" cy="3510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2028960" y="3243240"/>
            <a:ext cx="4248000" cy="1957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latation et connaissance loca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022480" y="2425680"/>
          <a:ext cx="3692520" cy="35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22480" y="2425680"/>
                    <a:ext cx="3692520" cy="3510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15" name=""/>
          <p:cNvSpPr/>
          <p:nvPr/>
        </p:nvSpPr>
        <p:spPr>
          <a:xfrm>
            <a:off x="6721560" y="3664080"/>
            <a:ext cx="220680" cy="215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010280" y="3122640"/>
            <a:ext cx="333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093080" y="3656160"/>
            <a:ext cx="747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721560" y="3130560"/>
            <a:ext cx="220680" cy="2160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27680" y="4280040"/>
            <a:ext cx="208080" cy="203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091280" y="4265640"/>
            <a:ext cx="1179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' = 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727680" y="4889520"/>
            <a:ext cx="208080" cy="203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162560" y="4875120"/>
            <a:ext cx="321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492360" y="4707000"/>
            <a:ext cx="1135080" cy="642960"/>
          </a:xfrm>
          <a:custGeom>
            <a:avLst/>
            <a:gdLst/>
            <a:ahLst/>
            <a:rect l="l" t="t" r="r" b="b"/>
            <a:pathLst>
              <a:path w="715" h="405">
                <a:moveTo>
                  <a:pt x="0" y="404"/>
                </a:moveTo>
                <a:lnTo>
                  <a:pt x="0" y="0"/>
                </a:lnTo>
                <a:lnTo>
                  <a:pt x="204" y="0"/>
                </a:lnTo>
                <a:lnTo>
                  <a:pt x="204" y="202"/>
                </a:lnTo>
                <a:lnTo>
                  <a:pt x="511" y="202"/>
                </a:lnTo>
                <a:lnTo>
                  <a:pt x="511" y="0"/>
                </a:lnTo>
                <a:lnTo>
                  <a:pt x="714" y="0"/>
                </a:lnTo>
                <a:lnTo>
                  <a:pt x="714" y="404"/>
                </a:lnTo>
                <a:lnTo>
                  <a:pt x="0" y="40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289480" y="5032440"/>
            <a:ext cx="1135080" cy="317520"/>
          </a:xfrm>
          <a:custGeom>
            <a:avLst/>
            <a:gdLst/>
            <a:ahLst/>
            <a:rect l="l" t="t" r="r" b="b"/>
            <a:pathLst>
              <a:path w="715" h="200">
                <a:moveTo>
                  <a:pt x="0" y="0"/>
                </a:moveTo>
                <a:lnTo>
                  <a:pt x="714" y="0"/>
                </a:lnTo>
                <a:lnTo>
                  <a:pt x="714" y="199"/>
                </a:lnTo>
                <a:lnTo>
                  <a:pt x="0" y="199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022480" y="4379760"/>
            <a:ext cx="646200" cy="970200"/>
          </a:xfrm>
          <a:custGeom>
            <a:avLst/>
            <a:gdLst/>
            <a:ahLst/>
            <a:rect l="l" t="t" r="r" b="b"/>
            <a:pathLst>
              <a:path w="407" h="611">
                <a:moveTo>
                  <a:pt x="406" y="610"/>
                </a:moveTo>
                <a:lnTo>
                  <a:pt x="406" y="0"/>
                </a:lnTo>
                <a:lnTo>
                  <a:pt x="0" y="0"/>
                </a:lnTo>
                <a:lnTo>
                  <a:pt x="0" y="305"/>
                </a:lnTo>
                <a:lnTo>
                  <a:pt x="203" y="305"/>
                </a:lnTo>
                <a:lnTo>
                  <a:pt x="203" y="610"/>
                </a:lnTo>
                <a:lnTo>
                  <a:pt x="406" y="61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185920" y="3076560"/>
            <a:ext cx="809640" cy="806400"/>
          </a:xfrm>
          <a:custGeom>
            <a:avLst/>
            <a:gdLst/>
            <a:ahLst/>
            <a:rect l="l" t="t" r="r" b="b"/>
            <a:pathLst>
              <a:path w="510" h="508">
                <a:moveTo>
                  <a:pt x="0" y="0"/>
                </a:moveTo>
                <a:lnTo>
                  <a:pt x="0" y="507"/>
                </a:lnTo>
                <a:lnTo>
                  <a:pt x="509" y="507"/>
                </a:lnTo>
                <a:lnTo>
                  <a:pt x="509" y="304"/>
                </a:lnTo>
                <a:lnTo>
                  <a:pt x="204" y="304"/>
                </a:lnTo>
                <a:lnTo>
                  <a:pt x="204" y="0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871640" y="3076560"/>
            <a:ext cx="4548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432480" y="3089160"/>
            <a:ext cx="0" cy="225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1846440" y="5357880"/>
            <a:ext cx="4598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1859040" y="3063600"/>
            <a:ext cx="0" cy="2306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656160" y="3403440"/>
            <a:ext cx="971280" cy="968400"/>
          </a:xfrm>
          <a:custGeom>
            <a:avLst/>
            <a:gdLst/>
            <a:ahLst/>
            <a:rect l="l" t="t" r="r" b="b"/>
            <a:pathLst>
              <a:path w="612" h="610">
                <a:moveTo>
                  <a:pt x="0" y="203"/>
                </a:moveTo>
                <a:lnTo>
                  <a:pt x="0" y="609"/>
                </a:lnTo>
                <a:lnTo>
                  <a:pt x="611" y="609"/>
                </a:lnTo>
                <a:lnTo>
                  <a:pt x="611" y="406"/>
                </a:lnTo>
                <a:lnTo>
                  <a:pt x="204" y="406"/>
                </a:lnTo>
                <a:lnTo>
                  <a:pt x="204" y="203"/>
                </a:lnTo>
                <a:lnTo>
                  <a:pt x="611" y="203"/>
                </a:lnTo>
                <a:lnTo>
                  <a:pt x="611" y="0"/>
                </a:lnTo>
                <a:lnTo>
                  <a:pt x="0" y="0"/>
                </a:lnTo>
                <a:lnTo>
                  <a:pt x="0" y="203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289480" y="3240000"/>
            <a:ext cx="808200" cy="642960"/>
          </a:xfrm>
          <a:custGeom>
            <a:avLst/>
            <a:gdLst/>
            <a:ahLst/>
            <a:rect l="l" t="t" r="r" b="b"/>
            <a:pathLst>
              <a:path w="509" h="405">
                <a:moveTo>
                  <a:pt x="0" y="0"/>
                </a:moveTo>
                <a:lnTo>
                  <a:pt x="0" y="404"/>
                </a:lnTo>
                <a:lnTo>
                  <a:pt x="508" y="404"/>
                </a:lnTo>
                <a:lnTo>
                  <a:pt x="508" y="101"/>
                </a:lnTo>
                <a:lnTo>
                  <a:pt x="304" y="101"/>
                </a:lnTo>
                <a:lnTo>
                  <a:pt x="304" y="0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962600" y="4218120"/>
            <a:ext cx="807840" cy="480960"/>
          </a:xfrm>
          <a:custGeom>
            <a:avLst/>
            <a:gdLst/>
            <a:ahLst/>
            <a:rect l="l" t="t" r="r" b="b"/>
            <a:pathLst>
              <a:path w="509" h="303">
                <a:moveTo>
                  <a:pt x="0" y="0"/>
                </a:moveTo>
                <a:lnTo>
                  <a:pt x="508" y="0"/>
                </a:lnTo>
                <a:lnTo>
                  <a:pt x="508" y="302"/>
                </a:lnTo>
                <a:lnTo>
                  <a:pt x="0" y="302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022480" y="3076560"/>
            <a:ext cx="165240" cy="969840"/>
          </a:xfrm>
          <a:custGeom>
            <a:avLst/>
            <a:gdLst/>
            <a:ahLst/>
            <a:rect l="l" t="t" r="r" b="b"/>
            <a:pathLst>
              <a:path w="98" h="611">
                <a:moveTo>
                  <a:pt x="0" y="0"/>
                </a:moveTo>
                <a:lnTo>
                  <a:pt x="97" y="0"/>
                </a:lnTo>
                <a:lnTo>
                  <a:pt x="97" y="610"/>
                </a:lnTo>
                <a:lnTo>
                  <a:pt x="0" y="61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022480" y="3890880"/>
            <a:ext cx="1135080" cy="155520"/>
          </a:xfrm>
          <a:custGeom>
            <a:avLst/>
            <a:gdLst/>
            <a:ahLst/>
            <a:rect l="l" t="t" r="r" b="b"/>
            <a:pathLst>
              <a:path w="715" h="98">
                <a:moveTo>
                  <a:pt x="0" y="0"/>
                </a:moveTo>
                <a:lnTo>
                  <a:pt x="714" y="0"/>
                </a:lnTo>
                <a:lnTo>
                  <a:pt x="714" y="97"/>
                </a:lnTo>
                <a:lnTo>
                  <a:pt x="0" y="9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003480" y="3403440"/>
            <a:ext cx="154080" cy="479520"/>
          </a:xfrm>
          <a:custGeom>
            <a:avLst/>
            <a:gdLst/>
            <a:ahLst/>
            <a:rect l="l" t="t" r="r" b="b"/>
            <a:pathLst>
              <a:path w="97" h="302">
                <a:moveTo>
                  <a:pt x="0" y="0"/>
                </a:moveTo>
                <a:lnTo>
                  <a:pt x="96" y="0"/>
                </a:lnTo>
                <a:lnTo>
                  <a:pt x="96" y="301"/>
                </a:lnTo>
                <a:lnTo>
                  <a:pt x="0" y="30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513160" y="3403440"/>
            <a:ext cx="644400" cy="154080"/>
          </a:xfrm>
          <a:custGeom>
            <a:avLst/>
            <a:gdLst/>
            <a:ahLst/>
            <a:rect l="l" t="t" r="r" b="b"/>
            <a:pathLst>
              <a:path w="406" h="97">
                <a:moveTo>
                  <a:pt x="0" y="0"/>
                </a:moveTo>
                <a:lnTo>
                  <a:pt x="405" y="0"/>
                </a:lnTo>
                <a:lnTo>
                  <a:pt x="405" y="96"/>
                </a:lnTo>
                <a:lnTo>
                  <a:pt x="0" y="9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513160" y="3076560"/>
            <a:ext cx="155520" cy="480960"/>
          </a:xfrm>
          <a:custGeom>
            <a:avLst/>
            <a:gdLst/>
            <a:ahLst/>
            <a:rect l="l" t="t" r="r" b="b"/>
            <a:pathLst>
              <a:path w="98" h="303">
                <a:moveTo>
                  <a:pt x="0" y="0"/>
                </a:moveTo>
                <a:lnTo>
                  <a:pt x="97" y="0"/>
                </a:lnTo>
                <a:lnTo>
                  <a:pt x="97" y="302"/>
                </a:lnTo>
                <a:lnTo>
                  <a:pt x="0" y="30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492360" y="3240000"/>
            <a:ext cx="155880" cy="1295640"/>
          </a:xfrm>
          <a:custGeom>
            <a:avLst/>
            <a:gdLst/>
            <a:ahLst/>
            <a:rect l="l" t="t" r="r" b="b"/>
            <a:pathLst>
              <a:path w="98" h="816">
                <a:moveTo>
                  <a:pt x="0" y="0"/>
                </a:moveTo>
                <a:lnTo>
                  <a:pt x="97" y="0"/>
                </a:lnTo>
                <a:lnTo>
                  <a:pt x="97" y="815"/>
                </a:lnTo>
                <a:lnTo>
                  <a:pt x="0" y="815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492360" y="3240000"/>
            <a:ext cx="1298880" cy="155520"/>
          </a:xfrm>
          <a:custGeom>
            <a:avLst/>
            <a:gdLst/>
            <a:ahLst/>
            <a:rect l="l" t="t" r="r" b="b"/>
            <a:pathLst>
              <a:path w="818" h="98">
                <a:moveTo>
                  <a:pt x="0" y="0"/>
                </a:moveTo>
                <a:lnTo>
                  <a:pt x="817" y="0"/>
                </a:lnTo>
                <a:lnTo>
                  <a:pt x="817" y="97"/>
                </a:lnTo>
                <a:lnTo>
                  <a:pt x="0" y="9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635360" y="3240000"/>
            <a:ext cx="165240" cy="642960"/>
          </a:xfrm>
          <a:custGeom>
            <a:avLst/>
            <a:gdLst/>
            <a:ahLst/>
            <a:rect l="l" t="t" r="r" b="b"/>
            <a:pathLst>
              <a:path w="98" h="405">
                <a:moveTo>
                  <a:pt x="0" y="0"/>
                </a:moveTo>
                <a:lnTo>
                  <a:pt x="97" y="0"/>
                </a:lnTo>
                <a:lnTo>
                  <a:pt x="97" y="404"/>
                </a:lnTo>
                <a:lnTo>
                  <a:pt x="0" y="404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983040" y="3728880"/>
            <a:ext cx="808200" cy="317520"/>
          </a:xfrm>
          <a:custGeom>
            <a:avLst/>
            <a:gdLst/>
            <a:ahLst/>
            <a:rect l="l" t="t" r="r" b="b"/>
            <a:pathLst>
              <a:path w="509" h="200">
                <a:moveTo>
                  <a:pt x="0" y="0"/>
                </a:moveTo>
                <a:lnTo>
                  <a:pt x="508" y="0"/>
                </a:lnTo>
                <a:lnTo>
                  <a:pt x="508" y="199"/>
                </a:lnTo>
                <a:lnTo>
                  <a:pt x="0" y="19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635360" y="4054320"/>
            <a:ext cx="155880" cy="481320"/>
          </a:xfrm>
          <a:custGeom>
            <a:avLst/>
            <a:gdLst/>
            <a:ahLst/>
            <a:rect l="l" t="t" r="r" b="b"/>
            <a:pathLst>
              <a:path w="98" h="303">
                <a:moveTo>
                  <a:pt x="97" y="0"/>
                </a:moveTo>
                <a:lnTo>
                  <a:pt x="0" y="0"/>
                </a:lnTo>
                <a:lnTo>
                  <a:pt x="0" y="302"/>
                </a:lnTo>
                <a:lnTo>
                  <a:pt x="97" y="302"/>
                </a:lnTo>
                <a:lnTo>
                  <a:pt x="97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656160" y="4379760"/>
            <a:ext cx="971280" cy="155880"/>
          </a:xfrm>
          <a:custGeom>
            <a:avLst/>
            <a:gdLst/>
            <a:ahLst/>
            <a:rect l="l" t="t" r="r" b="b"/>
            <a:pathLst>
              <a:path w="612" h="98">
                <a:moveTo>
                  <a:pt x="0" y="0"/>
                </a:moveTo>
                <a:lnTo>
                  <a:pt x="611" y="0"/>
                </a:lnTo>
                <a:lnTo>
                  <a:pt x="611" y="97"/>
                </a:lnTo>
                <a:lnTo>
                  <a:pt x="0" y="9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126040" y="3076560"/>
            <a:ext cx="155520" cy="969840"/>
          </a:xfrm>
          <a:custGeom>
            <a:avLst/>
            <a:gdLst/>
            <a:ahLst/>
            <a:rect l="l" t="t" r="r" b="b"/>
            <a:pathLst>
              <a:path w="98" h="611">
                <a:moveTo>
                  <a:pt x="0" y="0"/>
                </a:moveTo>
                <a:lnTo>
                  <a:pt x="97" y="0"/>
                </a:lnTo>
                <a:lnTo>
                  <a:pt x="97" y="610"/>
                </a:lnTo>
                <a:lnTo>
                  <a:pt x="0" y="61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289480" y="3890880"/>
            <a:ext cx="971640" cy="155520"/>
          </a:xfrm>
          <a:custGeom>
            <a:avLst/>
            <a:gdLst/>
            <a:ahLst/>
            <a:rect l="l" t="t" r="r" b="b"/>
            <a:pathLst>
              <a:path w="612" h="98">
                <a:moveTo>
                  <a:pt x="0" y="0"/>
                </a:moveTo>
                <a:lnTo>
                  <a:pt x="611" y="0"/>
                </a:lnTo>
                <a:lnTo>
                  <a:pt x="611" y="97"/>
                </a:lnTo>
                <a:lnTo>
                  <a:pt x="0" y="9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105600" y="3403440"/>
            <a:ext cx="155520" cy="642960"/>
          </a:xfrm>
          <a:custGeom>
            <a:avLst/>
            <a:gdLst/>
            <a:ahLst/>
            <a:rect l="l" t="t" r="r" b="b"/>
            <a:pathLst>
              <a:path w="98" h="405">
                <a:moveTo>
                  <a:pt x="0" y="0"/>
                </a:moveTo>
                <a:lnTo>
                  <a:pt x="97" y="0"/>
                </a:lnTo>
                <a:lnTo>
                  <a:pt x="97" y="404"/>
                </a:lnTo>
                <a:lnTo>
                  <a:pt x="0" y="404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778360" y="3240000"/>
            <a:ext cx="482760" cy="155520"/>
          </a:xfrm>
          <a:custGeom>
            <a:avLst/>
            <a:gdLst/>
            <a:ahLst/>
            <a:rect l="l" t="t" r="r" b="b"/>
            <a:pathLst>
              <a:path w="304" h="98">
                <a:moveTo>
                  <a:pt x="0" y="0"/>
                </a:moveTo>
                <a:lnTo>
                  <a:pt x="303" y="0"/>
                </a:lnTo>
                <a:lnTo>
                  <a:pt x="303" y="97"/>
                </a:lnTo>
                <a:lnTo>
                  <a:pt x="0" y="9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289480" y="3076560"/>
            <a:ext cx="644760" cy="155520"/>
          </a:xfrm>
          <a:custGeom>
            <a:avLst/>
            <a:gdLst/>
            <a:ahLst/>
            <a:rect l="l" t="t" r="r" b="b"/>
            <a:pathLst>
              <a:path w="406" h="98">
                <a:moveTo>
                  <a:pt x="0" y="0"/>
                </a:moveTo>
                <a:lnTo>
                  <a:pt x="405" y="0"/>
                </a:lnTo>
                <a:lnTo>
                  <a:pt x="405" y="97"/>
                </a:lnTo>
                <a:lnTo>
                  <a:pt x="0" y="9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859040" y="4218120"/>
            <a:ext cx="155520" cy="806400"/>
          </a:xfrm>
          <a:custGeom>
            <a:avLst/>
            <a:gdLst/>
            <a:ahLst/>
            <a:rect l="l" t="t" r="r" b="b"/>
            <a:pathLst>
              <a:path w="98" h="508">
                <a:moveTo>
                  <a:pt x="0" y="0"/>
                </a:moveTo>
                <a:lnTo>
                  <a:pt x="97" y="0"/>
                </a:lnTo>
                <a:lnTo>
                  <a:pt x="97" y="507"/>
                </a:lnTo>
                <a:lnTo>
                  <a:pt x="0" y="50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022480" y="4218120"/>
            <a:ext cx="808200" cy="153720"/>
          </a:xfrm>
          <a:custGeom>
            <a:avLst/>
            <a:gdLst/>
            <a:ahLst/>
            <a:rect l="l" t="t" r="r" b="b"/>
            <a:pathLst>
              <a:path w="509" h="97">
                <a:moveTo>
                  <a:pt x="0" y="0"/>
                </a:moveTo>
                <a:lnTo>
                  <a:pt x="508" y="0"/>
                </a:lnTo>
                <a:lnTo>
                  <a:pt x="508" y="96"/>
                </a:lnTo>
                <a:lnTo>
                  <a:pt x="0" y="9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676600" y="4379760"/>
            <a:ext cx="154080" cy="970200"/>
          </a:xfrm>
          <a:custGeom>
            <a:avLst/>
            <a:gdLst/>
            <a:ahLst/>
            <a:rect l="l" t="t" r="r" b="b"/>
            <a:pathLst>
              <a:path w="97" h="611">
                <a:moveTo>
                  <a:pt x="0" y="0"/>
                </a:moveTo>
                <a:lnTo>
                  <a:pt x="96" y="0"/>
                </a:lnTo>
                <a:lnTo>
                  <a:pt x="96" y="610"/>
                </a:lnTo>
                <a:lnTo>
                  <a:pt x="0" y="61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859040" y="4869000"/>
            <a:ext cx="482400" cy="155520"/>
          </a:xfrm>
          <a:custGeom>
            <a:avLst/>
            <a:gdLst/>
            <a:ahLst/>
            <a:rect l="l" t="t" r="r" b="b"/>
            <a:pathLst>
              <a:path w="304" h="98">
                <a:moveTo>
                  <a:pt x="0" y="0"/>
                </a:moveTo>
                <a:lnTo>
                  <a:pt x="303" y="0"/>
                </a:lnTo>
                <a:lnTo>
                  <a:pt x="303" y="97"/>
                </a:lnTo>
                <a:lnTo>
                  <a:pt x="0" y="9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185920" y="4869000"/>
            <a:ext cx="155520" cy="480960"/>
          </a:xfrm>
          <a:custGeom>
            <a:avLst/>
            <a:gdLst/>
            <a:ahLst/>
            <a:rect l="l" t="t" r="r" b="b"/>
            <a:pathLst>
              <a:path w="98" h="303">
                <a:moveTo>
                  <a:pt x="0" y="0"/>
                </a:moveTo>
                <a:lnTo>
                  <a:pt x="97" y="0"/>
                </a:lnTo>
                <a:lnTo>
                  <a:pt x="97" y="302"/>
                </a:lnTo>
                <a:lnTo>
                  <a:pt x="0" y="30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328920" y="4543560"/>
            <a:ext cx="155520" cy="806400"/>
          </a:xfrm>
          <a:custGeom>
            <a:avLst/>
            <a:gdLst/>
            <a:ahLst/>
            <a:rect l="l" t="t" r="r" b="b"/>
            <a:pathLst>
              <a:path w="98" h="508">
                <a:moveTo>
                  <a:pt x="0" y="0"/>
                </a:moveTo>
                <a:lnTo>
                  <a:pt x="97" y="0"/>
                </a:lnTo>
                <a:lnTo>
                  <a:pt x="97" y="507"/>
                </a:lnTo>
                <a:lnTo>
                  <a:pt x="0" y="50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92360" y="4543560"/>
            <a:ext cx="482760" cy="155520"/>
          </a:xfrm>
          <a:custGeom>
            <a:avLst/>
            <a:gdLst/>
            <a:ahLst/>
            <a:rect l="l" t="t" r="r" b="b"/>
            <a:pathLst>
              <a:path w="304" h="98">
                <a:moveTo>
                  <a:pt x="0" y="0"/>
                </a:moveTo>
                <a:lnTo>
                  <a:pt x="303" y="0"/>
                </a:lnTo>
                <a:lnTo>
                  <a:pt x="303" y="97"/>
                </a:lnTo>
                <a:lnTo>
                  <a:pt x="0" y="9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19600" y="4707000"/>
            <a:ext cx="482400" cy="317520"/>
          </a:xfrm>
          <a:custGeom>
            <a:avLst/>
            <a:gdLst/>
            <a:ahLst/>
            <a:rect l="l" t="t" r="r" b="b"/>
            <a:pathLst>
              <a:path w="304" h="200">
                <a:moveTo>
                  <a:pt x="0" y="0"/>
                </a:moveTo>
                <a:lnTo>
                  <a:pt x="303" y="0"/>
                </a:lnTo>
                <a:lnTo>
                  <a:pt x="303" y="199"/>
                </a:lnTo>
                <a:lnTo>
                  <a:pt x="0" y="19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4145040" y="4543560"/>
            <a:ext cx="164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145040" y="4543560"/>
            <a:ext cx="646200" cy="174600"/>
          </a:xfrm>
          <a:custGeom>
            <a:avLst/>
            <a:gdLst/>
            <a:ahLst/>
            <a:rect l="l" t="t" r="r" b="b"/>
            <a:pathLst>
              <a:path w="407" h="98">
                <a:moveTo>
                  <a:pt x="0" y="0"/>
                </a:moveTo>
                <a:lnTo>
                  <a:pt x="406" y="0"/>
                </a:lnTo>
                <a:lnTo>
                  <a:pt x="406" y="97"/>
                </a:lnTo>
                <a:lnTo>
                  <a:pt x="0" y="9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635360" y="4707000"/>
            <a:ext cx="155880" cy="642960"/>
          </a:xfrm>
          <a:custGeom>
            <a:avLst/>
            <a:gdLst/>
            <a:ahLst/>
            <a:rect l="l" t="t" r="r" b="b"/>
            <a:pathLst>
              <a:path w="98" h="405">
                <a:moveTo>
                  <a:pt x="0" y="0"/>
                </a:moveTo>
                <a:lnTo>
                  <a:pt x="97" y="0"/>
                </a:lnTo>
                <a:lnTo>
                  <a:pt x="97" y="404"/>
                </a:lnTo>
                <a:lnTo>
                  <a:pt x="0" y="404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799160" y="4218120"/>
            <a:ext cx="155520" cy="642960"/>
          </a:xfrm>
          <a:custGeom>
            <a:avLst/>
            <a:gdLst/>
            <a:ahLst/>
            <a:rect l="l" t="t" r="r" b="b"/>
            <a:pathLst>
              <a:path w="98" h="405">
                <a:moveTo>
                  <a:pt x="0" y="0"/>
                </a:moveTo>
                <a:lnTo>
                  <a:pt x="97" y="0"/>
                </a:lnTo>
                <a:lnTo>
                  <a:pt x="97" y="404"/>
                </a:lnTo>
                <a:lnTo>
                  <a:pt x="0" y="404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799160" y="4054320"/>
            <a:ext cx="1135080" cy="155880"/>
          </a:xfrm>
          <a:custGeom>
            <a:avLst/>
            <a:gdLst/>
            <a:ahLst/>
            <a:rect l="l" t="t" r="r" b="b"/>
            <a:pathLst>
              <a:path w="715" h="98">
                <a:moveTo>
                  <a:pt x="0" y="0"/>
                </a:moveTo>
                <a:lnTo>
                  <a:pt x="714" y="0"/>
                </a:lnTo>
                <a:lnTo>
                  <a:pt x="714" y="97"/>
                </a:lnTo>
                <a:lnTo>
                  <a:pt x="0" y="9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778360" y="4218120"/>
            <a:ext cx="155880" cy="642960"/>
          </a:xfrm>
          <a:custGeom>
            <a:avLst/>
            <a:gdLst/>
            <a:ahLst/>
            <a:rect l="l" t="t" r="r" b="b"/>
            <a:pathLst>
              <a:path w="98" h="405">
                <a:moveTo>
                  <a:pt x="0" y="0"/>
                </a:moveTo>
                <a:lnTo>
                  <a:pt x="97" y="0"/>
                </a:lnTo>
                <a:lnTo>
                  <a:pt x="97" y="404"/>
                </a:lnTo>
                <a:lnTo>
                  <a:pt x="0" y="404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962600" y="4707000"/>
            <a:ext cx="807840" cy="154080"/>
          </a:xfrm>
          <a:custGeom>
            <a:avLst/>
            <a:gdLst/>
            <a:ahLst/>
            <a:rect l="l" t="t" r="r" b="b"/>
            <a:pathLst>
              <a:path w="509" h="97">
                <a:moveTo>
                  <a:pt x="0" y="0"/>
                </a:moveTo>
                <a:lnTo>
                  <a:pt x="508" y="0"/>
                </a:lnTo>
                <a:lnTo>
                  <a:pt x="508" y="96"/>
                </a:lnTo>
                <a:lnTo>
                  <a:pt x="0" y="9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126040" y="4869000"/>
            <a:ext cx="155520" cy="480960"/>
          </a:xfrm>
          <a:custGeom>
            <a:avLst/>
            <a:gdLst/>
            <a:ahLst/>
            <a:rect l="l" t="t" r="r" b="b"/>
            <a:pathLst>
              <a:path w="98" h="303">
                <a:moveTo>
                  <a:pt x="0" y="0"/>
                </a:moveTo>
                <a:lnTo>
                  <a:pt x="97" y="0"/>
                </a:lnTo>
                <a:lnTo>
                  <a:pt x="97" y="302"/>
                </a:lnTo>
                <a:lnTo>
                  <a:pt x="0" y="30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289480" y="4869000"/>
            <a:ext cx="1135080" cy="155520"/>
          </a:xfrm>
          <a:custGeom>
            <a:avLst/>
            <a:gdLst/>
            <a:ahLst/>
            <a:rect l="l" t="t" r="r" b="b"/>
            <a:pathLst>
              <a:path w="715" h="98">
                <a:moveTo>
                  <a:pt x="0" y="0"/>
                </a:moveTo>
                <a:lnTo>
                  <a:pt x="714" y="0"/>
                </a:lnTo>
                <a:lnTo>
                  <a:pt x="714" y="97"/>
                </a:lnTo>
                <a:lnTo>
                  <a:pt x="0" y="9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028960" y="3240000"/>
            <a:ext cx="423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269040" y="3246480"/>
            <a:ext cx="0" cy="19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2016000" y="5194440"/>
            <a:ext cx="425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2022480" y="3233520"/>
            <a:ext cx="0" cy="19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371600" y="1981080"/>
            <a:ext cx="7162920" cy="411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181240" y="5381640"/>
            <a:ext cx="2600280" cy="371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828880" y="5191200"/>
            <a:ext cx="486000" cy="162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63320" y="5519880"/>
            <a:ext cx="1779480" cy="23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bjet en dehors du cham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 flipV="1">
            <a:off x="4514400" y="5519520"/>
            <a:ext cx="428760" cy="128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430000" y="5653080"/>
            <a:ext cx="1151640" cy="23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laté de l ’obj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2800440" y="5285880"/>
            <a:ext cx="31428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dilatation distribue l'un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2411280" y="2330280"/>
          <a:ext cx="2862360" cy="3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330280"/>
                    <a:ext cx="2862360" cy="3495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681" name=""/>
          <p:cNvGrpSpPr/>
          <p:nvPr/>
        </p:nvGrpSpPr>
        <p:grpSpPr>
          <a:xfrm>
            <a:off x="2214720" y="2868480"/>
            <a:ext cx="3409920" cy="2689200"/>
            <a:chOff x="2214720" y="2868480"/>
            <a:chExt cx="3409920" cy="2689200"/>
          </a:xfrm>
        </p:grpSpPr>
        <p:pic>
          <p:nvPicPr>
            <p:cNvPr id="682" name="" descr=""/>
            <p:cNvPicPr/>
            <p:nvPr/>
          </p:nvPicPr>
          <p:blipFill>
            <a:blip r:embed="rId3"/>
            <a:stretch/>
          </p:blipFill>
          <p:spPr>
            <a:xfrm>
              <a:off x="2214720" y="2868480"/>
              <a:ext cx="3409920" cy="26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"/>
            <p:cNvSpPr/>
            <p:nvPr/>
          </p:nvSpPr>
          <p:spPr>
            <a:xfrm>
              <a:off x="3324960" y="2970360"/>
              <a:ext cx="4190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753800" y="3127320"/>
              <a:ext cx="4190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5" name=""/>
                <p:cNvSpPr txBox="1"/>
                <p:nvPr/>
              </p:nvSpPr>
              <p:spPr>
                <a:xfrm>
                  <a:off x="4379760" y="4437000"/>
                  <a:ext cx="738360" cy="24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ÈB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86" name=""/>
            <p:cNvSpPr/>
            <p:nvPr/>
          </p:nvSpPr>
          <p:spPr>
            <a:xfrm>
              <a:off x="3968640" y="2892600"/>
              <a:ext cx="1487520" cy="1144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220840" y="2892600"/>
              <a:ext cx="1487520" cy="1144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820960" y="4187880"/>
              <a:ext cx="2473200" cy="1144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6026040" y="3292560"/>
            <a:ext cx="187560" cy="187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319800" y="3255840"/>
            <a:ext cx="145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semble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026040" y="4192560"/>
            <a:ext cx="187560" cy="1872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305760" y="4013280"/>
            <a:ext cx="13611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sem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la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183200" y="5473800"/>
            <a:ext cx="3476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nde importance technolog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371600" y="1981080"/>
            <a:ext cx="7162920" cy="411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osion et union d'élé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 dualité et à partir de la relation précédente on a 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3487680" y="2374920"/>
          <a:ext cx="2979720" cy="36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87680" y="2374920"/>
                    <a:ext cx="2979720" cy="3650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99" name="" descr=""/>
          <p:cNvPicPr/>
          <p:nvPr/>
        </p:nvPicPr>
        <p:blipFill>
          <a:blip r:embed="rId3"/>
          <a:stretch/>
        </p:blipFill>
        <p:spPr>
          <a:xfrm>
            <a:off x="1781280" y="3041640"/>
            <a:ext cx="4849560" cy="268920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1611360" y="2992320"/>
            <a:ext cx="2192400" cy="1158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611360" y="4316400"/>
            <a:ext cx="2192400" cy="1158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235400" y="3344760"/>
            <a:ext cx="2292480" cy="151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382200" y="3470400"/>
            <a:ext cx="4190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182040" y="4456080"/>
            <a:ext cx="4190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5748480" y="3911760"/>
          <a:ext cx="515880" cy="20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8480" y="3911760"/>
                    <a:ext cx="51588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7" name=""/>
          <p:cNvSpPr/>
          <p:nvPr/>
        </p:nvSpPr>
        <p:spPr>
          <a:xfrm>
            <a:off x="4183200" y="5473800"/>
            <a:ext cx="3476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nde importance technolog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1604880" y="3043080"/>
            <a:ext cx="4670640" cy="2600640"/>
          </a:xfrm>
          <a:prstGeom prst="rect">
            <a:avLst/>
          </a:prstGeom>
          <a:ln w="0">
            <a:noFill/>
          </a:ln>
        </p:spPr>
      </p:pic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osion d'une intersection d'ensemb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a la relation suivante 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1728720" y="2367000"/>
          <a:ext cx="2840040" cy="35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28720" y="2367000"/>
                    <a:ext cx="2840040" cy="3524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13" name=""/>
          <p:cNvSpPr/>
          <p:nvPr/>
        </p:nvSpPr>
        <p:spPr>
          <a:xfrm>
            <a:off x="5462640" y="3137040"/>
            <a:ext cx="34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440400" y="3511440"/>
            <a:ext cx="216000" cy="2160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529040" y="3471840"/>
            <a:ext cx="816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et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440400" y="4425840"/>
            <a:ext cx="216000" cy="216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780240" y="4113360"/>
            <a:ext cx="1618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) et 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506320" y="3198960"/>
            <a:ext cx="333720" cy="33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963520" y="5560920"/>
            <a:ext cx="333720" cy="33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2050920" y="3587760"/>
            <a:ext cx="47016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 flipV="1">
            <a:off x="2508120" y="5175000"/>
            <a:ext cx="470160" cy="39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4637160" y="4762440"/>
          <a:ext cx="595080" cy="249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37160" y="4762440"/>
                    <a:ext cx="595080" cy="2491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24" name=""/>
          <p:cNvSpPr/>
          <p:nvPr/>
        </p:nvSpPr>
        <p:spPr>
          <a:xfrm flipH="1" flipV="1">
            <a:off x="4032360" y="4336920"/>
            <a:ext cx="627120" cy="44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606680" y="3054240"/>
            <a:ext cx="1815840" cy="158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606680" y="4654440"/>
            <a:ext cx="1815840" cy="13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435480" y="3359160"/>
            <a:ext cx="1892160" cy="196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6877080" y="3505320"/>
                <a:ext cx="53496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I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9" name=""/>
          <p:cNvSpPr/>
          <p:nvPr/>
        </p:nvSpPr>
        <p:spPr>
          <a:xfrm>
            <a:off x="6330960" y="3359160"/>
            <a:ext cx="204480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0" name=""/>
              <p:cNvSpPr txBox="1"/>
              <p:nvPr/>
            </p:nvSpPr>
            <p:spPr>
              <a:xfrm>
                <a:off x="6897600" y="4624560"/>
                <a:ext cx="97956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Ç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31" name=""/>
          <p:cNvSpPr/>
          <p:nvPr/>
        </p:nvSpPr>
        <p:spPr>
          <a:xfrm>
            <a:off x="6330960" y="4121280"/>
            <a:ext cx="204480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183200" y="5473800"/>
            <a:ext cx="3476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nde importance technolog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648240" y="3460680"/>
            <a:ext cx="0" cy="145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riétés topologiques de la dila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dilatation préserve la connexité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dilatation n'est pas  homotopiq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1854360" y="3121200"/>
            <a:ext cx="3416040" cy="2695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37" name=""/>
          <p:cNvSpPr/>
          <p:nvPr/>
        </p:nvSpPr>
        <p:spPr>
          <a:xfrm>
            <a:off x="5645160" y="3359160"/>
            <a:ext cx="216000" cy="2160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45160" y="3892680"/>
            <a:ext cx="216000" cy="215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929200" y="3351240"/>
            <a:ext cx="333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936040" y="3884760"/>
            <a:ext cx="747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543200" y="3557520"/>
            <a:ext cx="327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binaisons d'érosions et de dilat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 érosions et les dilatations peuvent être combinées pour former d'autres opérateurs morphologiques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'ouver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'est une érosion par l'élément B suivie d'une dilatation par l'élément structurant transposé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ferme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'est une dilatation par l'élément B suivie d'une érosion par l'élément structurant transposé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6086520" y="3328920"/>
                <a:ext cx="15408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˘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6110280" y="4681440"/>
                <a:ext cx="15408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˘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746" name=""/>
          <p:cNvGraphicFramePr/>
          <p:nvPr/>
        </p:nvGraphicFramePr>
        <p:xfrm>
          <a:off x="1859040" y="3635280"/>
          <a:ext cx="2562120" cy="3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9040" y="3635280"/>
                    <a:ext cx="2562120" cy="3906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8" name=""/>
          <p:cNvGraphicFramePr/>
          <p:nvPr/>
        </p:nvGraphicFramePr>
        <p:xfrm>
          <a:off x="1847880" y="5035680"/>
          <a:ext cx="2523960" cy="39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47880" y="5035680"/>
                    <a:ext cx="2523960" cy="3902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'ouverture morphologiq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verture morphologique par un disque circulai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2182680" y="2855880"/>
            <a:ext cx="3416400" cy="2695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53" name=""/>
          <p:cNvSpPr/>
          <p:nvPr/>
        </p:nvSpPr>
        <p:spPr>
          <a:xfrm>
            <a:off x="4713120" y="4789440"/>
            <a:ext cx="303480" cy="30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700520" y="4780080"/>
            <a:ext cx="34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502320" y="3359160"/>
            <a:ext cx="216000" cy="2160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502320" y="3892680"/>
            <a:ext cx="216000" cy="215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786720" y="3351240"/>
            <a:ext cx="333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792840" y="3884760"/>
            <a:ext cx="760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9" name=""/>
          <p:cNvGraphicFramePr/>
          <p:nvPr/>
        </p:nvGraphicFramePr>
        <p:xfrm>
          <a:off x="5797440" y="2549520"/>
          <a:ext cx="2067120" cy="38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7440" y="2549520"/>
                    <a:ext cx="2067120" cy="3888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'ouverture morphologiq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verture morphologique par un carr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'ouverture ne supprime que les parties étroites et les objets plus petits que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502320" y="3359160"/>
            <a:ext cx="216000" cy="2160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502320" y="3892680"/>
            <a:ext cx="216000" cy="215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786720" y="3351240"/>
            <a:ext cx="333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792840" y="3884760"/>
            <a:ext cx="760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2173320" y="3098880"/>
            <a:ext cx="3416400" cy="2695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68" name=""/>
          <p:cNvSpPr/>
          <p:nvPr/>
        </p:nvSpPr>
        <p:spPr>
          <a:xfrm>
            <a:off x="4794120" y="4956120"/>
            <a:ext cx="303480" cy="30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791240" y="4956120"/>
            <a:ext cx="34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269040" y="3359160"/>
            <a:ext cx="216000" cy="216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1" name=""/>
          <p:cNvGraphicFramePr/>
          <p:nvPr/>
        </p:nvGraphicFramePr>
        <p:xfrm>
          <a:off x="5797440" y="2835360"/>
          <a:ext cx="2067120" cy="39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7440" y="2835360"/>
                    <a:ext cx="2067120" cy="3906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morphologie mathématique ensemblis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morphologie mathématique ensemblis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rphologie euclidie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s d'ensembles, principes, propriété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 opérateurs de base : érosion, dilatation, ouverture, ferme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 autres opérateurs : squelette, 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rphologie géodésiqu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phologie mathématique discrè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 différents types de tram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vexité et distance dans l'espace discr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érateurs de base (érosion, dilatation, ouverture fermetur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squelet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 transformations de voisinage, amincissements épaississe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verture et éro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'érodé d'un ouvert par l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ême élément structurant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 le lieu des "centres" des éléments structurants dont l'union constitue l'ensemble O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880240" y="3289320"/>
            <a:ext cx="203040" cy="203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234120" y="3274920"/>
            <a:ext cx="333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880240" y="3898800"/>
            <a:ext cx="203040" cy="203400"/>
          </a:xfrm>
          <a:prstGeom prst="rect">
            <a:avLst/>
          </a:prstGeom>
          <a:solidFill>
            <a:srgbClr val="919191"/>
          </a:solidFill>
          <a:ln w="255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240240" y="3884760"/>
            <a:ext cx="760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880240" y="4508640"/>
            <a:ext cx="203040" cy="2030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316920" y="4494240"/>
            <a:ext cx="734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726160" y="5016600"/>
            <a:ext cx="2654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peut comparer érosion et ouverture : l'érosion agit partout, l'ouverture en certains points seule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2173320" y="3098880"/>
            <a:ext cx="3416400" cy="2695320"/>
            <a:chOff x="2173320" y="3098880"/>
            <a:chExt cx="3416400" cy="2695320"/>
          </a:xfrm>
        </p:grpSpPr>
        <p:pic>
          <p:nvPicPr>
            <p:cNvPr id="783" name="" descr=""/>
            <p:cNvPicPr/>
            <p:nvPr/>
          </p:nvPicPr>
          <p:blipFill>
            <a:blip r:embed="rId1"/>
            <a:stretch/>
          </p:blipFill>
          <p:spPr>
            <a:xfrm>
              <a:off x="2173320" y="3098880"/>
              <a:ext cx="3416400" cy="26953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784" name=""/>
            <p:cNvSpPr/>
            <p:nvPr/>
          </p:nvSpPr>
          <p:spPr>
            <a:xfrm>
              <a:off x="4705200" y="3998880"/>
              <a:ext cx="34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908440" y="3352680"/>
              <a:ext cx="631800" cy="6066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200400" y="3562200"/>
              <a:ext cx="74520" cy="74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riétés de l'ouver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priétés algébriq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'ouverture est une transformation croissa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'ouverture est une transformation anti-extens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'ouverture est une transformation semi-continue-sup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'ouverture est idempotente (non itérativ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priétés topologiq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'ouverture ne préserve pas la connexité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'ouverture n'est pas une transformation homotopiq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9" name=""/>
          <p:cNvGraphicFramePr/>
          <p:nvPr/>
        </p:nvGraphicFramePr>
        <p:xfrm>
          <a:off x="2114640" y="2711520"/>
          <a:ext cx="2612880" cy="35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4640" y="2711520"/>
                    <a:ext cx="2612880" cy="3506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91" name=""/>
          <p:cNvGraphicFramePr/>
          <p:nvPr/>
        </p:nvGraphicFramePr>
        <p:xfrm>
          <a:off x="2133720" y="3382920"/>
          <a:ext cx="1150920" cy="3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382920"/>
                    <a:ext cx="1150920" cy="3524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101680" y="4376880"/>
          <a:ext cx="2117880" cy="39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01680" y="4376880"/>
                    <a:ext cx="2117880" cy="3902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2262240" y="3465360"/>
            <a:ext cx="1143000" cy="1792440"/>
          </a:xfrm>
          <a:custGeom>
            <a:avLst/>
            <a:gdLst/>
            <a:ahLst/>
            <a:rect l="l" t="t" r="r" b="b"/>
            <a:pathLst>
              <a:path w="2160" h="3388">
                <a:moveTo>
                  <a:pt x="0" y="0"/>
                </a:moveTo>
                <a:lnTo>
                  <a:pt x="617" y="0"/>
                </a:lnTo>
                <a:lnTo>
                  <a:pt x="617" y="1848"/>
                </a:lnTo>
                <a:lnTo>
                  <a:pt x="1543" y="1848"/>
                </a:lnTo>
                <a:lnTo>
                  <a:pt x="1543" y="2464"/>
                </a:lnTo>
                <a:lnTo>
                  <a:pt x="2160" y="2464"/>
                </a:lnTo>
                <a:lnTo>
                  <a:pt x="2160" y="3388"/>
                </a:lnTo>
                <a:lnTo>
                  <a:pt x="0" y="338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222800" y="3465360"/>
            <a:ext cx="1143000" cy="1792440"/>
          </a:xfrm>
          <a:custGeom>
            <a:avLst/>
            <a:gdLst/>
            <a:ahLst/>
            <a:rect l="l" t="t" r="r" b="b"/>
            <a:pathLst>
              <a:path w="2161" h="3388">
                <a:moveTo>
                  <a:pt x="0" y="0"/>
                </a:moveTo>
                <a:lnTo>
                  <a:pt x="617" y="0"/>
                </a:lnTo>
                <a:lnTo>
                  <a:pt x="617" y="1848"/>
                </a:lnTo>
                <a:lnTo>
                  <a:pt x="1543" y="1848"/>
                </a:lnTo>
                <a:lnTo>
                  <a:pt x="1543" y="2464"/>
                </a:lnTo>
                <a:lnTo>
                  <a:pt x="2161" y="2464"/>
                </a:lnTo>
                <a:lnTo>
                  <a:pt x="2161" y="3388"/>
                </a:lnTo>
                <a:lnTo>
                  <a:pt x="0" y="338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762280" y="4452840"/>
            <a:ext cx="652320" cy="814320"/>
          </a:xfrm>
          <a:custGeom>
            <a:avLst/>
            <a:gdLst/>
            <a:ahLst/>
            <a:rect l="l" t="t" r="r" b="b"/>
            <a:pathLst>
              <a:path w="1234" h="1540">
                <a:moveTo>
                  <a:pt x="0" y="0"/>
                </a:moveTo>
                <a:lnTo>
                  <a:pt x="617" y="0"/>
                </a:lnTo>
                <a:lnTo>
                  <a:pt x="617" y="616"/>
                </a:lnTo>
                <a:lnTo>
                  <a:pt x="1234" y="616"/>
                </a:lnTo>
                <a:lnTo>
                  <a:pt x="1234" y="1540"/>
                </a:lnTo>
                <a:lnTo>
                  <a:pt x="0" y="154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711680" y="4443480"/>
            <a:ext cx="654120" cy="814320"/>
          </a:xfrm>
          <a:custGeom>
            <a:avLst/>
            <a:gdLst/>
            <a:ahLst/>
            <a:rect l="l" t="t" r="r" b="b"/>
            <a:pathLst>
              <a:path w="1236" h="1540">
                <a:moveTo>
                  <a:pt x="0" y="0"/>
                </a:moveTo>
                <a:lnTo>
                  <a:pt x="0" y="1540"/>
                </a:lnTo>
                <a:lnTo>
                  <a:pt x="1236" y="1540"/>
                </a:lnTo>
                <a:lnTo>
                  <a:pt x="1236" y="616"/>
                </a:lnTo>
                <a:lnTo>
                  <a:pt x="619" y="616"/>
                </a:lnTo>
                <a:lnTo>
                  <a:pt x="619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222800" y="4443480"/>
            <a:ext cx="488880" cy="81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079800" y="4443480"/>
            <a:ext cx="815760" cy="814320"/>
          </a:xfrm>
          <a:custGeom>
            <a:avLst/>
            <a:gdLst/>
            <a:ahLst/>
            <a:rect l="l" t="t" r="r" b="b"/>
            <a:pathLst>
              <a:path w="1544" h="1540">
                <a:moveTo>
                  <a:pt x="0" y="0"/>
                </a:moveTo>
                <a:lnTo>
                  <a:pt x="927" y="0"/>
                </a:lnTo>
                <a:lnTo>
                  <a:pt x="927" y="616"/>
                </a:lnTo>
                <a:lnTo>
                  <a:pt x="1544" y="616"/>
                </a:lnTo>
                <a:lnTo>
                  <a:pt x="1544" y="1540"/>
                </a:lnTo>
                <a:lnTo>
                  <a:pt x="617" y="1540"/>
                </a:lnTo>
                <a:lnTo>
                  <a:pt x="617" y="616"/>
                </a:lnTo>
                <a:lnTo>
                  <a:pt x="0" y="61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262240" y="3465360"/>
            <a:ext cx="1440" cy="179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262240" y="5257800"/>
            <a:ext cx="114300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3405240" y="4768920"/>
            <a:ext cx="1440" cy="488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3079800" y="4768920"/>
            <a:ext cx="3254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3079800" y="4443480"/>
            <a:ext cx="1440" cy="325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2588760" y="4443480"/>
            <a:ext cx="4906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2589120" y="3465000"/>
            <a:ext cx="1800" cy="978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2262240" y="3465360"/>
            <a:ext cx="3268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222800" y="3465360"/>
            <a:ext cx="1440" cy="179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222800" y="5257800"/>
            <a:ext cx="114300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5365800" y="4768920"/>
            <a:ext cx="1440" cy="488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5040360" y="4768920"/>
            <a:ext cx="3254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5040360" y="4443480"/>
            <a:ext cx="1440" cy="325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4549320" y="4443480"/>
            <a:ext cx="4906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4549680" y="3465000"/>
            <a:ext cx="1800" cy="978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4222800" y="3465360"/>
            <a:ext cx="3268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715000" y="3429000"/>
            <a:ext cx="326880" cy="163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715000" y="4114800"/>
            <a:ext cx="326880" cy="16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715000" y="5410080"/>
            <a:ext cx="326880" cy="163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916360" y="3873600"/>
            <a:ext cx="48888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874960" y="3832200"/>
            <a:ext cx="82440" cy="81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833560" y="3384720"/>
            <a:ext cx="49068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282840" y="3343320"/>
            <a:ext cx="82800" cy="81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715000" y="4724280"/>
            <a:ext cx="326880" cy="1638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'ouverture est anti-extens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tte propriété implique l'usage d'un élément transposé pour faire l'opération de dila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7" name=""/>
          <p:cNvGraphicFramePr/>
          <p:nvPr/>
        </p:nvGraphicFramePr>
        <p:xfrm>
          <a:off x="2143080" y="2611440"/>
          <a:ext cx="1152720" cy="352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43080" y="2611440"/>
                    <a:ext cx="1152720" cy="3524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29" name=""/>
          <p:cNvSpPr/>
          <p:nvPr/>
        </p:nvSpPr>
        <p:spPr>
          <a:xfrm>
            <a:off x="5694480" y="2641680"/>
            <a:ext cx="360360" cy="317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705640" y="2670120"/>
            <a:ext cx="333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375600" y="4027320"/>
            <a:ext cx="734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2" name=""/>
          <p:cNvGraphicFramePr/>
          <p:nvPr/>
        </p:nvGraphicFramePr>
        <p:xfrm>
          <a:off x="6310440" y="4638600"/>
          <a:ext cx="1144440" cy="382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3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10440" y="4638600"/>
                    <a:ext cx="11444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34" name=""/>
              <p:cNvSpPr txBox="1"/>
              <p:nvPr/>
            </p:nvSpPr>
            <p:spPr>
              <a:xfrm>
                <a:off x="6367320" y="5357880"/>
                <a:ext cx="10177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acc>
                          <m:accPr>
                            <m:chr m:val="˘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5" name=""/>
          <p:cNvSpPr/>
          <p:nvPr/>
        </p:nvSpPr>
        <p:spPr>
          <a:xfrm>
            <a:off x="3490920" y="3198960"/>
            <a:ext cx="34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6" name=""/>
              <p:cNvSpPr txBox="1"/>
              <p:nvPr/>
            </p:nvSpPr>
            <p:spPr>
              <a:xfrm>
                <a:off x="3571920" y="3728880"/>
                <a:ext cx="15408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˘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37" name=""/>
          <p:cNvSpPr/>
          <p:nvPr/>
        </p:nvSpPr>
        <p:spPr>
          <a:xfrm>
            <a:off x="6276600" y="3355920"/>
            <a:ext cx="1629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e perd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715000" y="4572000"/>
            <a:ext cx="326880" cy="16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715000" y="5257800"/>
            <a:ext cx="326880" cy="1620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066760" y="3362400"/>
            <a:ext cx="1181160" cy="1933560"/>
          </a:xfrm>
          <a:custGeom>
            <a:avLst/>
            <a:gdLst/>
            <a:ahLst/>
            <a:rect l="l" t="t" r="r" b="b"/>
            <a:pathLst>
              <a:path w="744" h="1218">
                <a:moveTo>
                  <a:pt x="0" y="66"/>
                </a:moveTo>
                <a:lnTo>
                  <a:pt x="0" y="1218"/>
                </a:lnTo>
                <a:lnTo>
                  <a:pt x="744" y="1218"/>
                </a:lnTo>
                <a:lnTo>
                  <a:pt x="744" y="672"/>
                </a:lnTo>
                <a:lnTo>
                  <a:pt x="240" y="672"/>
                </a:lnTo>
                <a:lnTo>
                  <a:pt x="240" y="48"/>
                </a:lnTo>
                <a:lnTo>
                  <a:pt x="6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verture et connaissance loca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951200" y="3629160"/>
            <a:ext cx="3919320" cy="144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870520" y="3629160"/>
            <a:ext cx="1800" cy="162864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1950840" y="5257800"/>
            <a:ext cx="3919320" cy="144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1951200" y="3629160"/>
            <a:ext cx="1440" cy="162864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951200" y="3629160"/>
            <a:ext cx="3919320" cy="162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114640" y="3301920"/>
            <a:ext cx="490320" cy="816120"/>
          </a:xfrm>
          <a:custGeom>
            <a:avLst/>
            <a:gdLst/>
            <a:ahLst/>
            <a:rect l="l" t="t" r="r" b="b"/>
            <a:pathLst>
              <a:path w="926" h="1540">
                <a:moveTo>
                  <a:pt x="0" y="0"/>
                </a:moveTo>
                <a:lnTo>
                  <a:pt x="0" y="924"/>
                </a:lnTo>
                <a:lnTo>
                  <a:pt x="308" y="924"/>
                </a:lnTo>
                <a:lnTo>
                  <a:pt x="308" y="1540"/>
                </a:lnTo>
                <a:lnTo>
                  <a:pt x="617" y="1540"/>
                </a:lnTo>
                <a:lnTo>
                  <a:pt x="617" y="924"/>
                </a:lnTo>
                <a:lnTo>
                  <a:pt x="926" y="924"/>
                </a:lnTo>
                <a:lnTo>
                  <a:pt x="926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094200" y="3465360"/>
            <a:ext cx="979200" cy="1141560"/>
          </a:xfrm>
          <a:custGeom>
            <a:avLst/>
            <a:gdLst/>
            <a:ahLst/>
            <a:rect l="l" t="t" r="r" b="b"/>
            <a:pathLst>
              <a:path w="1851" h="2157">
                <a:moveTo>
                  <a:pt x="0" y="0"/>
                </a:moveTo>
                <a:lnTo>
                  <a:pt x="0" y="1232"/>
                </a:lnTo>
                <a:lnTo>
                  <a:pt x="926" y="1232"/>
                </a:lnTo>
                <a:lnTo>
                  <a:pt x="926" y="2157"/>
                </a:lnTo>
                <a:lnTo>
                  <a:pt x="1851" y="2157"/>
                </a:lnTo>
                <a:lnTo>
                  <a:pt x="1851" y="1232"/>
                </a:lnTo>
                <a:lnTo>
                  <a:pt x="1851" y="924"/>
                </a:lnTo>
                <a:lnTo>
                  <a:pt x="1543" y="924"/>
                </a:lnTo>
                <a:lnTo>
                  <a:pt x="926" y="924"/>
                </a:lnTo>
                <a:lnTo>
                  <a:pt x="926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564080" y="3954600"/>
            <a:ext cx="163440" cy="814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441520" y="4443480"/>
            <a:ext cx="325440" cy="163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932200" y="4768920"/>
            <a:ext cx="815760" cy="815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094200" y="4932360"/>
            <a:ext cx="490320" cy="48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094200" y="4932360"/>
            <a:ext cx="490320" cy="325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218200" y="4280040"/>
            <a:ext cx="979560" cy="488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543640" y="3954600"/>
            <a:ext cx="164880" cy="9777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787400" y="4768920"/>
            <a:ext cx="327240" cy="6523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402080" y="5095800"/>
            <a:ext cx="816120" cy="488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1623960" y="3301560"/>
            <a:ext cx="1800" cy="22827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1623600" y="5584680"/>
            <a:ext cx="457380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197760" y="3301920"/>
            <a:ext cx="1440" cy="22827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623960" y="3301920"/>
            <a:ext cx="457380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623960" y="3301920"/>
            <a:ext cx="457380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197760" y="3301920"/>
            <a:ext cx="1440" cy="22827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1623600" y="5584680"/>
            <a:ext cx="457380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1623960" y="3301560"/>
            <a:ext cx="1800" cy="22827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114640" y="3629160"/>
            <a:ext cx="490320" cy="16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094200" y="3629160"/>
            <a:ext cx="490320" cy="48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584520" y="3954600"/>
            <a:ext cx="488880" cy="65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951200" y="4768920"/>
            <a:ext cx="163440" cy="48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218200" y="4280040"/>
            <a:ext cx="652320" cy="48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402080" y="5095800"/>
            <a:ext cx="816120" cy="16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951200" y="3629160"/>
            <a:ext cx="391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870520" y="3629160"/>
            <a:ext cx="1800" cy="1628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1950840" y="5257800"/>
            <a:ext cx="391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1951200" y="3629160"/>
            <a:ext cx="1440" cy="1628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381640" y="3465360"/>
            <a:ext cx="326880" cy="3254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542960" y="3220920"/>
            <a:ext cx="473724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280200" y="3220920"/>
            <a:ext cx="1440" cy="24447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1542600" y="5665680"/>
            <a:ext cx="473724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1542960" y="3220560"/>
            <a:ext cx="1800" cy="24447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1" name=""/>
          <p:cNvGraphicFramePr/>
          <p:nvPr/>
        </p:nvGraphicFramePr>
        <p:xfrm>
          <a:off x="1836720" y="2454120"/>
          <a:ext cx="3882960" cy="352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8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36720" y="2454120"/>
                    <a:ext cx="3882960" cy="3524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83" name=""/>
          <p:cNvSpPr/>
          <p:nvPr/>
        </p:nvSpPr>
        <p:spPr>
          <a:xfrm>
            <a:off x="6373800" y="2387520"/>
            <a:ext cx="196920" cy="1969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373800" y="2997360"/>
            <a:ext cx="196920" cy="1965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380280" y="3613320"/>
            <a:ext cx="183960" cy="183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373800" y="4292640"/>
            <a:ext cx="196920" cy="19692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373800" y="5054760"/>
            <a:ext cx="196920" cy="196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602400" y="2387520"/>
            <a:ext cx="196920" cy="196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6961320" y="2411280"/>
                <a:ext cx="547560" cy="1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ÇZ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90" name=""/>
          <p:cNvGraphicFramePr/>
          <p:nvPr/>
        </p:nvGraphicFramePr>
        <p:xfrm>
          <a:off x="6732720" y="2894040"/>
          <a:ext cx="1158840" cy="3445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891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732720" y="2894040"/>
                    <a:ext cx="115884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2" name=""/>
          <p:cNvSpPr/>
          <p:nvPr/>
        </p:nvSpPr>
        <p:spPr>
          <a:xfrm>
            <a:off x="6614280" y="3579840"/>
            <a:ext cx="449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3" name=""/>
          <p:cNvGraphicFramePr/>
          <p:nvPr/>
        </p:nvGraphicFramePr>
        <p:xfrm>
          <a:off x="6834240" y="4227480"/>
          <a:ext cx="1106280" cy="2682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894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834240" y="4227480"/>
                    <a:ext cx="110628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5" name=""/>
          <p:cNvSpPr/>
          <p:nvPr/>
        </p:nvSpPr>
        <p:spPr>
          <a:xfrm>
            <a:off x="6767640" y="5027760"/>
            <a:ext cx="34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584800" y="5640480"/>
            <a:ext cx="4889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notera qu'il faut éroder 2 fois le mas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098880" y="4915080"/>
            <a:ext cx="482400" cy="49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371600" y="1981080"/>
            <a:ext cx="7162920" cy="411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fermeture morphologiq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384200" y="2070000"/>
            <a:ext cx="7137360" cy="4089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rmeture morphologique par un disque circulai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3560760" y="2506680"/>
          <a:ext cx="2016000" cy="3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0760" y="2506680"/>
                    <a:ext cx="2016000" cy="3906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03" name=""/>
          <p:cNvSpPr/>
          <p:nvPr/>
        </p:nvSpPr>
        <p:spPr>
          <a:xfrm>
            <a:off x="6026040" y="3054240"/>
            <a:ext cx="216000" cy="2160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026040" y="3892680"/>
            <a:ext cx="216000" cy="21564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254640" y="3892680"/>
            <a:ext cx="216000" cy="215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386400" y="3046320"/>
            <a:ext cx="333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621120" y="3884760"/>
            <a:ext cx="722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8" name="" descr=""/>
          <p:cNvPicPr/>
          <p:nvPr/>
        </p:nvPicPr>
        <p:blipFill>
          <a:blip r:embed="rId3"/>
          <a:stretch/>
        </p:blipFill>
        <p:spPr>
          <a:xfrm>
            <a:off x="1969920" y="3174840"/>
            <a:ext cx="3595680" cy="2695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09" name=""/>
          <p:cNvSpPr/>
          <p:nvPr/>
        </p:nvSpPr>
        <p:spPr>
          <a:xfrm>
            <a:off x="4586400" y="3427560"/>
            <a:ext cx="34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rmeture morphologiq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rmeture morphologique par un carr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026040" y="3054240"/>
            <a:ext cx="216000" cy="2160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026040" y="3892680"/>
            <a:ext cx="216000" cy="21564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254640" y="3892680"/>
            <a:ext cx="216000" cy="215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386400" y="3046320"/>
            <a:ext cx="333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621120" y="3884760"/>
            <a:ext cx="722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7" name=""/>
          <p:cNvGraphicFramePr/>
          <p:nvPr/>
        </p:nvGraphicFramePr>
        <p:xfrm>
          <a:off x="3560760" y="2430360"/>
          <a:ext cx="2016000" cy="3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0760" y="2430360"/>
                    <a:ext cx="2016000" cy="3891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919" name="" descr=""/>
          <p:cNvPicPr/>
          <p:nvPr/>
        </p:nvPicPr>
        <p:blipFill>
          <a:blip r:embed="rId3"/>
          <a:stretch/>
        </p:blipFill>
        <p:spPr>
          <a:xfrm>
            <a:off x="1906560" y="3174840"/>
            <a:ext cx="3416400" cy="2695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20" name=""/>
          <p:cNvSpPr/>
          <p:nvPr/>
        </p:nvSpPr>
        <p:spPr>
          <a:xfrm>
            <a:off x="4100400" y="3351240"/>
            <a:ext cx="34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riétés de la ferme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'ouverture et la fermeture par le même élément structurant sont duales vis à vis de la complé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026040" y="3054240"/>
            <a:ext cx="216000" cy="2160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026040" y="3892680"/>
            <a:ext cx="216000" cy="21564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254640" y="3892680"/>
            <a:ext cx="216000" cy="215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386400" y="3046320"/>
            <a:ext cx="333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621120" y="3884760"/>
            <a:ext cx="722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716440" y="4497480"/>
            <a:ext cx="2664000" cy="96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 boules B sont conte-nues dans le complémentaire de X, ce qui définit un ouv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9" name=""/>
          <p:cNvGraphicFramePr/>
          <p:nvPr/>
        </p:nvGraphicFramePr>
        <p:xfrm>
          <a:off x="2162160" y="2540160"/>
          <a:ext cx="1976400" cy="47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2160" y="2540160"/>
                    <a:ext cx="1976400" cy="4759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931" name=""/>
          <p:cNvGrpSpPr/>
          <p:nvPr/>
        </p:nvGrpSpPr>
        <p:grpSpPr>
          <a:xfrm>
            <a:off x="1835280" y="3329280"/>
            <a:ext cx="3595680" cy="2531880"/>
            <a:chOff x="1835280" y="3329280"/>
            <a:chExt cx="3595680" cy="2531880"/>
          </a:xfrm>
        </p:grpSpPr>
        <p:sp>
          <p:nvSpPr>
            <p:cNvPr id="932" name=""/>
            <p:cNvSpPr/>
            <p:nvPr/>
          </p:nvSpPr>
          <p:spPr>
            <a:xfrm>
              <a:off x="2489040" y="3656160"/>
              <a:ext cx="490680" cy="16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652840" y="4267080"/>
              <a:ext cx="547560" cy="20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633840" y="4145040"/>
              <a:ext cx="163440" cy="98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797280" y="4308480"/>
              <a:ext cx="488880" cy="163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286160" y="4471920"/>
              <a:ext cx="163440" cy="163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816280" y="3656160"/>
              <a:ext cx="32688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468600" y="3981600"/>
              <a:ext cx="328680" cy="32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468600" y="4962600"/>
              <a:ext cx="328680" cy="32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286160" y="4308480"/>
              <a:ext cx="327240" cy="32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143160" y="3656160"/>
              <a:ext cx="654120" cy="652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143160" y="4962600"/>
              <a:ext cx="654120" cy="65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286160" y="3981600"/>
              <a:ext cx="654120" cy="65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797280" y="4471920"/>
              <a:ext cx="979560" cy="981000"/>
            </a:xfrm>
            <a:custGeom>
              <a:avLst/>
              <a:gdLst/>
              <a:ahLst/>
              <a:rect l="l" t="t" r="r" b="b"/>
              <a:pathLst>
                <a:path w="3089" h="3087">
                  <a:moveTo>
                    <a:pt x="0" y="0"/>
                  </a:moveTo>
                  <a:lnTo>
                    <a:pt x="0" y="3087"/>
                  </a:lnTo>
                  <a:lnTo>
                    <a:pt x="3089" y="3087"/>
                  </a:lnTo>
                  <a:lnTo>
                    <a:pt x="3089" y="515"/>
                  </a:lnTo>
                  <a:lnTo>
                    <a:pt x="1544" y="515"/>
                  </a:lnTo>
                  <a:lnTo>
                    <a:pt x="15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959280" y="4962600"/>
              <a:ext cx="654120" cy="163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998720" y="3165480"/>
              <a:ext cx="261720" cy="144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521080" y="3165480"/>
              <a:ext cx="261720" cy="144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044880" y="3165480"/>
              <a:ext cx="261720" cy="144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567240" y="3165480"/>
              <a:ext cx="261720" cy="144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91040" y="3165480"/>
              <a:ext cx="260280" cy="144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613400" y="3165480"/>
              <a:ext cx="261720" cy="144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103720" y="3165480"/>
              <a:ext cx="1800" cy="26028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103720" y="3687840"/>
              <a:ext cx="1800" cy="26172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103720" y="4210200"/>
              <a:ext cx="1800" cy="26172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103720" y="4734000"/>
              <a:ext cx="1800" cy="26028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103720" y="5256360"/>
              <a:ext cx="1800" cy="26172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4841640" y="5616720"/>
              <a:ext cx="261720" cy="144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>
              <a:off x="4319280" y="5616720"/>
              <a:ext cx="261720" cy="144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3795480" y="5616720"/>
              <a:ext cx="261720" cy="144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3273120" y="5616720"/>
              <a:ext cx="261720" cy="144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>
              <a:off x="2750760" y="5616720"/>
              <a:ext cx="260280" cy="144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2226960" y="5616720"/>
              <a:ext cx="261720" cy="144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V="1">
              <a:off x="1998720" y="5354640"/>
              <a:ext cx="1440" cy="26208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1998720" y="4831920"/>
              <a:ext cx="1440" cy="26028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V="1">
              <a:off x="1998720" y="4308480"/>
              <a:ext cx="1440" cy="26208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V="1">
              <a:off x="1998720" y="3785760"/>
              <a:ext cx="1440" cy="26028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1998720" y="3263760"/>
              <a:ext cx="1440" cy="26064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998720" y="3165480"/>
              <a:ext cx="261720" cy="144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521080" y="3165480"/>
              <a:ext cx="261720" cy="144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044880" y="3165480"/>
              <a:ext cx="261720" cy="144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567240" y="3165480"/>
              <a:ext cx="261720" cy="144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091040" y="3165480"/>
              <a:ext cx="260280" cy="144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613400" y="3165480"/>
              <a:ext cx="261720" cy="144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103720" y="3165480"/>
              <a:ext cx="1800" cy="26028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103720" y="3687840"/>
              <a:ext cx="1800" cy="26172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103720" y="4210200"/>
              <a:ext cx="1800" cy="26172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103720" y="4734000"/>
              <a:ext cx="1800" cy="26028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103720" y="5256360"/>
              <a:ext cx="1800" cy="26172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>
              <a:off x="4841640" y="5616720"/>
              <a:ext cx="261720" cy="144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4319280" y="5616720"/>
              <a:ext cx="261720" cy="144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3795480" y="5616720"/>
              <a:ext cx="261720" cy="144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>
              <a:off x="3273120" y="5616720"/>
              <a:ext cx="261720" cy="144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2750760" y="5616720"/>
              <a:ext cx="260280" cy="144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2226960" y="5616720"/>
              <a:ext cx="261720" cy="144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1998720" y="5354640"/>
              <a:ext cx="1440" cy="26208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1998720" y="4831920"/>
              <a:ext cx="1440" cy="26028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1998720" y="4308480"/>
              <a:ext cx="1440" cy="26208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1998720" y="3785760"/>
              <a:ext cx="1440" cy="26028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1998720" y="3263760"/>
              <a:ext cx="1440" cy="26064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998720" y="3165480"/>
              <a:ext cx="3105000" cy="1440"/>
            </a:xfrm>
            <a:prstGeom prst="line">
              <a:avLst/>
            </a:prstGeom>
            <a:ln w="27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103720" y="3165480"/>
              <a:ext cx="1800" cy="2451240"/>
            </a:xfrm>
            <a:prstGeom prst="line">
              <a:avLst/>
            </a:prstGeom>
            <a:ln w="27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1998360" y="5616720"/>
              <a:ext cx="3105000" cy="1440"/>
            </a:xfrm>
            <a:prstGeom prst="line">
              <a:avLst/>
            </a:prstGeom>
            <a:ln w="27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>
              <a:off x="1998720" y="3165120"/>
              <a:ext cx="1440" cy="2451240"/>
            </a:xfrm>
            <a:prstGeom prst="line">
              <a:avLst/>
            </a:prstGeom>
            <a:ln w="27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489040" y="4145040"/>
              <a:ext cx="327240" cy="16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89040" y="4145040"/>
              <a:ext cx="327240" cy="163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816280" y="3981600"/>
              <a:ext cx="326880" cy="32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816280" y="3656160"/>
              <a:ext cx="654120" cy="652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162160" y="4145040"/>
              <a:ext cx="326880" cy="32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835280" y="4145040"/>
              <a:ext cx="653760" cy="65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959280" y="3656160"/>
              <a:ext cx="32688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960720" y="3328920"/>
              <a:ext cx="654120" cy="654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797280" y="3656160"/>
              <a:ext cx="162000" cy="16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797280" y="3817800"/>
              <a:ext cx="488880" cy="490680"/>
            </a:xfrm>
            <a:custGeom>
              <a:avLst/>
              <a:gdLst/>
              <a:ahLst/>
              <a:rect l="l" t="t" r="r" b="b"/>
              <a:pathLst>
                <a:path w="1544" h="1544">
                  <a:moveTo>
                    <a:pt x="0" y="0"/>
                  </a:moveTo>
                  <a:lnTo>
                    <a:pt x="0" y="1030"/>
                  </a:lnTo>
                  <a:lnTo>
                    <a:pt x="0" y="1544"/>
                  </a:lnTo>
                  <a:lnTo>
                    <a:pt x="1544" y="1544"/>
                  </a:lnTo>
                  <a:lnTo>
                    <a:pt x="1544" y="515"/>
                  </a:lnTo>
                  <a:lnTo>
                    <a:pt x="514" y="515"/>
                  </a:lnTo>
                  <a:lnTo>
                    <a:pt x="5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489040" y="4308480"/>
              <a:ext cx="1168560" cy="654120"/>
            </a:xfrm>
            <a:custGeom>
              <a:avLst/>
              <a:gdLst/>
              <a:ahLst/>
              <a:rect l="l" t="t" r="r" b="b"/>
              <a:pathLst>
                <a:path w="3605" h="2059">
                  <a:moveTo>
                    <a:pt x="0" y="0"/>
                  </a:moveTo>
                  <a:lnTo>
                    <a:pt x="0" y="2059"/>
                  </a:lnTo>
                  <a:lnTo>
                    <a:pt x="3605" y="2059"/>
                  </a:lnTo>
                  <a:lnTo>
                    <a:pt x="3605" y="0"/>
                  </a:lnTo>
                  <a:lnTo>
                    <a:pt x="2060" y="0"/>
                  </a:lnTo>
                  <a:lnTo>
                    <a:pt x="2060" y="515"/>
                  </a:lnTo>
                  <a:lnTo>
                    <a:pt x="516" y="515"/>
                  </a:lnTo>
                  <a:lnTo>
                    <a:pt x="5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162160" y="3492360"/>
              <a:ext cx="981000" cy="652680"/>
            </a:xfrm>
            <a:custGeom>
              <a:avLst/>
              <a:gdLst/>
              <a:ahLst/>
              <a:rect l="l" t="t" r="r" b="b"/>
              <a:pathLst>
                <a:path w="3089" h="2058">
                  <a:moveTo>
                    <a:pt x="3089" y="0"/>
                  </a:moveTo>
                  <a:lnTo>
                    <a:pt x="0" y="0"/>
                  </a:lnTo>
                  <a:lnTo>
                    <a:pt x="0" y="2058"/>
                  </a:lnTo>
                  <a:lnTo>
                    <a:pt x="2060" y="2058"/>
                  </a:lnTo>
                  <a:lnTo>
                    <a:pt x="2060" y="1028"/>
                  </a:lnTo>
                  <a:lnTo>
                    <a:pt x="1029" y="1028"/>
                  </a:lnTo>
                  <a:lnTo>
                    <a:pt x="1029" y="515"/>
                  </a:lnTo>
                  <a:lnTo>
                    <a:pt x="3089" y="515"/>
                  </a:lnTo>
                  <a:lnTo>
                    <a:pt x="308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286160" y="3656160"/>
              <a:ext cx="18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960720" y="3329280"/>
              <a:ext cx="1307880" cy="77309411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0"/>
                </a:path>
              </a:pathLst>
            </a:cu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143160" y="3981600"/>
              <a:ext cx="18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544480" y="3387240"/>
              <a:ext cx="1851840" cy="184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73" y="3154"/>
                  </a:moveTo>
                  <a:arcTo wR="10800" hR="10800" stAng="-8095823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3173" y="3154"/>
                  </a:moveTo>
                  <a:arcTo wR="10800" hR="10800" stAng="-8095823" swAng="0"/>
                </a:path>
              </a:pathLst>
            </a:cu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957400" y="3808440"/>
              <a:ext cx="34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100400" y="3503520"/>
              <a:ext cx="34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835280" y="3165480"/>
              <a:ext cx="3595680" cy="2695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riétés de la ferme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priétés algébriq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fermeture est une transformation croissa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fermeture est une transformation extens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fermeture est une transformation semi-continue-sup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fermeture est idempote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priétés topologiq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fermeture préserve la connexité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fermeture n'est pas une transformation homotopiq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5" name=""/>
          <p:cNvGraphicFramePr/>
          <p:nvPr/>
        </p:nvGraphicFramePr>
        <p:xfrm>
          <a:off x="2143080" y="2754360"/>
          <a:ext cx="2522520" cy="3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3080" y="2754360"/>
                    <a:ext cx="2522520" cy="3524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17" name=""/>
          <p:cNvGraphicFramePr/>
          <p:nvPr/>
        </p:nvGraphicFramePr>
        <p:xfrm>
          <a:off x="2162160" y="3363840"/>
          <a:ext cx="1101600" cy="3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62160" y="3363840"/>
                    <a:ext cx="1101600" cy="3524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19" name=""/>
          <p:cNvGraphicFramePr/>
          <p:nvPr/>
        </p:nvGraphicFramePr>
        <p:xfrm>
          <a:off x="2136600" y="4411800"/>
          <a:ext cx="197820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6600" y="4411800"/>
                    <a:ext cx="1978200" cy="3888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rmeture et convexité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éfinition d'un objet convex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778040" y="2360520"/>
            <a:ext cx="590868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i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une composante connexe et [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_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] u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gment dro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mité par les point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t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est convexe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4" name=""/>
          <p:cNvGraphicFramePr/>
          <p:nvPr/>
        </p:nvGraphicFramePr>
        <p:xfrm>
          <a:off x="3049560" y="2968560"/>
          <a:ext cx="3554280" cy="29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560" y="2968560"/>
                    <a:ext cx="3554280" cy="2952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026" name=""/>
          <p:cNvGrpSpPr/>
          <p:nvPr/>
        </p:nvGrpSpPr>
        <p:grpSpPr>
          <a:xfrm>
            <a:off x="1835280" y="3435480"/>
            <a:ext cx="3111480" cy="2349360"/>
            <a:chOff x="1835280" y="3435480"/>
            <a:chExt cx="3111480" cy="2349360"/>
          </a:xfrm>
        </p:grpSpPr>
        <p:sp>
          <p:nvSpPr>
            <p:cNvPr id="1027" name=""/>
            <p:cNvSpPr/>
            <p:nvPr/>
          </p:nvSpPr>
          <p:spPr>
            <a:xfrm>
              <a:off x="1835280" y="3435480"/>
              <a:ext cx="3111480" cy="1968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835280" y="5416560"/>
              <a:ext cx="311148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4959360" y="3435480"/>
            <a:ext cx="3111480" cy="2349360"/>
            <a:chOff x="4959360" y="3435480"/>
            <a:chExt cx="3111480" cy="2349360"/>
          </a:xfrm>
        </p:grpSpPr>
        <p:sp>
          <p:nvSpPr>
            <p:cNvPr id="1030" name=""/>
            <p:cNvSpPr/>
            <p:nvPr/>
          </p:nvSpPr>
          <p:spPr>
            <a:xfrm>
              <a:off x="4959360" y="3435480"/>
              <a:ext cx="3111480" cy="1968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959360" y="5416560"/>
              <a:ext cx="311148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2409840" y="3743280"/>
            <a:ext cx="2158920" cy="1287360"/>
          </a:xfrm>
          <a:custGeom>
            <a:avLst/>
            <a:gdLst/>
            <a:ahLst/>
            <a:rect l="l" t="t" r="r" b="b"/>
            <a:pathLst>
              <a:path w="1360" h="811">
                <a:moveTo>
                  <a:pt x="66" y="762"/>
                </a:moveTo>
                <a:lnTo>
                  <a:pt x="36" y="702"/>
                </a:lnTo>
                <a:lnTo>
                  <a:pt x="18" y="666"/>
                </a:lnTo>
                <a:lnTo>
                  <a:pt x="9" y="594"/>
                </a:lnTo>
                <a:lnTo>
                  <a:pt x="9" y="567"/>
                </a:lnTo>
                <a:lnTo>
                  <a:pt x="0" y="540"/>
                </a:lnTo>
                <a:lnTo>
                  <a:pt x="0" y="513"/>
                </a:lnTo>
                <a:lnTo>
                  <a:pt x="0" y="477"/>
                </a:lnTo>
                <a:lnTo>
                  <a:pt x="0" y="450"/>
                </a:lnTo>
                <a:lnTo>
                  <a:pt x="0" y="423"/>
                </a:lnTo>
                <a:lnTo>
                  <a:pt x="0" y="387"/>
                </a:lnTo>
                <a:lnTo>
                  <a:pt x="0" y="315"/>
                </a:lnTo>
                <a:lnTo>
                  <a:pt x="9" y="261"/>
                </a:lnTo>
                <a:lnTo>
                  <a:pt x="27" y="225"/>
                </a:lnTo>
                <a:lnTo>
                  <a:pt x="63" y="189"/>
                </a:lnTo>
                <a:lnTo>
                  <a:pt x="99" y="153"/>
                </a:lnTo>
                <a:lnTo>
                  <a:pt x="153" y="135"/>
                </a:lnTo>
                <a:lnTo>
                  <a:pt x="180" y="108"/>
                </a:lnTo>
                <a:lnTo>
                  <a:pt x="216" y="99"/>
                </a:lnTo>
                <a:lnTo>
                  <a:pt x="279" y="72"/>
                </a:lnTo>
                <a:lnTo>
                  <a:pt x="315" y="63"/>
                </a:lnTo>
                <a:lnTo>
                  <a:pt x="351" y="45"/>
                </a:lnTo>
                <a:lnTo>
                  <a:pt x="423" y="45"/>
                </a:lnTo>
                <a:lnTo>
                  <a:pt x="477" y="45"/>
                </a:lnTo>
                <a:lnTo>
                  <a:pt x="549" y="45"/>
                </a:lnTo>
                <a:lnTo>
                  <a:pt x="621" y="45"/>
                </a:lnTo>
                <a:lnTo>
                  <a:pt x="693" y="45"/>
                </a:lnTo>
                <a:lnTo>
                  <a:pt x="756" y="45"/>
                </a:lnTo>
                <a:lnTo>
                  <a:pt x="810" y="45"/>
                </a:lnTo>
                <a:lnTo>
                  <a:pt x="882" y="45"/>
                </a:lnTo>
                <a:lnTo>
                  <a:pt x="972" y="36"/>
                </a:lnTo>
                <a:lnTo>
                  <a:pt x="1044" y="27"/>
                </a:lnTo>
                <a:lnTo>
                  <a:pt x="1116" y="27"/>
                </a:lnTo>
                <a:lnTo>
                  <a:pt x="1188" y="18"/>
                </a:lnTo>
                <a:lnTo>
                  <a:pt x="1242" y="9"/>
                </a:lnTo>
                <a:lnTo>
                  <a:pt x="1296" y="9"/>
                </a:lnTo>
                <a:lnTo>
                  <a:pt x="1323" y="0"/>
                </a:lnTo>
                <a:lnTo>
                  <a:pt x="1332" y="27"/>
                </a:lnTo>
                <a:lnTo>
                  <a:pt x="1332" y="63"/>
                </a:lnTo>
                <a:lnTo>
                  <a:pt x="1332" y="117"/>
                </a:lnTo>
                <a:lnTo>
                  <a:pt x="1341" y="171"/>
                </a:lnTo>
                <a:lnTo>
                  <a:pt x="1341" y="207"/>
                </a:lnTo>
                <a:lnTo>
                  <a:pt x="1350" y="234"/>
                </a:lnTo>
                <a:lnTo>
                  <a:pt x="1350" y="261"/>
                </a:lnTo>
                <a:lnTo>
                  <a:pt x="1359" y="288"/>
                </a:lnTo>
                <a:lnTo>
                  <a:pt x="1359" y="324"/>
                </a:lnTo>
                <a:lnTo>
                  <a:pt x="1359" y="378"/>
                </a:lnTo>
                <a:lnTo>
                  <a:pt x="1359" y="414"/>
                </a:lnTo>
                <a:lnTo>
                  <a:pt x="1359" y="486"/>
                </a:lnTo>
                <a:lnTo>
                  <a:pt x="1359" y="522"/>
                </a:lnTo>
                <a:lnTo>
                  <a:pt x="1359" y="594"/>
                </a:lnTo>
                <a:lnTo>
                  <a:pt x="1359" y="621"/>
                </a:lnTo>
                <a:lnTo>
                  <a:pt x="1359" y="657"/>
                </a:lnTo>
                <a:lnTo>
                  <a:pt x="1359" y="693"/>
                </a:lnTo>
                <a:lnTo>
                  <a:pt x="1332" y="702"/>
                </a:lnTo>
                <a:lnTo>
                  <a:pt x="1296" y="702"/>
                </a:lnTo>
                <a:lnTo>
                  <a:pt x="1224" y="702"/>
                </a:lnTo>
                <a:lnTo>
                  <a:pt x="1188" y="702"/>
                </a:lnTo>
                <a:lnTo>
                  <a:pt x="1134" y="702"/>
                </a:lnTo>
                <a:lnTo>
                  <a:pt x="1071" y="702"/>
                </a:lnTo>
                <a:lnTo>
                  <a:pt x="1044" y="693"/>
                </a:lnTo>
                <a:lnTo>
                  <a:pt x="1008" y="621"/>
                </a:lnTo>
                <a:lnTo>
                  <a:pt x="981" y="585"/>
                </a:lnTo>
                <a:lnTo>
                  <a:pt x="972" y="531"/>
                </a:lnTo>
                <a:lnTo>
                  <a:pt x="963" y="495"/>
                </a:lnTo>
                <a:lnTo>
                  <a:pt x="954" y="459"/>
                </a:lnTo>
                <a:lnTo>
                  <a:pt x="936" y="432"/>
                </a:lnTo>
                <a:lnTo>
                  <a:pt x="909" y="414"/>
                </a:lnTo>
                <a:lnTo>
                  <a:pt x="882" y="405"/>
                </a:lnTo>
                <a:lnTo>
                  <a:pt x="855" y="405"/>
                </a:lnTo>
                <a:lnTo>
                  <a:pt x="819" y="405"/>
                </a:lnTo>
                <a:lnTo>
                  <a:pt x="783" y="405"/>
                </a:lnTo>
                <a:lnTo>
                  <a:pt x="711" y="405"/>
                </a:lnTo>
                <a:lnTo>
                  <a:pt x="684" y="423"/>
                </a:lnTo>
                <a:lnTo>
                  <a:pt x="666" y="459"/>
                </a:lnTo>
                <a:lnTo>
                  <a:pt x="657" y="495"/>
                </a:lnTo>
                <a:lnTo>
                  <a:pt x="657" y="531"/>
                </a:lnTo>
                <a:lnTo>
                  <a:pt x="657" y="567"/>
                </a:lnTo>
                <a:lnTo>
                  <a:pt x="657" y="603"/>
                </a:lnTo>
                <a:lnTo>
                  <a:pt x="657" y="639"/>
                </a:lnTo>
                <a:lnTo>
                  <a:pt x="648" y="675"/>
                </a:lnTo>
                <a:lnTo>
                  <a:pt x="639" y="702"/>
                </a:lnTo>
                <a:lnTo>
                  <a:pt x="612" y="729"/>
                </a:lnTo>
                <a:lnTo>
                  <a:pt x="585" y="756"/>
                </a:lnTo>
                <a:lnTo>
                  <a:pt x="558" y="774"/>
                </a:lnTo>
                <a:lnTo>
                  <a:pt x="522" y="792"/>
                </a:lnTo>
                <a:lnTo>
                  <a:pt x="495" y="810"/>
                </a:lnTo>
                <a:lnTo>
                  <a:pt x="468" y="810"/>
                </a:lnTo>
                <a:lnTo>
                  <a:pt x="441" y="810"/>
                </a:lnTo>
                <a:lnTo>
                  <a:pt x="387" y="810"/>
                </a:lnTo>
                <a:lnTo>
                  <a:pt x="351" y="810"/>
                </a:lnTo>
                <a:lnTo>
                  <a:pt x="324" y="810"/>
                </a:lnTo>
                <a:lnTo>
                  <a:pt x="297" y="810"/>
                </a:lnTo>
                <a:lnTo>
                  <a:pt x="270" y="810"/>
                </a:lnTo>
                <a:lnTo>
                  <a:pt x="243" y="810"/>
                </a:lnTo>
                <a:lnTo>
                  <a:pt x="216" y="810"/>
                </a:lnTo>
                <a:lnTo>
                  <a:pt x="189" y="810"/>
                </a:lnTo>
                <a:lnTo>
                  <a:pt x="162" y="810"/>
                </a:lnTo>
                <a:lnTo>
                  <a:pt x="135" y="801"/>
                </a:lnTo>
                <a:lnTo>
                  <a:pt x="108" y="792"/>
                </a:lnTo>
                <a:lnTo>
                  <a:pt x="90" y="765"/>
                </a:lnTo>
                <a:lnTo>
                  <a:pt x="66" y="76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346720" y="3822840"/>
            <a:ext cx="2336760" cy="12697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2844720" y="4394160"/>
            <a:ext cx="1397160" cy="432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V="1">
            <a:off x="6045120" y="4317840"/>
            <a:ext cx="1015920" cy="432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191120" y="43434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743200" y="47242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010280" y="4267080"/>
            <a:ext cx="15264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943600" y="46483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657880" y="4341960"/>
            <a:ext cx="40680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029480" y="4037040"/>
            <a:ext cx="40680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782320" y="4341960"/>
            <a:ext cx="40680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849000" y="3960720"/>
            <a:ext cx="40680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830240" y="5411880"/>
            <a:ext cx="3121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semble X non convex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954680" y="5411880"/>
            <a:ext cx="3120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semble X convex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rmeture et convexité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finition de l'enveloppe convex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oit X un ensemble, l'enveloppe convexe de X, notée C</a:t>
            </a:r>
            <a:r>
              <a:rPr b="1" lang="fr-FR" sz="1600" spc="-1" strike="noStrike" baseline="-25000">
                <a:solidFill>
                  <a:srgbClr val="000000"/>
                </a:solidFill>
                <a:latin typeface="Arial"/>
              </a:rPr>
              <a:t>Vf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(X) est obtenue par l'intersection de tous les demi-plans limités per une droite </a:t>
            </a:r>
            <a:r>
              <a:rPr b="1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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, d'orientation </a:t>
            </a:r>
            <a:r>
              <a:rPr b="1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tenant 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2062080" y="3417840"/>
            <a:ext cx="5563440" cy="2220840"/>
            <a:chOff x="2062080" y="3417840"/>
            <a:chExt cx="5563440" cy="2220840"/>
          </a:xfrm>
        </p:grpSpPr>
        <p:sp>
          <p:nvSpPr>
            <p:cNvPr id="1049" name=""/>
            <p:cNvSpPr/>
            <p:nvPr/>
          </p:nvSpPr>
          <p:spPr>
            <a:xfrm>
              <a:off x="2308320" y="3743280"/>
              <a:ext cx="1712880" cy="1386000"/>
            </a:xfrm>
            <a:custGeom>
              <a:avLst/>
              <a:gdLst/>
              <a:ahLst/>
              <a:rect l="l" t="t" r="r" b="b"/>
              <a:pathLst>
                <a:path w="5395" h="4364">
                  <a:moveTo>
                    <a:pt x="513" y="1284"/>
                  </a:moveTo>
                  <a:lnTo>
                    <a:pt x="3854" y="0"/>
                  </a:lnTo>
                  <a:lnTo>
                    <a:pt x="5138" y="257"/>
                  </a:lnTo>
                  <a:lnTo>
                    <a:pt x="5395" y="1797"/>
                  </a:lnTo>
                  <a:lnTo>
                    <a:pt x="4625" y="3594"/>
                  </a:lnTo>
                  <a:lnTo>
                    <a:pt x="3596" y="4364"/>
                  </a:lnTo>
                  <a:lnTo>
                    <a:pt x="2055" y="3850"/>
                  </a:lnTo>
                  <a:lnTo>
                    <a:pt x="770" y="3080"/>
                  </a:lnTo>
                  <a:lnTo>
                    <a:pt x="0" y="2567"/>
                  </a:lnTo>
                  <a:lnTo>
                    <a:pt x="513" y="1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308320" y="3743280"/>
              <a:ext cx="1712880" cy="1386000"/>
            </a:xfrm>
            <a:custGeom>
              <a:avLst/>
              <a:gdLst/>
              <a:ahLst/>
              <a:rect l="l" t="t" r="r" b="b"/>
              <a:pathLst>
                <a:path w="5395" h="4364">
                  <a:moveTo>
                    <a:pt x="0" y="2567"/>
                  </a:moveTo>
                  <a:lnTo>
                    <a:pt x="513" y="1284"/>
                  </a:lnTo>
                  <a:lnTo>
                    <a:pt x="1541" y="1027"/>
                  </a:lnTo>
                  <a:lnTo>
                    <a:pt x="1798" y="1797"/>
                  </a:lnTo>
                  <a:lnTo>
                    <a:pt x="2568" y="2311"/>
                  </a:lnTo>
                  <a:lnTo>
                    <a:pt x="3596" y="1797"/>
                  </a:lnTo>
                  <a:lnTo>
                    <a:pt x="3854" y="770"/>
                  </a:lnTo>
                  <a:lnTo>
                    <a:pt x="3854" y="0"/>
                  </a:lnTo>
                  <a:lnTo>
                    <a:pt x="5138" y="257"/>
                  </a:lnTo>
                  <a:lnTo>
                    <a:pt x="5395" y="1797"/>
                  </a:lnTo>
                  <a:lnTo>
                    <a:pt x="4625" y="2824"/>
                  </a:lnTo>
                  <a:lnTo>
                    <a:pt x="4625" y="3594"/>
                  </a:lnTo>
                  <a:lnTo>
                    <a:pt x="3854" y="3594"/>
                  </a:lnTo>
                  <a:lnTo>
                    <a:pt x="3596" y="4364"/>
                  </a:lnTo>
                  <a:lnTo>
                    <a:pt x="2055" y="3850"/>
                  </a:lnTo>
                  <a:lnTo>
                    <a:pt x="1541" y="3080"/>
                  </a:lnTo>
                  <a:lnTo>
                    <a:pt x="770" y="3080"/>
                  </a:lnTo>
                  <a:lnTo>
                    <a:pt x="0" y="256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>
              <a:off x="2062080" y="3498840"/>
              <a:ext cx="2121120" cy="80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2220840" y="4784760"/>
              <a:ext cx="2121120" cy="80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303640" y="3479760"/>
              <a:ext cx="1440" cy="215892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021200" y="3417840"/>
              <a:ext cx="1440" cy="203688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510080" y="3662280"/>
              <a:ext cx="325440" cy="162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510080" y="4232160"/>
              <a:ext cx="176400" cy="162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673520" y="4232160"/>
              <a:ext cx="149400" cy="149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429080" y="5129280"/>
              <a:ext cx="488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429080" y="5454720"/>
              <a:ext cx="488880" cy="144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938840" y="3579840"/>
              <a:ext cx="1450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semble 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938840" y="4189320"/>
              <a:ext cx="2289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veloppe convex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49040" y="4497480"/>
              <a:ext cx="29764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lvl="1" marL="571680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mites des 1/2 pla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'orientation 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016600" y="4995720"/>
              <a:ext cx="1992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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elconq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017680" y="5300640"/>
              <a:ext cx="1249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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 90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 ensembles analys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semb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frontièr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semble ouvert topologique : ensemble excluant sa frontiè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nsemble fermé topologiqu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: ensemble et sa frontiè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érieu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le plus grand ouvert topologiq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dhéren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le plus petit fermé topologiq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: différence entre l'adhérence et l'intérieu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ypothèse X = ensembles fermés topologiq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phologie mathématique ensemblist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rmeture et enveloppe convex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e</a:t>
            </a:r>
            <a:r>
              <a:rPr b="1" lang="fr-FR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fermeture par un disque de taille infinie conduit à l'enveloppe convex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de l'objet C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Vf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e fermeture par un carré de taille infinie conduit à une enveloppe qui est incluse dans C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Vf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4633920" y="3351240"/>
            <a:ext cx="145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semble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633200" y="4265640"/>
            <a:ext cx="3014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fermé par un carré inf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631400" y="5180040"/>
            <a:ext cx="3196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fermé par un disque inf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1833120" y="3335400"/>
            <a:ext cx="2613600" cy="2282760"/>
            <a:chOff x="1833120" y="3335400"/>
            <a:chExt cx="2613600" cy="2282760"/>
          </a:xfrm>
        </p:grpSpPr>
        <p:sp>
          <p:nvSpPr>
            <p:cNvPr id="1071" name=""/>
            <p:cNvSpPr/>
            <p:nvPr/>
          </p:nvSpPr>
          <p:spPr>
            <a:xfrm>
              <a:off x="1833480" y="3498840"/>
              <a:ext cx="1631880" cy="2117880"/>
            </a:xfrm>
            <a:custGeom>
              <a:avLst/>
              <a:gdLst/>
              <a:ahLst/>
              <a:rect l="l" t="t" r="r" b="b"/>
              <a:pathLst>
                <a:path w="5138" h="6673">
                  <a:moveTo>
                    <a:pt x="2055" y="0"/>
                  </a:moveTo>
                  <a:lnTo>
                    <a:pt x="3083" y="0"/>
                  </a:lnTo>
                  <a:lnTo>
                    <a:pt x="3083" y="1540"/>
                  </a:lnTo>
                  <a:lnTo>
                    <a:pt x="4110" y="1540"/>
                  </a:lnTo>
                  <a:lnTo>
                    <a:pt x="4110" y="2054"/>
                  </a:lnTo>
                  <a:lnTo>
                    <a:pt x="4110" y="2567"/>
                  </a:lnTo>
                  <a:lnTo>
                    <a:pt x="3083" y="2567"/>
                  </a:lnTo>
                  <a:lnTo>
                    <a:pt x="3083" y="3594"/>
                  </a:lnTo>
                  <a:lnTo>
                    <a:pt x="5138" y="3594"/>
                  </a:lnTo>
                  <a:lnTo>
                    <a:pt x="5138" y="4620"/>
                  </a:lnTo>
                  <a:lnTo>
                    <a:pt x="3083" y="4620"/>
                  </a:lnTo>
                  <a:lnTo>
                    <a:pt x="3083" y="6673"/>
                  </a:lnTo>
                  <a:lnTo>
                    <a:pt x="2055" y="6673"/>
                  </a:lnTo>
                  <a:lnTo>
                    <a:pt x="2055" y="4620"/>
                  </a:lnTo>
                  <a:lnTo>
                    <a:pt x="0" y="4620"/>
                  </a:lnTo>
                  <a:lnTo>
                    <a:pt x="0" y="3594"/>
                  </a:lnTo>
                  <a:lnTo>
                    <a:pt x="2055" y="3594"/>
                  </a:lnTo>
                  <a:lnTo>
                    <a:pt x="2055" y="2567"/>
                  </a:lnTo>
                  <a:lnTo>
                    <a:pt x="1027" y="2567"/>
                  </a:lnTo>
                  <a:lnTo>
                    <a:pt x="1027" y="1540"/>
                  </a:lnTo>
                  <a:lnTo>
                    <a:pt x="2055" y="1540"/>
                  </a:lnTo>
                  <a:lnTo>
                    <a:pt x="2055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813040" y="3498840"/>
              <a:ext cx="325440" cy="488880"/>
            </a:xfrm>
            <a:custGeom>
              <a:avLst/>
              <a:gdLst/>
              <a:ahLst/>
              <a:rect l="l" t="t" r="r" b="b"/>
              <a:pathLst>
                <a:path w="1027" h="1540">
                  <a:moveTo>
                    <a:pt x="0" y="0"/>
                  </a:moveTo>
                  <a:lnTo>
                    <a:pt x="0" y="1540"/>
                  </a:lnTo>
                  <a:lnTo>
                    <a:pt x="1027" y="1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138480" y="3987720"/>
              <a:ext cx="326880" cy="652680"/>
            </a:xfrm>
            <a:custGeom>
              <a:avLst/>
              <a:gdLst/>
              <a:ahLst/>
              <a:rect l="l" t="t" r="r" b="b"/>
              <a:pathLst>
                <a:path w="1028" h="2054">
                  <a:moveTo>
                    <a:pt x="0" y="0"/>
                  </a:moveTo>
                  <a:lnTo>
                    <a:pt x="0" y="2054"/>
                  </a:lnTo>
                  <a:lnTo>
                    <a:pt x="1028" y="20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813040" y="4313160"/>
              <a:ext cx="325440" cy="3272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813040" y="4965840"/>
              <a:ext cx="652320" cy="650880"/>
            </a:xfrm>
            <a:custGeom>
              <a:avLst/>
              <a:gdLst/>
              <a:ahLst/>
              <a:rect l="l" t="t" r="r" b="b"/>
              <a:pathLst>
                <a:path w="2055" h="2053">
                  <a:moveTo>
                    <a:pt x="0" y="2053"/>
                  </a:moveTo>
                  <a:lnTo>
                    <a:pt x="0" y="0"/>
                  </a:lnTo>
                  <a:lnTo>
                    <a:pt x="2055" y="0"/>
                  </a:lnTo>
                  <a:lnTo>
                    <a:pt x="0" y="20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833480" y="4965840"/>
              <a:ext cx="652680" cy="650880"/>
            </a:xfrm>
            <a:custGeom>
              <a:avLst/>
              <a:gdLst/>
              <a:ahLst/>
              <a:rect l="l" t="t" r="r" b="b"/>
              <a:pathLst>
                <a:path w="2055" h="2053">
                  <a:moveTo>
                    <a:pt x="0" y="0"/>
                  </a:moveTo>
                  <a:lnTo>
                    <a:pt x="2055" y="2053"/>
                  </a:lnTo>
                  <a:lnTo>
                    <a:pt x="205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833480" y="3987720"/>
              <a:ext cx="652680" cy="652680"/>
            </a:xfrm>
            <a:custGeom>
              <a:avLst/>
              <a:gdLst/>
              <a:ahLst/>
              <a:rect l="l" t="t" r="r" b="b"/>
              <a:pathLst>
                <a:path w="2055" h="2054">
                  <a:moveTo>
                    <a:pt x="0" y="2054"/>
                  </a:moveTo>
                  <a:lnTo>
                    <a:pt x="2055" y="2054"/>
                  </a:lnTo>
                  <a:lnTo>
                    <a:pt x="2055" y="1027"/>
                  </a:lnTo>
                  <a:lnTo>
                    <a:pt x="1027" y="1027"/>
                  </a:lnTo>
                  <a:lnTo>
                    <a:pt x="1027" y="0"/>
                  </a:lnTo>
                  <a:lnTo>
                    <a:pt x="0" y="20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60720" y="3498840"/>
              <a:ext cx="325440" cy="488880"/>
            </a:xfrm>
            <a:custGeom>
              <a:avLst/>
              <a:gdLst/>
              <a:ahLst/>
              <a:rect l="l" t="t" r="r" b="b"/>
              <a:pathLst>
                <a:path w="1028" h="1540">
                  <a:moveTo>
                    <a:pt x="0" y="1540"/>
                  </a:moveTo>
                  <a:lnTo>
                    <a:pt x="1028" y="1540"/>
                  </a:lnTo>
                  <a:lnTo>
                    <a:pt x="1028" y="0"/>
                  </a:lnTo>
                  <a:lnTo>
                    <a:pt x="0" y="15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813040" y="4313160"/>
              <a:ext cx="325440" cy="327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160720" y="4313160"/>
              <a:ext cx="325440" cy="32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954600" y="3335400"/>
              <a:ext cx="490320" cy="326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954600" y="4232160"/>
              <a:ext cx="245880" cy="325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200480" y="4232160"/>
              <a:ext cx="244440" cy="325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954600" y="3335400"/>
              <a:ext cx="490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444920" y="3335400"/>
              <a:ext cx="1800" cy="326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3954600" y="3662280"/>
              <a:ext cx="490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3954600" y="3335400"/>
              <a:ext cx="1440" cy="326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954600" y="4232160"/>
              <a:ext cx="490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444920" y="4232160"/>
              <a:ext cx="1800" cy="325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3954600" y="4557600"/>
              <a:ext cx="490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3954600" y="4232160"/>
              <a:ext cx="1440" cy="325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954600" y="5129280"/>
              <a:ext cx="163440" cy="325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118040" y="5129280"/>
              <a:ext cx="163440" cy="3254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81480" y="5129280"/>
              <a:ext cx="16344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954600" y="5129280"/>
              <a:ext cx="490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444920" y="5129280"/>
              <a:ext cx="1800" cy="325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3954600" y="5454720"/>
              <a:ext cx="490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954600" y="5129280"/>
              <a:ext cx="1440" cy="325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1833480" y="3987360"/>
              <a:ext cx="327240" cy="652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2160720" y="3498840"/>
              <a:ext cx="325440" cy="4888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486160" y="3498840"/>
              <a:ext cx="32688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813040" y="3498840"/>
              <a:ext cx="325440" cy="4888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138480" y="3987720"/>
              <a:ext cx="326880" cy="652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465360" y="4640400"/>
              <a:ext cx="1800" cy="325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2813040" y="4965840"/>
              <a:ext cx="652320" cy="6508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>
              <a:off x="2486160" y="5616720"/>
              <a:ext cx="32688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 flipV="1">
              <a:off x="1833120" y="4965840"/>
              <a:ext cx="652680" cy="6508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1833480" y="4640400"/>
              <a:ext cx="1800" cy="325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9" name=""/>
          <p:cNvSpPr/>
          <p:nvPr/>
        </p:nvSpPr>
        <p:spPr>
          <a:xfrm>
            <a:off x="6489720" y="3365640"/>
            <a:ext cx="127008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701040" y="3427560"/>
            <a:ext cx="7833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Vf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semble réguli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'est un ensemble à la fois ouvert et fermé par une boule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1800000" y="3454920"/>
            <a:ext cx="4269600" cy="1956960"/>
            <a:chOff x="1800000" y="3454920"/>
            <a:chExt cx="4269600" cy="1956960"/>
          </a:xfrm>
        </p:grpSpPr>
        <p:sp>
          <p:nvSpPr>
            <p:cNvPr id="1114" name=""/>
            <p:cNvSpPr/>
            <p:nvPr/>
          </p:nvSpPr>
          <p:spPr>
            <a:xfrm>
              <a:off x="1800360" y="3129120"/>
              <a:ext cx="2935080" cy="2280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125800" y="3454560"/>
              <a:ext cx="652320" cy="6523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452680" y="3454560"/>
              <a:ext cx="977760" cy="652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778120" y="4106880"/>
              <a:ext cx="652320" cy="652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778120" y="4432320"/>
              <a:ext cx="652320" cy="6523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452680" y="4106880"/>
              <a:ext cx="325440" cy="325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125800" y="4106880"/>
              <a:ext cx="652320" cy="6523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105000" y="4759200"/>
              <a:ext cx="978120" cy="325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57680" y="4432320"/>
              <a:ext cx="652320" cy="6523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430440" y="3781440"/>
              <a:ext cx="327240" cy="977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430440" y="4432320"/>
              <a:ext cx="652680" cy="326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57680" y="4106880"/>
              <a:ext cx="325440" cy="325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57680" y="3781440"/>
              <a:ext cx="652320" cy="650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430440" y="3781440"/>
              <a:ext cx="18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105000" y="3454920"/>
              <a:ext cx="1305000" cy="77309411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0"/>
                </a:path>
              </a:pathLst>
            </a:custGeom>
            <a:solidFill>
              <a:srgbClr val="ffffff"/>
            </a:solidFill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800360" y="3129120"/>
              <a:ext cx="2935080" cy="1440"/>
            </a:xfrm>
            <a:prstGeom prst="line">
              <a:avLst/>
            </a:prstGeom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735440" y="3129120"/>
              <a:ext cx="1800" cy="2280960"/>
            </a:xfrm>
            <a:prstGeom prst="line">
              <a:avLst/>
            </a:prstGeom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1800000" y="5410080"/>
              <a:ext cx="2935080" cy="1800"/>
            </a:xfrm>
            <a:prstGeom prst="line">
              <a:avLst/>
            </a:prstGeom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1800360" y="3129120"/>
              <a:ext cx="1440" cy="2280960"/>
            </a:xfrm>
            <a:prstGeom prst="line">
              <a:avLst/>
            </a:prstGeom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57680" y="3781440"/>
              <a:ext cx="652320" cy="650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452680" y="4432320"/>
              <a:ext cx="14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841400" y="3137040"/>
              <a:ext cx="2870280" cy="2260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035680" y="3130560"/>
              <a:ext cx="291960" cy="2919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557320" y="3138480"/>
              <a:ext cx="5122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035680" y="3968640"/>
              <a:ext cx="291960" cy="29232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624640" y="3976560"/>
              <a:ext cx="3841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262320" y="3598920"/>
              <a:ext cx="34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105000" y="3454560"/>
              <a:ext cx="652680" cy="65232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276720" y="3581280"/>
              <a:ext cx="34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squelette : une transformation homotopiq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fin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oit X un ensemble connexe,     sa frontière et s un point de 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 squelette de X noté Sk(X) est l'union des centres des boules maximales incluses dans 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4764240" y="2482920"/>
                <a:ext cx="222120" cy="1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¶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46" name=""/>
          <p:cNvGraphicFramePr/>
          <p:nvPr/>
        </p:nvGraphicFramePr>
        <p:xfrm>
          <a:off x="1469880" y="3233880"/>
          <a:ext cx="703440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9880" y="3233880"/>
                    <a:ext cx="7034400" cy="3175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148" name=""/>
          <p:cNvGrpSpPr/>
          <p:nvPr/>
        </p:nvGrpSpPr>
        <p:grpSpPr>
          <a:xfrm>
            <a:off x="4959360" y="3664080"/>
            <a:ext cx="3340080" cy="2216160"/>
            <a:chOff x="4959360" y="3664080"/>
            <a:chExt cx="3340080" cy="2216160"/>
          </a:xfrm>
        </p:grpSpPr>
        <p:sp>
          <p:nvSpPr>
            <p:cNvPr id="1149" name=""/>
            <p:cNvSpPr/>
            <p:nvPr/>
          </p:nvSpPr>
          <p:spPr>
            <a:xfrm flipV="1">
              <a:off x="6375240" y="4811400"/>
              <a:ext cx="193680" cy="120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959360" y="3664080"/>
              <a:ext cx="3340080" cy="2216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5499000" y="3782520"/>
              <a:ext cx="1879560" cy="101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V="1">
              <a:off x="5651640" y="5135040"/>
              <a:ext cx="1822320" cy="54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956200" y="4356000"/>
              <a:ext cx="1041480" cy="1041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251400" y="4408560"/>
              <a:ext cx="212760" cy="46044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485040" y="4894200"/>
              <a:ext cx="117360" cy="4888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451560" y="4856040"/>
              <a:ext cx="3816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491160" y="479916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953680" y="4070520"/>
              <a:ext cx="3808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539760" y="5427720"/>
              <a:ext cx="3808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0" name=""/>
                <p:cNvSpPr txBox="1"/>
                <p:nvPr/>
              </p:nvSpPr>
              <p:spPr>
                <a:xfrm>
                  <a:off x="7383600" y="4408560"/>
                  <a:ext cx="4251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¶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61" name=""/>
            <p:cNvSpPr/>
            <p:nvPr/>
          </p:nvSpPr>
          <p:spPr>
            <a:xfrm flipH="1" flipV="1">
              <a:off x="6875640" y="4065480"/>
              <a:ext cx="51264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7218360" y="4649760"/>
              <a:ext cx="16992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1593720" y="3664080"/>
            <a:ext cx="3353040" cy="2216160"/>
            <a:chOff x="1593720" y="3664080"/>
            <a:chExt cx="3353040" cy="2216160"/>
          </a:xfrm>
        </p:grpSpPr>
        <p:sp>
          <p:nvSpPr>
            <p:cNvPr id="1164" name=""/>
            <p:cNvSpPr/>
            <p:nvPr/>
          </p:nvSpPr>
          <p:spPr>
            <a:xfrm>
              <a:off x="1920960" y="4184640"/>
              <a:ext cx="1569960" cy="52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658880" y="4186080"/>
              <a:ext cx="523800" cy="52236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182680" y="4708440"/>
              <a:ext cx="916200" cy="7858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444760" y="4838760"/>
              <a:ext cx="392040" cy="3934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836800" y="3792600"/>
              <a:ext cx="262080" cy="26172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836800" y="3922560"/>
              <a:ext cx="262080" cy="2620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920960" y="4446720"/>
              <a:ext cx="261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313000" y="4838760"/>
              <a:ext cx="1440" cy="52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313000" y="5362560"/>
              <a:ext cx="654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968560" y="3895560"/>
              <a:ext cx="3240" cy="279720"/>
            </a:xfrm>
            <a:custGeom>
              <a:avLst/>
              <a:gdLst/>
              <a:ahLst/>
              <a:rect l="l" t="t" r="r" b="b"/>
              <a:pathLst>
                <a:path w="2" h="176">
                  <a:moveTo>
                    <a:pt x="2" y="0"/>
                  </a:moveTo>
                  <a:lnTo>
                    <a:pt x="0" y="176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228840" y="4184640"/>
              <a:ext cx="262080" cy="262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 flipV="1">
              <a:off x="3228840" y="4446360"/>
              <a:ext cx="262080" cy="26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967120" y="5381640"/>
              <a:ext cx="131760" cy="13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2182680" y="5362560"/>
              <a:ext cx="130320" cy="13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247840" y="4511520"/>
              <a:ext cx="7858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3033720" y="4446720"/>
              <a:ext cx="651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098880" y="4446720"/>
              <a:ext cx="1299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182680" y="4446720"/>
              <a:ext cx="651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967120" y="4184640"/>
              <a:ext cx="131760" cy="262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313000" y="4511520"/>
              <a:ext cx="1440" cy="32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920960" y="444672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920960" y="470844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H="1" flipV="1">
              <a:off x="1915920" y="4708080"/>
              <a:ext cx="4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1911240" y="4708440"/>
              <a:ext cx="50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H="1" flipV="1">
              <a:off x="1906200" y="4708080"/>
              <a:ext cx="4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 flipV="1">
              <a:off x="1901520" y="4708080"/>
              <a:ext cx="4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 flipV="1">
              <a:off x="1898280" y="4707000"/>
              <a:ext cx="3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 flipV="1">
              <a:off x="1893600" y="4707000"/>
              <a:ext cx="4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 flipV="1">
              <a:off x="1888920" y="4707000"/>
              <a:ext cx="4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H="1" flipV="1">
              <a:off x="1884240" y="4707000"/>
              <a:ext cx="50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H="1" flipV="1">
              <a:off x="1879200" y="4704840"/>
              <a:ext cx="4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 flipV="1">
              <a:off x="1874520" y="4704840"/>
              <a:ext cx="4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 flipV="1">
              <a:off x="1869840" y="4703760"/>
              <a:ext cx="4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 flipV="1">
              <a:off x="1866600" y="4703760"/>
              <a:ext cx="3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 flipV="1">
              <a:off x="1861920" y="4702320"/>
              <a:ext cx="4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 flipV="1">
              <a:off x="1857240" y="4700160"/>
              <a:ext cx="50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H="1" flipV="1">
              <a:off x="1852200" y="4700160"/>
              <a:ext cx="4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 flipV="1">
              <a:off x="1848960" y="4699080"/>
              <a:ext cx="3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H="1" flipV="1">
              <a:off x="1844280" y="4696920"/>
              <a:ext cx="4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H="1" flipV="1">
              <a:off x="1839600" y="4695840"/>
              <a:ext cx="4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H="1" flipV="1">
              <a:off x="1834920" y="4694400"/>
              <a:ext cx="4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 flipV="1">
              <a:off x="1831680" y="4692240"/>
              <a:ext cx="3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 flipV="1">
              <a:off x="1827000" y="4691160"/>
              <a:ext cx="4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 flipV="1">
              <a:off x="1822320" y="4689000"/>
              <a:ext cx="50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 flipV="1">
              <a:off x="1819440" y="4687920"/>
              <a:ext cx="2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 flipV="1">
              <a:off x="1814400" y="4686480"/>
              <a:ext cx="50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 flipV="1">
              <a:off x="1809360" y="4684320"/>
              <a:ext cx="4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H="1" flipV="1">
              <a:off x="1806120" y="4681080"/>
              <a:ext cx="32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H="1" flipV="1">
              <a:off x="1801440" y="4680000"/>
              <a:ext cx="4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H="1" flipV="1">
              <a:off x="1798200" y="4677840"/>
              <a:ext cx="3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 flipV="1">
              <a:off x="1793520" y="4675320"/>
              <a:ext cx="4680" cy="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 flipV="1">
              <a:off x="1790280" y="4673160"/>
              <a:ext cx="3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 flipV="1">
              <a:off x="1785600" y="4672080"/>
              <a:ext cx="4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H="1" flipV="1">
              <a:off x="1782360" y="4668480"/>
              <a:ext cx="32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 flipV="1">
              <a:off x="1777680" y="4667400"/>
              <a:ext cx="4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H="1" flipV="1">
              <a:off x="1774440" y="4663800"/>
              <a:ext cx="32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H="1" flipV="1">
              <a:off x="1769760" y="4660560"/>
              <a:ext cx="4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H="1" flipV="1">
              <a:off x="1766520" y="4659480"/>
              <a:ext cx="3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 flipV="1">
              <a:off x="1763280" y="4655880"/>
              <a:ext cx="32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H="1" flipV="1">
              <a:off x="1758600" y="4652640"/>
              <a:ext cx="4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H="1" flipV="1">
              <a:off x="1755360" y="4649400"/>
              <a:ext cx="32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H="1" flipV="1">
              <a:off x="1752120" y="4648320"/>
              <a:ext cx="3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 flipV="1">
              <a:off x="1749600" y="4644720"/>
              <a:ext cx="28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H="1" flipV="1">
              <a:off x="1746000" y="4641480"/>
              <a:ext cx="32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H="1" flipV="1">
              <a:off x="1742760" y="4638240"/>
              <a:ext cx="32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 flipV="1">
              <a:off x="1738080" y="4635000"/>
              <a:ext cx="4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 flipV="1">
              <a:off x="1734840" y="4632480"/>
              <a:ext cx="3240" cy="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 flipV="1">
              <a:off x="1731600" y="4628880"/>
              <a:ext cx="32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 flipV="1">
              <a:off x="1728360" y="4625640"/>
              <a:ext cx="32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 flipV="1">
              <a:off x="1725120" y="4622400"/>
              <a:ext cx="32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H="1" flipV="1">
              <a:off x="1724040" y="4617720"/>
              <a:ext cx="144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H="1" flipV="1">
              <a:off x="1720440" y="4614480"/>
              <a:ext cx="32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H="1" flipV="1">
              <a:off x="1717200" y="4611240"/>
              <a:ext cx="32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H="1" flipV="1">
              <a:off x="1714680" y="4608000"/>
              <a:ext cx="28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H="1" flipV="1">
              <a:off x="1711080" y="4605480"/>
              <a:ext cx="3240" cy="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H="1" flipV="1">
              <a:off x="1709280" y="4600440"/>
              <a:ext cx="1800" cy="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 flipV="1">
              <a:off x="1706040" y="4597560"/>
              <a:ext cx="3240" cy="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 flipV="1">
              <a:off x="1703520" y="4592520"/>
              <a:ext cx="2880" cy="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H="1" flipV="1">
              <a:off x="1701360" y="4589640"/>
              <a:ext cx="1800" cy="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H="1" flipV="1">
              <a:off x="1698120" y="4586040"/>
              <a:ext cx="32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H="1" flipV="1">
              <a:off x="1697040" y="4581360"/>
              <a:ext cx="1440" cy="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 flipV="1">
              <a:off x="1693440" y="4578480"/>
              <a:ext cx="3240" cy="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 flipV="1">
              <a:off x="1692360" y="4573440"/>
              <a:ext cx="1440" cy="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H="1" flipV="1">
              <a:off x="1688760" y="4570560"/>
              <a:ext cx="3240" cy="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 flipV="1">
              <a:off x="1687680" y="4565520"/>
              <a:ext cx="1440" cy="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H="1" flipV="1">
              <a:off x="1685520" y="4562640"/>
              <a:ext cx="1800" cy="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H="1" flipV="1">
              <a:off x="1684440" y="4557600"/>
              <a:ext cx="1440" cy="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 flipV="1">
              <a:off x="1680840" y="4552560"/>
              <a:ext cx="324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 flipV="1">
              <a:off x="1679040" y="4549320"/>
              <a:ext cx="180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 flipV="1">
              <a:off x="1677960" y="4544640"/>
              <a:ext cx="144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H="1" flipV="1">
              <a:off x="1676520" y="4539960"/>
              <a:ext cx="144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H="1" flipV="1">
              <a:off x="1674360" y="4536720"/>
              <a:ext cx="180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 flipV="1">
              <a:off x="1673280" y="4532040"/>
              <a:ext cx="144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 flipV="1">
              <a:off x="1671120" y="4527360"/>
              <a:ext cx="180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 flipV="1">
              <a:off x="1670040" y="4522680"/>
              <a:ext cx="1440" cy="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 flipV="1">
              <a:off x="1670040" y="4519080"/>
              <a:ext cx="14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 flipV="1">
              <a:off x="1668600" y="4514400"/>
              <a:ext cx="144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H="1" flipV="1">
              <a:off x="1666440" y="4509720"/>
              <a:ext cx="180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H="1" flipV="1">
              <a:off x="1665360" y="4505040"/>
              <a:ext cx="144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 flipV="1">
              <a:off x="1665360" y="4501800"/>
              <a:ext cx="14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 flipV="1">
              <a:off x="1663200" y="4497120"/>
              <a:ext cx="180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 flipV="1">
              <a:off x="1663200" y="4492440"/>
              <a:ext cx="180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 flipV="1">
              <a:off x="1662120" y="4487760"/>
              <a:ext cx="1440" cy="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 flipV="1">
              <a:off x="1662120" y="4482720"/>
              <a:ext cx="144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 flipV="1">
              <a:off x="1660680" y="4478040"/>
              <a:ext cx="144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 flipV="1">
              <a:off x="1660680" y="4474800"/>
              <a:ext cx="14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 flipV="1">
              <a:off x="1660680" y="4470120"/>
              <a:ext cx="144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 flipV="1">
              <a:off x="1660680" y="4465440"/>
              <a:ext cx="144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 flipV="1">
              <a:off x="1658520" y="4460760"/>
              <a:ext cx="1800" cy="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 flipV="1">
              <a:off x="1658520" y="4455720"/>
              <a:ext cx="180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V="1">
              <a:off x="1658880" y="4451040"/>
              <a:ext cx="180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V="1">
              <a:off x="1658880" y="4446360"/>
              <a:ext cx="180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V="1">
              <a:off x="1658880" y="4441680"/>
              <a:ext cx="1800" cy="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V="1">
              <a:off x="1658880" y="4438800"/>
              <a:ext cx="1800" cy="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V="1">
              <a:off x="1658880" y="4433760"/>
              <a:ext cx="1800" cy="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V="1">
              <a:off x="1658880" y="4428720"/>
              <a:ext cx="180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V="1">
              <a:off x="1660680" y="4424040"/>
              <a:ext cx="144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V="1">
              <a:off x="1660680" y="4419360"/>
              <a:ext cx="144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V="1">
              <a:off x="1660680" y="4414680"/>
              <a:ext cx="1440" cy="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V="1">
              <a:off x="1660680" y="4409640"/>
              <a:ext cx="144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V="1">
              <a:off x="1662120" y="4404960"/>
              <a:ext cx="144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V="1">
              <a:off x="1662120" y="4401720"/>
              <a:ext cx="14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V="1">
              <a:off x="1663560" y="4397040"/>
              <a:ext cx="180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V="1">
              <a:off x="1663560" y="4392360"/>
              <a:ext cx="180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V="1">
              <a:off x="1665360" y="4387680"/>
              <a:ext cx="1440" cy="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V="1">
              <a:off x="1665360" y="4382640"/>
              <a:ext cx="144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V="1">
              <a:off x="1666800" y="4379400"/>
              <a:ext cx="180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V="1">
              <a:off x="1668600" y="4374720"/>
              <a:ext cx="144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V="1">
              <a:off x="1670040" y="4370040"/>
              <a:ext cx="144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V="1">
              <a:off x="1670040" y="4365360"/>
              <a:ext cx="144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V="1">
              <a:off x="1671480" y="4362120"/>
              <a:ext cx="180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1673280" y="4357440"/>
              <a:ext cx="144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1674720" y="4352760"/>
              <a:ext cx="1800" cy="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1676520" y="4347720"/>
              <a:ext cx="144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677960" y="4344480"/>
              <a:ext cx="14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V="1">
              <a:off x="1679400" y="4339800"/>
              <a:ext cx="180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V="1">
              <a:off x="1681200" y="4336560"/>
              <a:ext cx="32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V="1">
              <a:off x="1684440" y="4331880"/>
              <a:ext cx="144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V="1">
              <a:off x="1685880" y="4327200"/>
              <a:ext cx="180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V="1">
              <a:off x="1687680" y="4323960"/>
              <a:ext cx="14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1689120" y="4319280"/>
              <a:ext cx="324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V="1">
              <a:off x="1692360" y="4316040"/>
              <a:ext cx="14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V="1">
              <a:off x="1693800" y="4311360"/>
              <a:ext cx="324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V="1">
              <a:off x="1697040" y="4308120"/>
              <a:ext cx="14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V="1">
              <a:off x="1698480" y="4303440"/>
              <a:ext cx="324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V="1">
              <a:off x="1701720" y="4300200"/>
              <a:ext cx="180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V="1">
              <a:off x="1703520" y="4296960"/>
              <a:ext cx="28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V="1">
              <a:off x="1706400" y="4292280"/>
              <a:ext cx="324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V="1">
              <a:off x="1709640" y="4289040"/>
              <a:ext cx="180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V="1">
              <a:off x="1711440" y="4285800"/>
              <a:ext cx="32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V="1">
              <a:off x="1714680" y="4281120"/>
              <a:ext cx="288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V="1">
              <a:off x="1717560" y="4277880"/>
              <a:ext cx="32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V="1">
              <a:off x="1720800" y="4274640"/>
              <a:ext cx="32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V="1">
              <a:off x="1724040" y="4272120"/>
              <a:ext cx="1440" cy="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V="1">
              <a:off x="1725480" y="4268520"/>
              <a:ext cx="32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V="1">
              <a:off x="1728720" y="4265280"/>
              <a:ext cx="32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V="1">
              <a:off x="1731960" y="4262040"/>
              <a:ext cx="32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V="1">
              <a:off x="1735200" y="4258800"/>
              <a:ext cx="32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V="1">
              <a:off x="1738440" y="4255560"/>
              <a:ext cx="4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V="1">
              <a:off x="1743120" y="4253040"/>
              <a:ext cx="3240" cy="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V="1">
              <a:off x="1746360" y="4249440"/>
              <a:ext cx="32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V="1">
              <a:off x="1749600" y="4246200"/>
              <a:ext cx="28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V="1">
              <a:off x="1752480" y="4242960"/>
              <a:ext cx="32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V="1">
              <a:off x="1755720" y="4239720"/>
              <a:ext cx="32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V="1">
              <a:off x="1758960" y="4238640"/>
              <a:ext cx="4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V="1">
              <a:off x="1763640" y="4235040"/>
              <a:ext cx="32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>
              <a:off x="1766880" y="4231800"/>
              <a:ext cx="32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V="1">
              <a:off x="1770120" y="4230720"/>
              <a:ext cx="4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V="1">
              <a:off x="1774800" y="4227120"/>
              <a:ext cx="32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V="1">
              <a:off x="1778040" y="4226040"/>
              <a:ext cx="4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1782720" y="4222440"/>
              <a:ext cx="32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V="1">
              <a:off x="1785960" y="4219200"/>
              <a:ext cx="4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V="1">
              <a:off x="1790640" y="4218120"/>
              <a:ext cx="3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V="1">
              <a:off x="1793880" y="4215960"/>
              <a:ext cx="4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V="1">
              <a:off x="1798560" y="4212720"/>
              <a:ext cx="32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V="1">
              <a:off x="1801800" y="4211640"/>
              <a:ext cx="4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V="1">
              <a:off x="1806480" y="4210200"/>
              <a:ext cx="3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V="1">
              <a:off x="1809720" y="4208040"/>
              <a:ext cx="4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V="1">
              <a:off x="1814400" y="4206960"/>
              <a:ext cx="50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V="1">
              <a:off x="1819440" y="4203360"/>
              <a:ext cx="28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V="1">
              <a:off x="1822320" y="4202280"/>
              <a:ext cx="50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1827360" y="4200120"/>
              <a:ext cx="4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V="1">
              <a:off x="1832040" y="4199040"/>
              <a:ext cx="3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V="1">
              <a:off x="1835280" y="4196880"/>
              <a:ext cx="4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1839960" y="4196880"/>
              <a:ext cx="4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V="1">
              <a:off x="1844640" y="4195800"/>
              <a:ext cx="4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V="1">
              <a:off x="1849320" y="4193640"/>
              <a:ext cx="3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V="1">
              <a:off x="1852560" y="4192560"/>
              <a:ext cx="4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1857240" y="4192560"/>
              <a:ext cx="50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1862280" y="4191120"/>
              <a:ext cx="4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>
              <a:off x="1866960" y="4188960"/>
              <a:ext cx="3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1870200" y="4188960"/>
              <a:ext cx="4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V="1">
              <a:off x="1874880" y="4187880"/>
              <a:ext cx="4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>
              <a:off x="1879560" y="4187880"/>
              <a:ext cx="4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V="1">
              <a:off x="1884240" y="4187880"/>
              <a:ext cx="50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V="1">
              <a:off x="1889280" y="4185720"/>
              <a:ext cx="4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V="1">
              <a:off x="1893960" y="4185720"/>
              <a:ext cx="4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V="1">
              <a:off x="1898640" y="4185720"/>
              <a:ext cx="3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V="1">
              <a:off x="1901880" y="4185720"/>
              <a:ext cx="4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V="1">
              <a:off x="1906560" y="4185720"/>
              <a:ext cx="4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911240" y="4186080"/>
              <a:ext cx="50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1916280" y="4184640"/>
              <a:ext cx="4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920960" y="4708440"/>
              <a:ext cx="2617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182680" y="4708440"/>
              <a:ext cx="1800" cy="78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182680" y="5494320"/>
              <a:ext cx="916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098880" y="4708440"/>
              <a:ext cx="1440" cy="78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098880" y="4708440"/>
              <a:ext cx="3920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H="1">
              <a:off x="3483000" y="4184640"/>
              <a:ext cx="7920" cy="52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>
              <a:off x="3098520" y="4184640"/>
              <a:ext cx="3920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967120" y="392256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836800" y="392256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V="1">
              <a:off x="2836800" y="392112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V="1">
              <a:off x="2836800" y="391968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V="1">
              <a:off x="2836800" y="3916080"/>
              <a:ext cx="180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V="1">
              <a:off x="2836800" y="391428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V="1">
              <a:off x="2836800" y="3911760"/>
              <a:ext cx="1800" cy="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V="1">
              <a:off x="2836800" y="390960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V="1">
              <a:off x="2838600" y="39085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V="1">
              <a:off x="2838600" y="3904920"/>
              <a:ext cx="14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V="1">
              <a:off x="2838600" y="390384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V="1">
              <a:off x="2838600" y="3900240"/>
              <a:ext cx="14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2838600" y="389844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2840040" y="3895200"/>
              <a:ext cx="14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V="1">
              <a:off x="2840040" y="38941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V="1">
              <a:off x="2840040" y="389268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V="1">
              <a:off x="2841480" y="3889080"/>
              <a:ext cx="180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V="1">
              <a:off x="2841480" y="388728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2841480" y="3884760"/>
              <a:ext cx="1800" cy="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V="1">
              <a:off x="2843280" y="388260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V="1">
              <a:off x="2843280" y="38815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V="1">
              <a:off x="2844720" y="3877920"/>
              <a:ext cx="180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V="1">
              <a:off x="2844720" y="387684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V="1">
              <a:off x="2846520" y="387468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V="1">
              <a:off x="2846520" y="3871440"/>
              <a:ext cx="14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V="1">
              <a:off x="2847960" y="38703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V="1">
              <a:off x="2847960" y="386820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2849400" y="3865680"/>
              <a:ext cx="1800" cy="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V="1">
              <a:off x="2849400" y="386352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V="1">
              <a:off x="2851200" y="386244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V="1">
              <a:off x="2852640" y="386028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V="1">
              <a:off x="2852640" y="3857760"/>
              <a:ext cx="1800" cy="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V="1">
              <a:off x="2854440" y="385560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V="1">
              <a:off x="2855880" y="385452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V="1">
              <a:off x="2857680" y="385236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V="1">
              <a:off x="2857680" y="3849840"/>
              <a:ext cx="1440" cy="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V="1">
              <a:off x="2859120" y="384768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V="1">
              <a:off x="2860560" y="384660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2862360" y="384444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863800" y="384336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V="1">
              <a:off x="2865600" y="38419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V="1">
              <a:off x="2865600" y="383976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V="1">
              <a:off x="2867040" y="3836520"/>
              <a:ext cx="14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V="1">
              <a:off x="2868480" y="383544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V="1">
              <a:off x="2870280" y="383328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V="1">
              <a:off x="2871720" y="383220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V="1">
              <a:off x="2873520" y="38307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V="1">
              <a:off x="2874960" y="382860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V="1">
              <a:off x="2876400" y="382752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V="1">
              <a:off x="2878200" y="382536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V="1">
              <a:off x="2879640" y="382428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V="1">
              <a:off x="2881440" y="3822840"/>
              <a:ext cx="2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V="1">
              <a:off x="2884320" y="382068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V="1">
              <a:off x="2886120" y="382068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V="1">
              <a:off x="2887560" y="381960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V="1">
              <a:off x="2889360" y="381744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V="1">
              <a:off x="2890800" y="381636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V="1">
              <a:off x="2892600" y="38149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V="1">
              <a:off x="2894040" y="3812760"/>
              <a:ext cx="3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2897280" y="381276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V="1">
              <a:off x="2898720" y="381168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V="1">
              <a:off x="2900520" y="380952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2901960" y="3808440"/>
              <a:ext cx="3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V="1">
              <a:off x="2905200" y="380844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V="1">
              <a:off x="2906640" y="380700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V="1">
              <a:off x="2908440" y="380700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V="1">
              <a:off x="2909880" y="3804840"/>
              <a:ext cx="3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V="1">
              <a:off x="2913120" y="38037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V="1">
              <a:off x="2914560" y="380376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V="1">
              <a:off x="2916360" y="3801600"/>
              <a:ext cx="28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V="1">
              <a:off x="2919240" y="380160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V="1">
              <a:off x="2921040" y="38005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V="1">
              <a:off x="2922480" y="3800520"/>
              <a:ext cx="3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V="1">
              <a:off x="2925720" y="379836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V="1">
              <a:off x="2927520" y="379836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V="1">
              <a:off x="2928960" y="3797280"/>
              <a:ext cx="3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V="1">
              <a:off x="2932200" y="379728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V="1">
              <a:off x="2933640" y="3797280"/>
              <a:ext cx="3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2936880" y="379584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V="1">
              <a:off x="2938320" y="379584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V="1">
              <a:off x="2940120" y="3795840"/>
              <a:ext cx="3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V="1">
              <a:off x="2943360" y="379368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V="1">
              <a:off x="2944800" y="3793680"/>
              <a:ext cx="3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V="1">
              <a:off x="2948040" y="379368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2949480" y="3793680"/>
              <a:ext cx="3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V="1">
              <a:off x="2952720" y="379368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954160" y="379404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V="1">
              <a:off x="2955960" y="3792600"/>
              <a:ext cx="3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V="1">
              <a:off x="2959200" y="379260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960640" y="3792600"/>
              <a:ext cx="3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963880" y="379260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965320" y="379260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967120" y="3792600"/>
              <a:ext cx="3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970360" y="379260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971800" y="3792600"/>
              <a:ext cx="3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975040" y="379260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976480" y="3792600"/>
              <a:ext cx="3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979720" y="379404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981160" y="3794040"/>
              <a:ext cx="3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984400" y="379404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986200" y="379404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987640" y="3794040"/>
              <a:ext cx="3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990880" y="379404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992320" y="3795840"/>
              <a:ext cx="3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995560" y="379584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997360" y="379584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998800" y="3797280"/>
              <a:ext cx="3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002040" y="379728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003480" y="3797280"/>
              <a:ext cx="3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006720" y="379872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008160" y="379872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009960" y="3800520"/>
              <a:ext cx="3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013200" y="38005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014640" y="3801960"/>
              <a:ext cx="3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017880" y="380196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019320" y="380376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021120" y="38037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022560" y="3805200"/>
              <a:ext cx="3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025800" y="380700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027240" y="380700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029040" y="3808440"/>
              <a:ext cx="3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032280" y="380844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033720" y="380988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035160" y="381168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036960" y="381312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038400" y="3813120"/>
              <a:ext cx="3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041640" y="38149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043080" y="381636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044880" y="381780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3046320" y="381960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048120" y="382104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049560" y="382104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051000" y="3822840"/>
              <a:ext cx="3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054240" y="382428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056040" y="382572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057480" y="382752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059280" y="382896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060720" y="38307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062160" y="383220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3063960" y="383364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065400" y="383544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067200" y="3836880"/>
              <a:ext cx="14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068640" y="384012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070080" y="384192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070080" y="384336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071880" y="384480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073320" y="384660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075120" y="384804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076560" y="3849840"/>
              <a:ext cx="1440" cy="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078000" y="385272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078000" y="385452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079800" y="385596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081240" y="3857760"/>
              <a:ext cx="1800" cy="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083040" y="386064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083040" y="386244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084480" y="386388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086280" y="3865680"/>
              <a:ext cx="1440" cy="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086280" y="386856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087720" y="38703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087720" y="3871800"/>
              <a:ext cx="14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089160" y="387504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090960" y="387684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090960" y="3878280"/>
              <a:ext cx="14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090960" y="38815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092400" y="388296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092400" y="3884760"/>
              <a:ext cx="1800" cy="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094200" y="388764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094200" y="3889440"/>
              <a:ext cx="14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094200" y="389268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095640" y="38941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095640" y="3895560"/>
              <a:ext cx="14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095640" y="389880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097080" y="3900600"/>
              <a:ext cx="180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097080" y="390384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097080" y="3905280"/>
              <a:ext cx="180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097080" y="390852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097080" y="390996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098880" y="3911760"/>
              <a:ext cx="1440" cy="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098880" y="391464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098880" y="3916440"/>
              <a:ext cx="14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098880" y="391968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098880" y="39211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V="1">
              <a:off x="2836800" y="3922560"/>
              <a:ext cx="1800" cy="262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V="1">
              <a:off x="3098880" y="3922560"/>
              <a:ext cx="1440" cy="262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836800" y="4838760"/>
              <a:ext cx="1800" cy="39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V="1">
              <a:off x="2444760" y="4838400"/>
              <a:ext cx="1440" cy="39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360600" y="5035680"/>
              <a:ext cx="327240" cy="1317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360600" y="5035680"/>
              <a:ext cx="327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687840" y="5035680"/>
              <a:ext cx="1440" cy="13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3360240" y="5167440"/>
              <a:ext cx="327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V="1">
              <a:off x="3360600" y="5035680"/>
              <a:ext cx="1800" cy="13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360600" y="5559480"/>
              <a:ext cx="327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593720" y="3727440"/>
              <a:ext cx="248616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079880" y="3727440"/>
              <a:ext cx="1440" cy="1962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>
              <a:off x="1593720" y="5689440"/>
              <a:ext cx="2486160" cy="1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V="1">
              <a:off x="1593720" y="3727440"/>
              <a:ext cx="1800" cy="1962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575080" y="451152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1975320" y="3916440"/>
              <a:ext cx="1855800" cy="184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73" y="3154"/>
                  </a:moveTo>
                  <a:arcTo wR="10800" hR="10800" stAng="-8095833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3173" y="3154"/>
                  </a:moveTo>
                  <a:arcTo wR="10800" hR="10800" stAng="-8095833" swAng="0"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639880" y="5362560"/>
              <a:ext cx="1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401560" y="5123880"/>
              <a:ext cx="739800" cy="74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3163"/>
                  </a:moveTo>
                  <a:arcTo wR="10800" hR="10800" stAng="-81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3163"/>
                  </a:moveTo>
                  <a:arcTo wR="10800" hR="10800" stAng="-8100000" swAng="0"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444760" y="4838760"/>
              <a:ext cx="3920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2444400" y="5232240"/>
              <a:ext cx="3920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H="1">
              <a:off x="1920960" y="4184640"/>
              <a:ext cx="915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2444400" y="5232240"/>
              <a:ext cx="3920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>
              <a:off x="2182320" y="5494320"/>
              <a:ext cx="916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543040" y="4479840"/>
              <a:ext cx="65160" cy="6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608200" y="5330880"/>
              <a:ext cx="65160" cy="6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756960" y="4948200"/>
              <a:ext cx="3171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719880" y="5424480"/>
              <a:ext cx="6994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k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336840" y="3813120"/>
              <a:ext cx="260280" cy="260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700440" y="3726000"/>
              <a:ext cx="93204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ercle maxim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606680" y="3664080"/>
              <a:ext cx="3340080" cy="2216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952720" y="4514760"/>
              <a:ext cx="0" cy="85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457360" y="4838760"/>
              <a:ext cx="371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238480" y="4172040"/>
              <a:ext cx="647640" cy="647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514600" y="5229360"/>
              <a:ext cx="266760" cy="266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quelette et opérateurs morphologiq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a relation de Lantuéjou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1" name=""/>
          <p:cNvGraphicFramePr/>
          <p:nvPr/>
        </p:nvGraphicFramePr>
        <p:xfrm>
          <a:off x="3056040" y="2494080"/>
          <a:ext cx="3794040" cy="55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2494080"/>
                    <a:ext cx="3794040" cy="5569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93" name=""/>
          <p:cNvSpPr/>
          <p:nvPr/>
        </p:nvSpPr>
        <p:spPr>
          <a:xfrm>
            <a:off x="1557360" y="3208320"/>
            <a:ext cx="39924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5549760" y="3208320"/>
            <a:ext cx="1800" cy="2486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flipH="1">
            <a:off x="1557360" y="5694480"/>
            <a:ext cx="39924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5702400" y="3206880"/>
            <a:ext cx="215640" cy="2156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5702400" y="3816360"/>
            <a:ext cx="215640" cy="2127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5702400" y="5416560"/>
            <a:ext cx="215640" cy="216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5918040" y="3816360"/>
            <a:ext cx="211320" cy="212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081840" y="3198960"/>
            <a:ext cx="333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702400" y="4578480"/>
            <a:ext cx="215640" cy="215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6281640" y="3770280"/>
                <a:ext cx="68760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λB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6072120" y="4494240"/>
                <a:ext cx="14716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mB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λB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4" name=""/>
              <p:cNvSpPr txBox="1"/>
              <p:nvPr/>
            </p:nvSpPr>
            <p:spPr>
              <a:xfrm>
                <a:off x="6072120" y="5332320"/>
                <a:ext cx="20811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λB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mB</m:t>
                            </m:r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λB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605" name=""/>
          <p:cNvGrpSpPr/>
          <p:nvPr/>
        </p:nvGrpSpPr>
        <p:grpSpPr>
          <a:xfrm>
            <a:off x="1525680" y="3201840"/>
            <a:ext cx="3892320" cy="2754720"/>
            <a:chOff x="1525680" y="3201840"/>
            <a:chExt cx="3892320" cy="2754720"/>
          </a:xfrm>
        </p:grpSpPr>
        <p:sp>
          <p:nvSpPr>
            <p:cNvPr id="1606" name=""/>
            <p:cNvSpPr/>
            <p:nvPr/>
          </p:nvSpPr>
          <p:spPr>
            <a:xfrm>
              <a:off x="1622520" y="3273480"/>
              <a:ext cx="3533760" cy="2355840"/>
            </a:xfrm>
            <a:custGeom>
              <a:avLst/>
              <a:gdLst/>
              <a:ahLst/>
              <a:rect l="l" t="t" r="r" b="b"/>
              <a:pathLst>
                <a:path w="8904" h="5936">
                  <a:moveTo>
                    <a:pt x="0" y="2968"/>
                  </a:moveTo>
                  <a:lnTo>
                    <a:pt x="8904" y="0"/>
                  </a:lnTo>
                  <a:lnTo>
                    <a:pt x="8904" y="5936"/>
                  </a:lnTo>
                  <a:lnTo>
                    <a:pt x="0" y="296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548160" y="3497400"/>
              <a:ext cx="1608120" cy="1869840"/>
            </a:xfrm>
            <a:custGeom>
              <a:avLst/>
              <a:gdLst/>
              <a:ahLst/>
              <a:rect l="l" t="t" r="r" b="b"/>
              <a:pathLst>
                <a:path w="3957" h="4617">
                  <a:moveTo>
                    <a:pt x="0" y="1319"/>
                  </a:moveTo>
                  <a:lnTo>
                    <a:pt x="0" y="3298"/>
                  </a:lnTo>
                  <a:lnTo>
                    <a:pt x="3957" y="4617"/>
                  </a:lnTo>
                  <a:lnTo>
                    <a:pt x="3957" y="0"/>
                  </a:lnTo>
                  <a:lnTo>
                    <a:pt x="0" y="1319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1622520" y="3273480"/>
              <a:ext cx="3533760" cy="11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622520" y="4451400"/>
              <a:ext cx="3533760" cy="11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382840" y="4021200"/>
              <a:ext cx="1190520" cy="849240"/>
            </a:xfrm>
            <a:custGeom>
              <a:avLst/>
              <a:gdLst/>
              <a:ahLst/>
              <a:rect l="l" t="t" r="r" b="b"/>
              <a:pathLst>
                <a:path w="2968" h="1979">
                  <a:moveTo>
                    <a:pt x="0" y="989"/>
                  </a:moveTo>
                  <a:lnTo>
                    <a:pt x="2968" y="0"/>
                  </a:lnTo>
                  <a:lnTo>
                    <a:pt x="2968" y="1979"/>
                  </a:lnTo>
                  <a:lnTo>
                    <a:pt x="0" y="98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193920" y="4059360"/>
              <a:ext cx="784440" cy="78552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586320" y="4451400"/>
              <a:ext cx="14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870280" y="3733200"/>
              <a:ext cx="2215800" cy="2223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56" y="3171"/>
                  </a:moveTo>
                  <a:arcTo wR="10800" hR="10800" stAng="-8103476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3156" y="3171"/>
                  </a:moveTo>
                  <a:arcTo wR="10800" hR="10800" stAng="-8103476" swAng="0"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V="1">
              <a:off x="1622520" y="3273480"/>
              <a:ext cx="3533760" cy="117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622520" y="4451400"/>
              <a:ext cx="3533760" cy="117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156280" y="3273480"/>
              <a:ext cx="131760" cy="261720"/>
            </a:xfrm>
            <a:custGeom>
              <a:avLst/>
              <a:gdLst/>
              <a:ahLst/>
              <a:rect l="l" t="t" r="r" b="b"/>
              <a:pathLst>
                <a:path w="330" h="660">
                  <a:moveTo>
                    <a:pt x="0" y="0"/>
                  </a:moveTo>
                  <a:lnTo>
                    <a:pt x="330" y="330"/>
                  </a:lnTo>
                  <a:lnTo>
                    <a:pt x="0" y="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156280" y="5367240"/>
              <a:ext cx="131760" cy="262080"/>
            </a:xfrm>
            <a:custGeom>
              <a:avLst/>
              <a:gdLst/>
              <a:ahLst/>
              <a:rect l="l" t="t" r="r" b="b"/>
              <a:pathLst>
                <a:path w="330" h="659">
                  <a:moveTo>
                    <a:pt x="0" y="0"/>
                  </a:moveTo>
                  <a:lnTo>
                    <a:pt x="330" y="330"/>
                  </a:lnTo>
                  <a:lnTo>
                    <a:pt x="0" y="6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622520" y="4451400"/>
              <a:ext cx="379548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V="1">
              <a:off x="1557360" y="3208320"/>
              <a:ext cx="1440" cy="2486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127240" y="4260960"/>
              <a:ext cx="393840" cy="393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339000" y="4113360"/>
              <a:ext cx="477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µ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820880" y="4951440"/>
              <a:ext cx="470880" cy="33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V="1">
              <a:off x="2063880" y="4641840"/>
              <a:ext cx="13968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525680" y="3201840"/>
              <a:ext cx="2130480" cy="471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int du squelette pour µ tendant vers 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139840" y="3740040"/>
              <a:ext cx="13968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V="1">
              <a:off x="2425680" y="3403440"/>
              <a:ext cx="2933640" cy="102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425680" y="4483080"/>
              <a:ext cx="2857680" cy="92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8" name=""/>
          <p:cNvSpPr/>
          <p:nvPr/>
        </p:nvSpPr>
        <p:spPr>
          <a:xfrm>
            <a:off x="4940280" y="3149640"/>
            <a:ext cx="584280" cy="264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riétés du squelet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priétés algébriq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squelette est une transformation anti-extens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squelette n'est pas une transformation croissa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1963800" y="3651120"/>
            <a:ext cx="2609640" cy="195588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 flipH="1">
            <a:off x="3595680" y="3651120"/>
            <a:ext cx="977760" cy="978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1963800" y="3651120"/>
            <a:ext cx="979560" cy="978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2943360" y="4629240"/>
            <a:ext cx="65232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 flipH="1">
            <a:off x="1963440" y="4629240"/>
            <a:ext cx="979560" cy="977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595680" y="4629240"/>
            <a:ext cx="977760" cy="977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1963800" y="3651120"/>
            <a:ext cx="26096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4573440" y="3651120"/>
            <a:ext cx="1800" cy="1955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>
            <a:off x="1963440" y="5607000"/>
            <a:ext cx="26096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flipV="1">
            <a:off x="1963800" y="3650760"/>
            <a:ext cx="1440" cy="1955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2943360" y="3732120"/>
            <a:ext cx="733320" cy="733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2943360" y="3732120"/>
            <a:ext cx="733320" cy="733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 flipV="1">
            <a:off x="2943360" y="3732120"/>
            <a:ext cx="733320" cy="733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2943360" y="3732120"/>
            <a:ext cx="73332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3676680" y="3732120"/>
            <a:ext cx="1440" cy="733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 flipH="1">
            <a:off x="2943000" y="4465800"/>
            <a:ext cx="73332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 flipV="1">
            <a:off x="2943360" y="3732120"/>
            <a:ext cx="1440" cy="733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1719360" y="3406680"/>
            <a:ext cx="310032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4819680" y="3406680"/>
            <a:ext cx="1440" cy="24447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 flipH="1">
            <a:off x="1719360" y="5851440"/>
            <a:ext cx="310032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 flipV="1">
            <a:off x="1719360" y="3406320"/>
            <a:ext cx="1440" cy="24447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5645160" y="4044960"/>
            <a:ext cx="21600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5645160" y="4502160"/>
            <a:ext cx="216000" cy="2160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664240" y="5181480"/>
            <a:ext cx="730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664240" y="571500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081840" y="4037040"/>
            <a:ext cx="333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081840" y="4494240"/>
            <a:ext cx="333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6615000" y="4875120"/>
            <a:ext cx="76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k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615000" y="5484960"/>
            <a:ext cx="76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k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0" name=""/>
              <p:cNvSpPr txBox="1"/>
              <p:nvPr/>
            </p:nvSpPr>
            <p:spPr>
              <a:xfrm>
                <a:off x="5803920" y="3487680"/>
                <a:ext cx="241452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ÌY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S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Ì</m:t>
                    </m:r>
                    <m:r>
                      <m:rPr>
                        <m:lit/>
                        <m:nor/>
                      </m:rPr>
                      <m:t xml:space="preserve">S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1" name=""/>
          <p:cNvSpPr/>
          <p:nvPr/>
        </p:nvSpPr>
        <p:spPr>
          <a:xfrm flipV="1">
            <a:off x="6445080" y="3422520"/>
            <a:ext cx="21600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5645160" y="3435480"/>
            <a:ext cx="26542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3" name=""/>
              <p:cNvSpPr txBox="1"/>
              <p:nvPr/>
            </p:nvSpPr>
            <p:spPr>
              <a:xfrm>
                <a:off x="2206800" y="2811600"/>
                <a:ext cx="101124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ÌX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"/>
          <p:cNvSpPr/>
          <p:nvPr/>
        </p:nvSpPr>
        <p:spPr>
          <a:xfrm>
            <a:off x="5727600" y="3289320"/>
            <a:ext cx="1727280" cy="1727280"/>
          </a:xfrm>
          <a:prstGeom prst="ellipse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527880" y="4087800"/>
            <a:ext cx="115920" cy="115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riétés du squelet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priétés algébriq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squelettisation est idempotente 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squelettisation n'est ni continue ni semi-contin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6161040" y="2414520"/>
                <a:ext cx="184320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669" name=""/>
          <p:cNvGrpSpPr/>
          <p:nvPr/>
        </p:nvGrpSpPr>
        <p:grpSpPr>
          <a:xfrm>
            <a:off x="2379600" y="3378240"/>
            <a:ext cx="1741680" cy="1549440"/>
            <a:chOff x="2379600" y="3378240"/>
            <a:chExt cx="1741680" cy="1549440"/>
          </a:xfrm>
        </p:grpSpPr>
        <p:sp>
          <p:nvSpPr>
            <p:cNvPr id="1670" name=""/>
            <p:cNvSpPr/>
            <p:nvPr/>
          </p:nvSpPr>
          <p:spPr>
            <a:xfrm>
              <a:off x="2379600" y="3403440"/>
              <a:ext cx="1741680" cy="1498680"/>
            </a:xfrm>
            <a:prstGeom prst="hexagon">
              <a:avLst>
                <a:gd name="adj" fmla="val 29048"/>
                <a:gd name="vf" fmla="val 115470"/>
              </a:avLst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379600" y="4152960"/>
              <a:ext cx="1741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 flipV="1">
              <a:off x="2841480" y="3378240"/>
              <a:ext cx="817560" cy="154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2841480" y="3403440"/>
              <a:ext cx="817560" cy="149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4" name=""/>
          <p:cNvSpPr/>
          <p:nvPr/>
        </p:nvSpPr>
        <p:spPr>
          <a:xfrm>
            <a:off x="4654440" y="4044960"/>
            <a:ext cx="749520" cy="216000"/>
          </a:xfrm>
          <a:prstGeom prst="rightArrow">
            <a:avLst>
              <a:gd name="adj1" fmla="val 50000"/>
              <a:gd name="adj2" fmla="val 173516"/>
            </a:avLst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373040" y="5259240"/>
            <a:ext cx="3578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gone régulier à n co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4954680" y="5259240"/>
            <a:ext cx="3578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age à la limite (dis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2070000" y="5715000"/>
            <a:ext cx="1193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3414600" y="5605560"/>
            <a:ext cx="76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k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5423040" y="5651640"/>
            <a:ext cx="660240" cy="20304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310440" y="5605560"/>
            <a:ext cx="333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1378080" y="5562720"/>
            <a:ext cx="714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1378080" y="5181480"/>
            <a:ext cx="714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4952880" y="51879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priété topologiq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squelettisation est une transformation homotopiq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(à condition que X soit un ensemble ouver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riétés du squelet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1920960" y="4184640"/>
            <a:ext cx="1562040" cy="515880"/>
          </a:xfrm>
          <a:custGeom>
            <a:avLst/>
            <a:gdLst/>
            <a:ahLst/>
            <a:rect l="l" t="t" r="r" b="b"/>
            <a:pathLst>
              <a:path w="984" h="325">
                <a:moveTo>
                  <a:pt x="0" y="0"/>
                </a:moveTo>
                <a:lnTo>
                  <a:pt x="983" y="0"/>
                </a:lnTo>
                <a:lnTo>
                  <a:pt x="983" y="324"/>
                </a:lnTo>
                <a:lnTo>
                  <a:pt x="0" y="324"/>
                </a:lnTo>
                <a:lnTo>
                  <a:pt x="0" y="0"/>
                </a:lnTo>
              </a:path>
            </a:pathLst>
          </a:cu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1658880" y="4186080"/>
            <a:ext cx="514440" cy="513000"/>
          </a:xfrm>
          <a:prstGeom prst="ellipse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2182680" y="4648320"/>
            <a:ext cx="908280" cy="838080"/>
          </a:xfrm>
          <a:custGeom>
            <a:avLst/>
            <a:gdLst/>
            <a:ahLst/>
            <a:rect l="l" t="t" r="r" b="b"/>
            <a:pathLst>
              <a:path w="572" h="490">
                <a:moveTo>
                  <a:pt x="0" y="0"/>
                </a:moveTo>
                <a:lnTo>
                  <a:pt x="571" y="0"/>
                </a:lnTo>
                <a:lnTo>
                  <a:pt x="571" y="489"/>
                </a:lnTo>
                <a:lnTo>
                  <a:pt x="0" y="489"/>
                </a:lnTo>
                <a:lnTo>
                  <a:pt x="0" y="0"/>
                </a:lnTo>
              </a:path>
            </a:pathLst>
          </a:cu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2444760" y="4838760"/>
            <a:ext cx="384120" cy="385560"/>
          </a:xfrm>
          <a:custGeom>
            <a:avLst/>
            <a:gdLst/>
            <a:ahLst/>
            <a:rect l="l" t="t" r="r" b="b"/>
            <a:pathLst>
              <a:path w="242" h="243">
                <a:moveTo>
                  <a:pt x="0" y="0"/>
                </a:moveTo>
                <a:lnTo>
                  <a:pt x="241" y="0"/>
                </a:lnTo>
                <a:lnTo>
                  <a:pt x="241" y="242"/>
                </a:lnTo>
                <a:lnTo>
                  <a:pt x="0" y="24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2836800" y="3792600"/>
            <a:ext cx="252360" cy="252360"/>
          </a:xfrm>
          <a:prstGeom prst="ellipse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2836800" y="3922560"/>
            <a:ext cx="254160" cy="273240"/>
          </a:xfrm>
          <a:custGeom>
            <a:avLst/>
            <a:gdLst/>
            <a:ahLst/>
            <a:rect l="l" t="t" r="r" b="b"/>
            <a:pathLst>
              <a:path w="160" h="160">
                <a:moveTo>
                  <a:pt x="0" y="0"/>
                </a:moveTo>
                <a:lnTo>
                  <a:pt x="159" y="0"/>
                </a:lnTo>
                <a:lnTo>
                  <a:pt x="159" y="159"/>
                </a:lnTo>
                <a:lnTo>
                  <a:pt x="0" y="159"/>
                </a:lnTo>
                <a:lnTo>
                  <a:pt x="0" y="0"/>
                </a:lnTo>
              </a:path>
            </a:pathLst>
          </a:cu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1933560" y="4446720"/>
            <a:ext cx="23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2313000" y="4495680"/>
            <a:ext cx="0" cy="85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2325600" y="5362560"/>
            <a:ext cx="628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2967120" y="4851360"/>
            <a:ext cx="0" cy="49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2967120" y="3935520"/>
            <a:ext cx="0" cy="236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 flipH="1">
            <a:off x="3216240" y="4197240"/>
            <a:ext cx="277920" cy="236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 flipH="1" flipV="1">
            <a:off x="3215880" y="4433760"/>
            <a:ext cx="268200" cy="268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2965320" y="5356080"/>
            <a:ext cx="120960" cy="12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 flipH="1">
            <a:off x="2169720" y="5356080"/>
            <a:ext cx="150840" cy="12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2298600" y="4511520"/>
            <a:ext cx="669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 flipV="1">
            <a:off x="2967120" y="4419720"/>
            <a:ext cx="120600" cy="9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102120" y="4427640"/>
            <a:ext cx="104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2157480" y="4443480"/>
            <a:ext cx="147600" cy="61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2970360" y="4173480"/>
            <a:ext cx="115920" cy="26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2967120" y="4524480"/>
            <a:ext cx="0" cy="42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2313000" y="4524480"/>
            <a:ext cx="0" cy="30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1920960" y="444672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 flipH="1">
            <a:off x="1903320" y="47084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 flipH="1">
            <a:off x="1898640" y="47084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 flipH="1">
            <a:off x="1893960" y="47084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 flipH="1">
            <a:off x="1888920" y="47084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 flipH="1" flipV="1">
            <a:off x="1885680" y="4694040"/>
            <a:ext cx="284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 flipH="1">
            <a:off x="1881000" y="47070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 flipH="1">
            <a:off x="1876320" y="47070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 flipH="1">
            <a:off x="1871640" y="47070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 flipH="1" flipV="1">
            <a:off x="1866960" y="4692240"/>
            <a:ext cx="302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 flipH="1">
            <a:off x="1861920" y="47052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 flipH="1" flipV="1">
            <a:off x="1857240" y="4690800"/>
            <a:ext cx="302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 flipH="1">
            <a:off x="1854000" y="4703760"/>
            <a:ext cx="2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 flipH="1" flipV="1">
            <a:off x="1849320" y="4689000"/>
            <a:ext cx="302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 flipH="1" flipV="1">
            <a:off x="1844640" y="4687560"/>
            <a:ext cx="302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 flipH="1">
            <a:off x="1839960" y="470052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 flipH="1" flipV="1">
            <a:off x="1836360" y="4686480"/>
            <a:ext cx="28440" cy="26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 flipH="1" flipV="1">
            <a:off x="1832040" y="4684320"/>
            <a:ext cx="302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 flipH="1" flipV="1">
            <a:off x="1827000" y="4682880"/>
            <a:ext cx="2988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 flipH="1" flipV="1">
            <a:off x="1822320" y="4681080"/>
            <a:ext cx="302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 flipH="1" flipV="1">
            <a:off x="1819080" y="4679640"/>
            <a:ext cx="284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 flipH="1" flipV="1">
            <a:off x="1814400" y="4677840"/>
            <a:ext cx="302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 flipH="1" flipV="1">
            <a:off x="1809720" y="4676400"/>
            <a:ext cx="302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 flipH="1" flipV="1">
            <a:off x="1806480" y="4674960"/>
            <a:ext cx="2880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 flipH="1" flipV="1">
            <a:off x="1801800" y="4673160"/>
            <a:ext cx="302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 flipH="1" flipV="1">
            <a:off x="1797120" y="4671720"/>
            <a:ext cx="302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 flipH="1" flipV="1">
            <a:off x="1793520" y="4668480"/>
            <a:ext cx="2844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 flipH="1" flipV="1">
            <a:off x="1789200" y="4667040"/>
            <a:ext cx="302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H="1" flipV="1">
            <a:off x="1785600" y="4665240"/>
            <a:ext cx="284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 flipH="1" flipV="1">
            <a:off x="1780920" y="4662360"/>
            <a:ext cx="29880" cy="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H="1" flipV="1">
            <a:off x="1777680" y="4660560"/>
            <a:ext cx="284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 flipH="1" flipV="1">
            <a:off x="1773000" y="4659120"/>
            <a:ext cx="2988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 flipH="1" flipV="1">
            <a:off x="1769760" y="4655880"/>
            <a:ext cx="2844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flipH="1" flipV="1">
            <a:off x="1765080" y="4654080"/>
            <a:ext cx="2988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 flipH="1" flipV="1">
            <a:off x="1761840" y="4651200"/>
            <a:ext cx="28440" cy="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 flipH="1" flipV="1">
            <a:off x="1757160" y="4647960"/>
            <a:ext cx="2988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 flipH="1" flipV="1">
            <a:off x="1753920" y="4646160"/>
            <a:ext cx="284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 flipH="1" flipV="1">
            <a:off x="1750680" y="4643280"/>
            <a:ext cx="28440" cy="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 flipH="1" flipV="1">
            <a:off x="1746000" y="4640040"/>
            <a:ext cx="2988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 flipH="1" flipV="1">
            <a:off x="1742760" y="4636800"/>
            <a:ext cx="2844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 flipH="1" flipV="1">
            <a:off x="1739520" y="4635000"/>
            <a:ext cx="284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 flipH="1" flipV="1">
            <a:off x="1736640" y="4632120"/>
            <a:ext cx="2880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 flipH="1" flipV="1">
            <a:off x="1733400" y="4628880"/>
            <a:ext cx="2880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flipH="1" flipV="1">
            <a:off x="1730160" y="4625640"/>
            <a:ext cx="2844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flipH="1" flipV="1">
            <a:off x="1725480" y="4622400"/>
            <a:ext cx="3024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flipH="1" flipV="1">
            <a:off x="1722240" y="4619520"/>
            <a:ext cx="28440" cy="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flipH="1" flipV="1">
            <a:off x="1719000" y="4616280"/>
            <a:ext cx="28440" cy="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flipH="1" flipV="1">
            <a:off x="1715760" y="4613040"/>
            <a:ext cx="2844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flipH="1" flipV="1">
            <a:off x="1712520" y="4609800"/>
            <a:ext cx="2844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 flipH="1" flipV="1">
            <a:off x="1711080" y="4605120"/>
            <a:ext cx="27000" cy="29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 flipH="1" flipV="1">
            <a:off x="1707840" y="4601880"/>
            <a:ext cx="2844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 flipH="1" flipV="1">
            <a:off x="1704600" y="4598640"/>
            <a:ext cx="2844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 flipH="1" flipV="1">
            <a:off x="1701720" y="4595760"/>
            <a:ext cx="28800" cy="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 flipH="1" flipV="1">
            <a:off x="1698480" y="4592520"/>
            <a:ext cx="28800" cy="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 flipH="1" flipV="1">
            <a:off x="1696680" y="4587840"/>
            <a:ext cx="2700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 flipH="1" flipV="1">
            <a:off x="1693800" y="4584600"/>
            <a:ext cx="28800" cy="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H="1" flipV="1">
            <a:off x="1690560" y="4579920"/>
            <a:ext cx="2880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 flipH="1" flipV="1">
            <a:off x="1688760" y="4576680"/>
            <a:ext cx="27000" cy="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 flipH="1" flipV="1">
            <a:off x="1685880" y="4573440"/>
            <a:ext cx="28800" cy="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H="1" flipV="1">
            <a:off x="1684080" y="4568760"/>
            <a:ext cx="2700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H="1" flipV="1">
            <a:off x="1680840" y="4565520"/>
            <a:ext cx="28440" cy="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 flipV="1">
            <a:off x="1679040" y="4560840"/>
            <a:ext cx="2700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H="1" flipV="1">
            <a:off x="1676160" y="4557600"/>
            <a:ext cx="28440" cy="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H="1" flipV="1">
            <a:off x="1674360" y="4552920"/>
            <a:ext cx="2700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 flipH="1" flipV="1">
            <a:off x="1672920" y="4549680"/>
            <a:ext cx="27000" cy="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flipH="1" flipV="1">
            <a:off x="1671120" y="4545000"/>
            <a:ext cx="2700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 flipH="1" flipV="1">
            <a:off x="1668240" y="4540320"/>
            <a:ext cx="2844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H="1" flipV="1">
            <a:off x="1666440" y="4536720"/>
            <a:ext cx="2700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 flipH="1" flipV="1">
            <a:off x="1665000" y="4532400"/>
            <a:ext cx="2700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 flipH="1" flipV="1">
            <a:off x="1663200" y="4527360"/>
            <a:ext cx="27000" cy="29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H="1" flipV="1">
            <a:off x="1661760" y="4524120"/>
            <a:ext cx="2700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 flipH="1" flipV="1">
            <a:off x="1660320" y="4519440"/>
            <a:ext cx="2700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 flipH="1" flipV="1">
            <a:off x="1658520" y="4514760"/>
            <a:ext cx="2700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 flipH="1" flipV="1">
            <a:off x="1657080" y="4510080"/>
            <a:ext cx="2700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 flipV="1">
            <a:off x="1670040" y="4506840"/>
            <a:ext cx="0" cy="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 flipH="1" flipV="1">
            <a:off x="1655280" y="4502160"/>
            <a:ext cx="2700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flipH="1" flipV="1">
            <a:off x="1653840" y="4497480"/>
            <a:ext cx="2700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 flipH="1" flipV="1">
            <a:off x="1652760" y="4492440"/>
            <a:ext cx="26640" cy="29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 flipV="1">
            <a:off x="1665360" y="4489200"/>
            <a:ext cx="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 flipH="1" flipV="1">
            <a:off x="1650600" y="4484520"/>
            <a:ext cx="2700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 flipV="1">
            <a:off x="1663560" y="4479840"/>
            <a:ext cx="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H="1" flipV="1">
            <a:off x="1649160" y="4475160"/>
            <a:ext cx="2700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 flipV="1">
            <a:off x="1662120" y="4470480"/>
            <a:ext cx="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 flipH="1" flipV="1">
            <a:off x="1647360" y="4465440"/>
            <a:ext cx="27000" cy="29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 flipV="1">
            <a:off x="1660680" y="4462200"/>
            <a:ext cx="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 flipV="1">
            <a:off x="1660680" y="4457520"/>
            <a:ext cx="0" cy="29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 flipV="1">
            <a:off x="1660680" y="4452840"/>
            <a:ext cx="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 flipH="1" flipV="1">
            <a:off x="1645920" y="4448160"/>
            <a:ext cx="2700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 flipV="1">
            <a:off x="1658880" y="4443480"/>
            <a:ext cx="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 flipV="1">
            <a:off x="1658880" y="4438440"/>
            <a:ext cx="0" cy="29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 flipV="1">
            <a:off x="1658880" y="4433760"/>
            <a:ext cx="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 flipV="1">
            <a:off x="1658880" y="4429080"/>
            <a:ext cx="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 flipV="1">
            <a:off x="1658880" y="4425840"/>
            <a:ext cx="0" cy="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 flipV="1">
            <a:off x="1658880" y="4421160"/>
            <a:ext cx="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 flipV="1">
            <a:off x="1658880" y="4416480"/>
            <a:ext cx="180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 flipV="1">
            <a:off x="1660680" y="4411440"/>
            <a:ext cx="0" cy="29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 flipV="1">
            <a:off x="1660680" y="4406760"/>
            <a:ext cx="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 flipV="1">
            <a:off x="1660680" y="4402080"/>
            <a:ext cx="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 flipV="1">
            <a:off x="1660680" y="4397400"/>
            <a:ext cx="144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 flipV="1">
            <a:off x="1662120" y="4392360"/>
            <a:ext cx="0" cy="29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 flipV="1">
            <a:off x="1662120" y="4389120"/>
            <a:ext cx="144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 flipV="1">
            <a:off x="1663560" y="4384440"/>
            <a:ext cx="0" cy="29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 flipV="1">
            <a:off x="1663560" y="4379760"/>
            <a:ext cx="180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 flipV="1">
            <a:off x="1665360" y="4375080"/>
            <a:ext cx="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 flipV="1">
            <a:off x="1665360" y="4370400"/>
            <a:ext cx="144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 flipV="1">
            <a:off x="1666800" y="4367160"/>
            <a:ext cx="1800" cy="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 flipV="1">
            <a:off x="1668600" y="4362480"/>
            <a:ext cx="144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 flipV="1">
            <a:off x="1670040" y="4357440"/>
            <a:ext cx="0" cy="29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 flipV="1">
            <a:off x="1670040" y="4352760"/>
            <a:ext cx="144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 flipV="1">
            <a:off x="1671480" y="4349520"/>
            <a:ext cx="180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 flipV="1">
            <a:off x="1673280" y="4344840"/>
            <a:ext cx="144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 flipV="1">
            <a:off x="1674720" y="4340160"/>
            <a:ext cx="180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 flipV="1">
            <a:off x="1676520" y="4335480"/>
            <a:ext cx="144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 flipV="1">
            <a:off x="1677960" y="4332240"/>
            <a:ext cx="1440" cy="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 flipV="1">
            <a:off x="1679400" y="4327560"/>
            <a:ext cx="180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 flipV="1">
            <a:off x="1681200" y="4323960"/>
            <a:ext cx="324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 flipV="1">
            <a:off x="1684440" y="4319640"/>
            <a:ext cx="144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 flipV="1">
            <a:off x="1685880" y="4314600"/>
            <a:ext cx="1800" cy="29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 flipV="1">
            <a:off x="1687680" y="4311360"/>
            <a:ext cx="144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 flipV="1">
            <a:off x="1689120" y="4306680"/>
            <a:ext cx="3240" cy="29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 flipV="1">
            <a:off x="1692360" y="4303440"/>
            <a:ext cx="144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flipV="1">
            <a:off x="1693800" y="4298760"/>
            <a:ext cx="3240" cy="29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 flipV="1">
            <a:off x="1697040" y="4295520"/>
            <a:ext cx="144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flipV="1">
            <a:off x="1698480" y="4290840"/>
            <a:ext cx="324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 flipV="1">
            <a:off x="1701720" y="4287600"/>
            <a:ext cx="180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 flipV="1">
            <a:off x="1703520" y="4284360"/>
            <a:ext cx="288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 flipV="1">
            <a:off x="1706400" y="4279680"/>
            <a:ext cx="3240" cy="29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 flipV="1">
            <a:off x="1709640" y="4276440"/>
            <a:ext cx="180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V="1">
            <a:off x="1711440" y="4273200"/>
            <a:ext cx="324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 flipV="1">
            <a:off x="1714680" y="4268880"/>
            <a:ext cx="288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V="1">
            <a:off x="1717560" y="4265280"/>
            <a:ext cx="324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 flipV="1">
            <a:off x="1720800" y="4262040"/>
            <a:ext cx="324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 flipV="1">
            <a:off x="1724040" y="4259160"/>
            <a:ext cx="1440" cy="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 flipV="1">
            <a:off x="1725480" y="4255920"/>
            <a:ext cx="3240" cy="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flipV="1">
            <a:off x="1728720" y="4252680"/>
            <a:ext cx="324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 flipV="1">
            <a:off x="1731960" y="4249440"/>
            <a:ext cx="324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 flipV="1">
            <a:off x="1735200" y="4246200"/>
            <a:ext cx="324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 flipV="1">
            <a:off x="1738440" y="4243320"/>
            <a:ext cx="4680" cy="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 flipV="1">
            <a:off x="1743120" y="4240080"/>
            <a:ext cx="3240" cy="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 flipV="1">
            <a:off x="1746360" y="4236840"/>
            <a:ext cx="324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 flipV="1">
            <a:off x="1749600" y="4233600"/>
            <a:ext cx="288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 flipV="1">
            <a:off x="1752480" y="4230360"/>
            <a:ext cx="324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 flipV="1">
            <a:off x="1755720" y="4227120"/>
            <a:ext cx="324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 flipV="1">
            <a:off x="1758960" y="4225680"/>
            <a:ext cx="468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 flipV="1">
            <a:off x="1763640" y="4222440"/>
            <a:ext cx="324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 flipV="1">
            <a:off x="1766880" y="4219200"/>
            <a:ext cx="324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 flipV="1">
            <a:off x="1770120" y="4217760"/>
            <a:ext cx="468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 flipV="1">
            <a:off x="1774800" y="4214520"/>
            <a:ext cx="324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flipV="1">
            <a:off x="1778040" y="4212720"/>
            <a:ext cx="468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 flipV="1">
            <a:off x="1782720" y="4209840"/>
            <a:ext cx="324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 flipV="1">
            <a:off x="1785960" y="4206600"/>
            <a:ext cx="468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 flipV="1">
            <a:off x="1790640" y="4204800"/>
            <a:ext cx="32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 flipV="1">
            <a:off x="1793880" y="4203360"/>
            <a:ext cx="468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 flipV="1">
            <a:off x="1798560" y="4200480"/>
            <a:ext cx="3240" cy="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 flipV="1">
            <a:off x="1801800" y="4198680"/>
            <a:ext cx="468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 flipV="1">
            <a:off x="1806480" y="4196880"/>
            <a:ext cx="32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 flipV="1">
            <a:off x="1809720" y="4195440"/>
            <a:ext cx="468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 flipV="1">
            <a:off x="1814400" y="4193640"/>
            <a:ext cx="50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 flipV="1">
            <a:off x="1819440" y="4190760"/>
            <a:ext cx="288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V="1">
            <a:off x="1822320" y="4188960"/>
            <a:ext cx="50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 flipV="1">
            <a:off x="1827360" y="4187520"/>
            <a:ext cx="468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 flipV="1">
            <a:off x="1832040" y="4185720"/>
            <a:ext cx="32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 flipV="1">
            <a:off x="1835280" y="4184280"/>
            <a:ext cx="468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1839960" y="4197240"/>
            <a:ext cx="4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 flipV="1">
            <a:off x="1844640" y="4182840"/>
            <a:ext cx="468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V="1">
            <a:off x="1849320" y="4181040"/>
            <a:ext cx="32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 flipV="1">
            <a:off x="1852560" y="4179600"/>
            <a:ext cx="468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1857240" y="4192560"/>
            <a:ext cx="5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 flipV="1">
            <a:off x="1862280" y="4177800"/>
            <a:ext cx="468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 flipV="1">
            <a:off x="1866960" y="4176360"/>
            <a:ext cx="32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870200" y="4189320"/>
            <a:ext cx="4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 flipV="1">
            <a:off x="1874880" y="4174920"/>
            <a:ext cx="468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1879560" y="4187880"/>
            <a:ext cx="4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1884240" y="4187880"/>
            <a:ext cx="5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 flipV="1">
            <a:off x="1889280" y="4173120"/>
            <a:ext cx="468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1893960" y="4186080"/>
            <a:ext cx="4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1898640" y="4186080"/>
            <a:ext cx="3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1901880" y="4186080"/>
            <a:ext cx="4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1906560" y="4186080"/>
            <a:ext cx="4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1911240" y="4186080"/>
            <a:ext cx="5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V="1">
            <a:off x="1916280" y="4171680"/>
            <a:ext cx="468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1933560" y="4708440"/>
            <a:ext cx="23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2182680" y="4721400"/>
            <a:ext cx="0" cy="760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2195640" y="5494320"/>
            <a:ext cx="890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098880" y="4721400"/>
            <a:ext cx="0" cy="760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3111480" y="4708440"/>
            <a:ext cx="366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3490920" y="4197240"/>
            <a:ext cx="0" cy="49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 flipH="1">
            <a:off x="3085920" y="4184640"/>
            <a:ext cx="417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2967120" y="3922560"/>
            <a:ext cx="1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 flipV="1">
            <a:off x="2836800" y="3908160"/>
            <a:ext cx="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 flipV="1">
            <a:off x="2836800" y="3906360"/>
            <a:ext cx="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 flipV="1">
            <a:off x="2836800" y="3903480"/>
            <a:ext cx="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 flipV="1">
            <a:off x="2836800" y="3901680"/>
            <a:ext cx="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 flipV="1">
            <a:off x="2836800" y="3898800"/>
            <a:ext cx="0" cy="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 flipV="1">
            <a:off x="2836800" y="3897000"/>
            <a:ext cx="180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 flipV="1">
            <a:off x="2838600" y="3895200"/>
            <a:ext cx="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 flipV="1">
            <a:off x="2838600" y="3892320"/>
            <a:ext cx="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flipV="1">
            <a:off x="2838600" y="3890520"/>
            <a:ext cx="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 flipV="1">
            <a:off x="2838600" y="3887640"/>
            <a:ext cx="0" cy="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 flipV="1">
            <a:off x="2838600" y="3885840"/>
            <a:ext cx="14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 flipV="1">
            <a:off x="2840040" y="3882960"/>
            <a:ext cx="0" cy="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 flipV="1">
            <a:off x="2840040" y="3881160"/>
            <a:ext cx="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flipV="1">
            <a:off x="2840040" y="3879360"/>
            <a:ext cx="14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 flipV="1">
            <a:off x="2841480" y="3876480"/>
            <a:ext cx="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 flipV="1">
            <a:off x="2841480" y="3874680"/>
            <a:ext cx="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 flipV="1">
            <a:off x="2841480" y="3871800"/>
            <a:ext cx="1800" cy="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 flipV="1">
            <a:off x="2843280" y="3870000"/>
            <a:ext cx="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 flipV="1">
            <a:off x="2843280" y="3868200"/>
            <a:ext cx="14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flipV="1">
            <a:off x="2844720" y="3865320"/>
            <a:ext cx="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flipV="1">
            <a:off x="2844720" y="3863520"/>
            <a:ext cx="180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 flipV="1">
            <a:off x="2846520" y="3862080"/>
            <a:ext cx="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 flipV="1">
            <a:off x="2846520" y="3858840"/>
            <a:ext cx="144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 flipV="1">
            <a:off x="2847960" y="3857400"/>
            <a:ext cx="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 flipV="1">
            <a:off x="2847960" y="3855600"/>
            <a:ext cx="14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 flipV="1">
            <a:off x="2849400" y="3852720"/>
            <a:ext cx="0" cy="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 flipV="1">
            <a:off x="2849400" y="3850920"/>
            <a:ext cx="180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 flipV="1">
            <a:off x="2851200" y="3849480"/>
            <a:ext cx="14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 flipV="1">
            <a:off x="2852640" y="3847680"/>
            <a:ext cx="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 flipV="1">
            <a:off x="2852640" y="3844800"/>
            <a:ext cx="1800" cy="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 flipV="1">
            <a:off x="2854440" y="3843000"/>
            <a:ext cx="14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 flipV="1">
            <a:off x="2855880" y="3841920"/>
            <a:ext cx="1800" cy="26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 flipV="1">
            <a:off x="2857680" y="3839760"/>
            <a:ext cx="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 flipV="1">
            <a:off x="2857680" y="3836880"/>
            <a:ext cx="1440" cy="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 flipV="1">
            <a:off x="2859120" y="3835080"/>
            <a:ext cx="14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 flipV="1">
            <a:off x="2860560" y="3833280"/>
            <a:ext cx="180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 flipV="1">
            <a:off x="2862360" y="3831840"/>
            <a:ext cx="14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 flipV="1">
            <a:off x="2863800" y="3830400"/>
            <a:ext cx="180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 flipV="1">
            <a:off x="2865600" y="3828600"/>
            <a:ext cx="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V="1">
            <a:off x="2865600" y="3827160"/>
            <a:ext cx="14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V="1">
            <a:off x="2867040" y="3823920"/>
            <a:ext cx="144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 flipV="1">
            <a:off x="2868480" y="3822480"/>
            <a:ext cx="180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 flipV="1">
            <a:off x="2870280" y="3820680"/>
            <a:ext cx="14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 flipV="1">
            <a:off x="2871720" y="3819240"/>
            <a:ext cx="180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 flipV="1">
            <a:off x="2873520" y="3817440"/>
            <a:ext cx="14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 flipV="1">
            <a:off x="2874960" y="3816000"/>
            <a:ext cx="14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 flipV="1">
            <a:off x="2876400" y="3814560"/>
            <a:ext cx="180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 flipV="1">
            <a:off x="2878200" y="3812760"/>
            <a:ext cx="14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 flipV="1">
            <a:off x="2879640" y="3811320"/>
            <a:ext cx="180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 flipV="1">
            <a:off x="2881440" y="3809520"/>
            <a:ext cx="288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 flipV="1">
            <a:off x="2884320" y="3808080"/>
            <a:ext cx="180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2886120" y="3821040"/>
            <a:ext cx="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 flipV="1">
            <a:off x="2887560" y="3807000"/>
            <a:ext cx="1800" cy="26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 flipV="1">
            <a:off x="2889360" y="3804840"/>
            <a:ext cx="14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 flipV="1">
            <a:off x="2890800" y="3803400"/>
            <a:ext cx="180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 flipV="1">
            <a:off x="2892600" y="3801600"/>
            <a:ext cx="14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 flipV="1">
            <a:off x="2894040" y="3800160"/>
            <a:ext cx="32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2897280" y="3813120"/>
            <a:ext cx="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 flipV="1">
            <a:off x="2898720" y="3798360"/>
            <a:ext cx="180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 flipV="1">
            <a:off x="2900520" y="3796920"/>
            <a:ext cx="14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 flipV="1">
            <a:off x="2901960" y="3795480"/>
            <a:ext cx="32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2905200" y="3808440"/>
            <a:ext cx="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 flipV="1">
            <a:off x="2906640" y="3793680"/>
            <a:ext cx="180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2908440" y="3807000"/>
            <a:ext cx="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 flipV="1">
            <a:off x="2909880" y="3792240"/>
            <a:ext cx="32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 flipV="1">
            <a:off x="2913120" y="3790440"/>
            <a:ext cx="14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2914560" y="3803760"/>
            <a:ext cx="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 flipV="1">
            <a:off x="2916360" y="3789000"/>
            <a:ext cx="288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2919240" y="3801960"/>
            <a:ext cx="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 flipV="1">
            <a:off x="2921040" y="3787560"/>
            <a:ext cx="14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2922480" y="3800520"/>
            <a:ext cx="3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 flipV="1">
            <a:off x="2925720" y="3785760"/>
            <a:ext cx="180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2927520" y="3798720"/>
            <a:ext cx="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 flipV="1">
            <a:off x="2928960" y="3784320"/>
            <a:ext cx="32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2932200" y="3797280"/>
            <a:ext cx="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2933640" y="3797280"/>
            <a:ext cx="3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 flipV="1">
            <a:off x="2936880" y="3782520"/>
            <a:ext cx="14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2938320" y="3795840"/>
            <a:ext cx="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2940120" y="3795840"/>
            <a:ext cx="3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 flipV="1">
            <a:off x="2943360" y="3781080"/>
            <a:ext cx="14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2944800" y="3794040"/>
            <a:ext cx="3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2948040" y="3794040"/>
            <a:ext cx="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2949480" y="3794040"/>
            <a:ext cx="3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2952720" y="3794040"/>
            <a:ext cx="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2954160" y="3794040"/>
            <a:ext cx="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 flipV="1">
            <a:off x="2955960" y="3779640"/>
            <a:ext cx="324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2959200" y="3792600"/>
            <a:ext cx="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2960640" y="3792600"/>
            <a:ext cx="3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2963880" y="3792600"/>
            <a:ext cx="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2965320" y="3792600"/>
            <a:ext cx="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2967120" y="3792600"/>
            <a:ext cx="3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2970360" y="3792600"/>
            <a:ext cx="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2971800" y="3792600"/>
            <a:ext cx="3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2975040" y="3792600"/>
            <a:ext cx="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2976480" y="3792600"/>
            <a:ext cx="3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2979720" y="3794040"/>
            <a:ext cx="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2981160" y="3794040"/>
            <a:ext cx="3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2984400" y="3794040"/>
            <a:ext cx="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2986200" y="3794040"/>
            <a:ext cx="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2987640" y="3794040"/>
            <a:ext cx="3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990880" y="3794040"/>
            <a:ext cx="1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2992320" y="3795840"/>
            <a:ext cx="3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2995560" y="3795840"/>
            <a:ext cx="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2997360" y="3795840"/>
            <a:ext cx="1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2998800" y="3797280"/>
            <a:ext cx="3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3002040" y="3797280"/>
            <a:ext cx="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3003480" y="3797280"/>
            <a:ext cx="3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3006720" y="3798720"/>
            <a:ext cx="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3008160" y="3798720"/>
            <a:ext cx="1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3009960" y="3800520"/>
            <a:ext cx="3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3013200" y="3800520"/>
            <a:ext cx="1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3014640" y="3801960"/>
            <a:ext cx="3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3017880" y="3801960"/>
            <a:ext cx="1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3019320" y="3803760"/>
            <a:ext cx="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3021120" y="3803760"/>
            <a:ext cx="1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3022560" y="3805200"/>
            <a:ext cx="32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3025800" y="3807000"/>
            <a:ext cx="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3027240" y="3807000"/>
            <a:ext cx="1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3029040" y="3808440"/>
            <a:ext cx="3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3032280" y="3808440"/>
            <a:ext cx="1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3033720" y="3809880"/>
            <a:ext cx="1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3035160" y="3811680"/>
            <a:ext cx="1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036960" y="3813120"/>
            <a:ext cx="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3038400" y="3813120"/>
            <a:ext cx="32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3041640" y="3814920"/>
            <a:ext cx="1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3043080" y="3816360"/>
            <a:ext cx="1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3044880" y="3817800"/>
            <a:ext cx="1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046320" y="3819600"/>
            <a:ext cx="1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048120" y="3821040"/>
            <a:ext cx="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049560" y="3821040"/>
            <a:ext cx="1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3051000" y="3822840"/>
            <a:ext cx="3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054240" y="3824280"/>
            <a:ext cx="1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056040" y="3825720"/>
            <a:ext cx="1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057480" y="3827520"/>
            <a:ext cx="1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059280" y="3828960"/>
            <a:ext cx="1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3060720" y="3830760"/>
            <a:ext cx="1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062160" y="3832200"/>
            <a:ext cx="1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063960" y="3833640"/>
            <a:ext cx="1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3065400" y="3835440"/>
            <a:ext cx="1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3067200" y="3836880"/>
            <a:ext cx="14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068640" y="3840120"/>
            <a:ext cx="1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070080" y="3841920"/>
            <a:ext cx="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3070080" y="3843360"/>
            <a:ext cx="1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071880" y="3844800"/>
            <a:ext cx="1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3073320" y="3846600"/>
            <a:ext cx="1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075120" y="3848040"/>
            <a:ext cx="1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3076560" y="3849840"/>
            <a:ext cx="144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3078000" y="3852720"/>
            <a:ext cx="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3078000" y="3854520"/>
            <a:ext cx="1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3079800" y="3855960"/>
            <a:ext cx="1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3081240" y="3857760"/>
            <a:ext cx="180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3083040" y="3860640"/>
            <a:ext cx="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083040" y="3862440"/>
            <a:ext cx="1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084480" y="3863880"/>
            <a:ext cx="1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086280" y="3865680"/>
            <a:ext cx="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086280" y="3868560"/>
            <a:ext cx="1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087720" y="3870360"/>
            <a:ext cx="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087720" y="3871800"/>
            <a:ext cx="14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089160" y="3875040"/>
            <a:ext cx="1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090960" y="3876840"/>
            <a:ext cx="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090960" y="3878280"/>
            <a:ext cx="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3090960" y="3881520"/>
            <a:ext cx="1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3092400" y="3882960"/>
            <a:ext cx="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092400" y="3884760"/>
            <a:ext cx="180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094200" y="3887640"/>
            <a:ext cx="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094200" y="3889440"/>
            <a:ext cx="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094200" y="3892680"/>
            <a:ext cx="1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095640" y="3894120"/>
            <a:ext cx="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3095640" y="3895560"/>
            <a:ext cx="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3095640" y="3898800"/>
            <a:ext cx="1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097080" y="3900600"/>
            <a:ext cx="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097080" y="3903840"/>
            <a:ext cx="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097080" y="3905280"/>
            <a:ext cx="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097080" y="3908520"/>
            <a:ext cx="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3097080" y="3909960"/>
            <a:ext cx="1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3098880" y="3911760"/>
            <a:ext cx="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3098880" y="3914640"/>
            <a:ext cx="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098880" y="3916440"/>
            <a:ext cx="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098880" y="3919680"/>
            <a:ext cx="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098880" y="3921120"/>
            <a:ext cx="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 flipV="1">
            <a:off x="2836800" y="390996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 flipV="1">
            <a:off x="3098880" y="390996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2836800" y="4851360"/>
            <a:ext cx="0" cy="36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 flipV="1">
            <a:off x="2444760" y="4826160"/>
            <a:ext cx="0" cy="419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360600" y="5035680"/>
            <a:ext cx="319320" cy="123840"/>
          </a:xfrm>
          <a:custGeom>
            <a:avLst/>
            <a:gdLst/>
            <a:ahLst/>
            <a:rect l="l" t="t" r="r" b="b"/>
            <a:pathLst>
              <a:path w="201" h="78">
                <a:moveTo>
                  <a:pt x="0" y="0"/>
                </a:moveTo>
                <a:lnTo>
                  <a:pt x="200" y="0"/>
                </a:lnTo>
                <a:lnTo>
                  <a:pt x="200" y="77"/>
                </a:lnTo>
                <a:lnTo>
                  <a:pt x="0" y="77"/>
                </a:lnTo>
                <a:lnTo>
                  <a:pt x="0" y="0"/>
                </a:lnTo>
              </a:path>
            </a:pathLst>
          </a:cu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373560" y="5035680"/>
            <a:ext cx="315720" cy="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3687840" y="5048280"/>
            <a:ext cx="0" cy="106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 flipH="1">
            <a:off x="3357720" y="516744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 flipV="1">
            <a:off x="3360600" y="5022360"/>
            <a:ext cx="0" cy="157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373560" y="5559480"/>
            <a:ext cx="30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2575080" y="4511520"/>
            <a:ext cx="0" cy="18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2457360" y="483876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 flipH="1">
            <a:off x="2431800" y="5232240"/>
            <a:ext cx="417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 flipH="1">
            <a:off x="1907640" y="4184640"/>
            <a:ext cx="941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 flipH="1">
            <a:off x="2431800" y="5232240"/>
            <a:ext cx="417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 flipH="1">
            <a:off x="2169720" y="5494320"/>
            <a:ext cx="941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5181480" y="3962520"/>
            <a:ext cx="1143000" cy="1143000"/>
          </a:xfrm>
          <a:prstGeom prst="ellipse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6858000" y="3962520"/>
            <a:ext cx="1143000" cy="1143000"/>
          </a:xfrm>
          <a:prstGeom prst="ellipse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6310440" y="4543560"/>
            <a:ext cx="547560" cy="0"/>
          </a:xfrm>
          <a:prstGeom prst="line">
            <a:avLst/>
          </a:prstGeom>
          <a:ln w="7632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5759280" y="4533840"/>
            <a:ext cx="167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5700600" y="4491000"/>
            <a:ext cx="104760" cy="104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7377120" y="4491000"/>
            <a:ext cx="104760" cy="104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5227200" y="5173560"/>
            <a:ext cx="27630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semble connexe non ouv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862440" y="4960800"/>
            <a:ext cx="333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876840" y="5332320"/>
            <a:ext cx="76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k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ints particuliers du squelet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 points extrêm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 points multi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4230720" y="4135320"/>
            <a:ext cx="387360" cy="85896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1951200" y="3443400"/>
            <a:ext cx="1957320" cy="652320"/>
          </a:xfrm>
          <a:prstGeom prst="rect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1623960" y="3443400"/>
            <a:ext cx="654120" cy="652320"/>
          </a:xfrm>
          <a:prstGeom prst="ellipse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2276640" y="4070520"/>
            <a:ext cx="1143000" cy="1002960"/>
          </a:xfrm>
          <a:prstGeom prst="rect">
            <a:avLst/>
          </a:prstGeom>
          <a:solidFill>
            <a:srgbClr val="919191"/>
          </a:solidFill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2603520" y="4259160"/>
            <a:ext cx="48888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092400" y="2954160"/>
            <a:ext cx="327240" cy="327240"/>
          </a:xfrm>
          <a:prstGeom prst="ellipse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092400" y="3117960"/>
            <a:ext cx="327240" cy="325440"/>
          </a:xfrm>
          <a:prstGeom prst="rect">
            <a:avLst/>
          </a:prstGeom>
          <a:solidFill>
            <a:srgbClr val="919191"/>
          </a:solidFill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1951200" y="3770280"/>
            <a:ext cx="3254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440080" y="4259160"/>
            <a:ext cx="1440" cy="65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2440080" y="4910040"/>
            <a:ext cx="81576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255840" y="4259160"/>
            <a:ext cx="1800" cy="65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3255840" y="3117960"/>
            <a:ext cx="1800" cy="325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 flipH="1">
            <a:off x="3583080" y="3443400"/>
            <a:ext cx="325440" cy="326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 flipH="1" flipV="1">
            <a:off x="3583080" y="3770280"/>
            <a:ext cx="325440" cy="325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255840" y="4910040"/>
            <a:ext cx="163800" cy="163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 flipH="1">
            <a:off x="2276640" y="4910040"/>
            <a:ext cx="163440" cy="163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2359080" y="3851280"/>
            <a:ext cx="97956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 flipV="1">
            <a:off x="3338640" y="3769920"/>
            <a:ext cx="81000" cy="81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3419640" y="3770280"/>
            <a:ext cx="1634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2276640" y="3770280"/>
            <a:ext cx="82440" cy="81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3255840" y="3443400"/>
            <a:ext cx="163800" cy="326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3255840" y="3851280"/>
            <a:ext cx="1800" cy="407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2440080" y="3851280"/>
            <a:ext cx="1440" cy="407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1951200" y="3770280"/>
            <a:ext cx="1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1951200" y="4095720"/>
            <a:ext cx="14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 flipH="1" flipV="1">
            <a:off x="1944720" y="4095720"/>
            <a:ext cx="64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 flipH="1">
            <a:off x="1939680" y="4095720"/>
            <a:ext cx="46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 flipH="1" flipV="1">
            <a:off x="1933560" y="4095720"/>
            <a:ext cx="64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 flipH="1" flipV="1">
            <a:off x="1927080" y="4094280"/>
            <a:ext cx="64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 flipH="1" flipV="1">
            <a:off x="1922040" y="4094280"/>
            <a:ext cx="46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 flipH="1" flipV="1">
            <a:off x="1915920" y="4094280"/>
            <a:ext cx="612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 flipH="1" flipV="1">
            <a:off x="1911240" y="4092120"/>
            <a:ext cx="50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 flipH="1" flipV="1">
            <a:off x="1904760" y="4092120"/>
            <a:ext cx="612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 flipH="1" flipV="1">
            <a:off x="1900080" y="4091040"/>
            <a:ext cx="5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 flipH="1" flipV="1">
            <a:off x="1893600" y="4091040"/>
            <a:ext cx="612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 flipH="1" flipV="1">
            <a:off x="1888920" y="4088880"/>
            <a:ext cx="46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 flipV="1">
            <a:off x="1882800" y="4087800"/>
            <a:ext cx="64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 flipH="1" flipV="1">
            <a:off x="1877760" y="4087800"/>
            <a:ext cx="46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 flipH="1" flipV="1">
            <a:off x="1871640" y="4086360"/>
            <a:ext cx="64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 flipH="1" flipV="1">
            <a:off x="1866600" y="4084200"/>
            <a:ext cx="46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 flipH="1" flipV="1">
            <a:off x="1860480" y="4083120"/>
            <a:ext cx="64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 flipH="1" flipV="1">
            <a:off x="1855440" y="4080960"/>
            <a:ext cx="46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 flipH="1" flipV="1">
            <a:off x="1849320" y="4079880"/>
            <a:ext cx="64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 flipH="1" flipV="1">
            <a:off x="1844280" y="4078440"/>
            <a:ext cx="46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 flipH="1" flipV="1">
            <a:off x="1839600" y="4076280"/>
            <a:ext cx="46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 flipH="1" flipV="1">
            <a:off x="1833480" y="4073040"/>
            <a:ext cx="648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 flipH="1" flipV="1">
            <a:off x="1828440" y="4071960"/>
            <a:ext cx="46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 flipH="1" flipV="1">
            <a:off x="1823760" y="4068360"/>
            <a:ext cx="468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 flipH="1" flipV="1">
            <a:off x="1817640" y="4067280"/>
            <a:ext cx="64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H="1" flipV="1">
            <a:off x="1812600" y="4065120"/>
            <a:ext cx="46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 flipH="1" flipV="1">
            <a:off x="1807920" y="4061880"/>
            <a:ext cx="468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H="1" flipV="1">
            <a:off x="1801800" y="4060800"/>
            <a:ext cx="64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 flipH="1" flipV="1">
            <a:off x="1796760" y="4057200"/>
            <a:ext cx="468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 flipH="1" flipV="1">
            <a:off x="1792080" y="4053960"/>
            <a:ext cx="468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 flipH="1" flipV="1">
            <a:off x="1787400" y="4051440"/>
            <a:ext cx="5040" cy="2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 flipH="1" flipV="1">
            <a:off x="1782360" y="4049280"/>
            <a:ext cx="46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 flipH="1" flipV="1">
            <a:off x="1777680" y="4046040"/>
            <a:ext cx="468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 flipH="1" flipV="1">
            <a:off x="1773000" y="4043520"/>
            <a:ext cx="4680" cy="2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 flipH="1" flipV="1">
            <a:off x="1768320" y="4039920"/>
            <a:ext cx="504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 flipH="1" flipV="1">
            <a:off x="1763280" y="4036680"/>
            <a:ext cx="468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 flipH="1" flipV="1">
            <a:off x="1758600" y="4033440"/>
            <a:ext cx="468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 flipV="1">
            <a:off x="1753920" y="4030200"/>
            <a:ext cx="468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 flipV="1">
            <a:off x="1749240" y="4025520"/>
            <a:ext cx="468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 flipV="1">
            <a:off x="1746000" y="4022280"/>
            <a:ext cx="324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 flipH="1" flipV="1">
            <a:off x="1741320" y="4019040"/>
            <a:ext cx="504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 flipH="1" flipV="1">
            <a:off x="1736280" y="4016520"/>
            <a:ext cx="4680" cy="2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 flipH="1" flipV="1">
            <a:off x="1731600" y="4011480"/>
            <a:ext cx="4680" cy="5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 flipV="1">
            <a:off x="1728360" y="4008600"/>
            <a:ext cx="3240" cy="2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 flipH="1" flipV="1">
            <a:off x="1723680" y="4003560"/>
            <a:ext cx="4680" cy="5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 flipH="1" flipV="1">
            <a:off x="1719000" y="4000680"/>
            <a:ext cx="4680" cy="2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 flipH="1" flipV="1">
            <a:off x="1715760" y="3995640"/>
            <a:ext cx="3240" cy="5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 flipH="1" flipV="1">
            <a:off x="1711080" y="3990600"/>
            <a:ext cx="468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 flipH="1" flipV="1">
            <a:off x="1707840" y="3987360"/>
            <a:ext cx="324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 flipH="1" flipV="1">
            <a:off x="1704600" y="3982680"/>
            <a:ext cx="324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 flipH="1" flipV="1">
            <a:off x="1699920" y="3979440"/>
            <a:ext cx="468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 flipH="1" flipV="1">
            <a:off x="1696680" y="3974760"/>
            <a:ext cx="324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 flipH="1" flipV="1">
            <a:off x="1693440" y="3970080"/>
            <a:ext cx="324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 flipH="1" flipV="1">
            <a:off x="1690200" y="3965400"/>
            <a:ext cx="3240" cy="5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 flipH="1" flipV="1">
            <a:off x="1685520" y="3960360"/>
            <a:ext cx="468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 flipH="1" flipV="1">
            <a:off x="1682280" y="3955680"/>
            <a:ext cx="324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 flipH="1" flipV="1">
            <a:off x="1679040" y="3951000"/>
            <a:ext cx="324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 flipV="1">
            <a:off x="1676520" y="3946320"/>
            <a:ext cx="288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 flipH="1" flipV="1">
            <a:off x="1674360" y="3941640"/>
            <a:ext cx="1800" cy="5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 flipH="1" flipV="1">
            <a:off x="1671120" y="3936600"/>
            <a:ext cx="324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 flipH="1" flipV="1">
            <a:off x="1668600" y="3931920"/>
            <a:ext cx="288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 flipH="1" flipV="1">
            <a:off x="1665000" y="3927240"/>
            <a:ext cx="324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 flipH="1" flipV="1">
            <a:off x="1661760" y="3922560"/>
            <a:ext cx="3240" cy="5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 flipH="1" flipV="1">
            <a:off x="1660680" y="3917520"/>
            <a:ext cx="144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 flipH="1" flipV="1">
            <a:off x="1657080" y="3912840"/>
            <a:ext cx="324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 flipH="1" flipV="1">
            <a:off x="1655280" y="3906720"/>
            <a:ext cx="1800" cy="6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 flipH="1" flipV="1">
            <a:off x="1652760" y="3901680"/>
            <a:ext cx="288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 flipH="1" flipV="1">
            <a:off x="1650600" y="3897000"/>
            <a:ext cx="180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 flipH="1" flipV="1">
            <a:off x="1647360" y="3890880"/>
            <a:ext cx="3240" cy="6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 flipH="1" flipV="1">
            <a:off x="1646280" y="3885840"/>
            <a:ext cx="144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 flipH="1" flipV="1">
            <a:off x="1644120" y="3881160"/>
            <a:ext cx="180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 flipH="1" flipV="1">
            <a:off x="1641600" y="3875040"/>
            <a:ext cx="2880" cy="6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 flipH="1" flipV="1">
            <a:off x="1639440" y="3870000"/>
            <a:ext cx="180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H="1" flipV="1">
            <a:off x="1638360" y="3865320"/>
            <a:ext cx="144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 flipH="1" flipV="1">
            <a:off x="1636200" y="3859200"/>
            <a:ext cx="1800" cy="6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 flipH="1" flipV="1">
            <a:off x="1635120" y="3854160"/>
            <a:ext cx="144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 flipH="1" flipV="1">
            <a:off x="1633680" y="3848040"/>
            <a:ext cx="1440" cy="6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 flipH="1" flipV="1">
            <a:off x="1633680" y="3843000"/>
            <a:ext cx="144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 flipH="1" flipV="1">
            <a:off x="1631520" y="3836880"/>
            <a:ext cx="1800" cy="6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 flipH="1" flipV="1">
            <a:off x="1630440" y="3831840"/>
            <a:ext cx="144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 flipH="1" flipV="1">
            <a:off x="1628280" y="3825720"/>
            <a:ext cx="1800" cy="6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 flipH="1" flipV="1">
            <a:off x="1628280" y="3820680"/>
            <a:ext cx="180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 flipH="1" flipV="1">
            <a:off x="1627200" y="3814560"/>
            <a:ext cx="1440" cy="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 flipH="1" flipV="1">
            <a:off x="1627200" y="3809880"/>
            <a:ext cx="1440" cy="5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H="1" flipV="1">
            <a:off x="1625760" y="3803400"/>
            <a:ext cx="1440" cy="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 flipV="1">
            <a:off x="1625760" y="3798720"/>
            <a:ext cx="1440" cy="5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 flipH="1" flipV="1">
            <a:off x="1625760" y="3792240"/>
            <a:ext cx="1440" cy="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 flipH="1" flipV="1">
            <a:off x="1625760" y="3786120"/>
            <a:ext cx="1440" cy="6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 flipH="1" flipV="1">
            <a:off x="1623600" y="3781080"/>
            <a:ext cx="180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 flipV="1">
            <a:off x="1623960" y="3774960"/>
            <a:ext cx="1800" cy="6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 flipV="1">
            <a:off x="1623960" y="3769920"/>
            <a:ext cx="180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 flipV="1">
            <a:off x="1623960" y="3763800"/>
            <a:ext cx="1800" cy="6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 flipV="1">
            <a:off x="1623960" y="3757320"/>
            <a:ext cx="1800" cy="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V="1">
            <a:off x="1623960" y="3752640"/>
            <a:ext cx="180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 flipV="1">
            <a:off x="1625760" y="3746520"/>
            <a:ext cx="1440" cy="6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 flipV="1">
            <a:off x="1625760" y="3741480"/>
            <a:ext cx="144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 flipV="1">
            <a:off x="1625760" y="3735360"/>
            <a:ext cx="1440" cy="6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 flipV="1">
            <a:off x="1625760" y="3730320"/>
            <a:ext cx="144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 flipV="1">
            <a:off x="1627200" y="3724200"/>
            <a:ext cx="1440" cy="6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 flipV="1">
            <a:off x="1627200" y="3717720"/>
            <a:ext cx="1440" cy="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 flipV="1">
            <a:off x="1628640" y="3713040"/>
            <a:ext cx="1800" cy="5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 flipV="1">
            <a:off x="1628640" y="3706560"/>
            <a:ext cx="1800" cy="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 flipV="1">
            <a:off x="1630440" y="3701880"/>
            <a:ext cx="1440" cy="5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 flipV="1">
            <a:off x="1631880" y="3695400"/>
            <a:ext cx="1800" cy="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 flipV="1">
            <a:off x="1633680" y="3690720"/>
            <a:ext cx="144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flipV="1">
            <a:off x="1633680" y="3684600"/>
            <a:ext cx="1440" cy="6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 flipV="1">
            <a:off x="1635120" y="3679560"/>
            <a:ext cx="144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 flipV="1">
            <a:off x="1636560" y="3674880"/>
            <a:ext cx="180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 flipV="1">
            <a:off x="1638360" y="3668760"/>
            <a:ext cx="1440" cy="6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 flipV="1">
            <a:off x="1639800" y="3663720"/>
            <a:ext cx="180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 flipV="1">
            <a:off x="1641600" y="3657600"/>
            <a:ext cx="2880" cy="6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 flipV="1">
            <a:off x="1644480" y="3652560"/>
            <a:ext cx="180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 flipV="1">
            <a:off x="1646280" y="3647880"/>
            <a:ext cx="144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 flipV="1">
            <a:off x="1647720" y="3641760"/>
            <a:ext cx="3240" cy="6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 flipV="1">
            <a:off x="1650960" y="3636720"/>
            <a:ext cx="180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 flipV="1">
            <a:off x="1652760" y="3632040"/>
            <a:ext cx="2880" cy="5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 flipV="1">
            <a:off x="1655640" y="3627000"/>
            <a:ext cx="180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 flipV="1">
            <a:off x="1657440" y="3620880"/>
            <a:ext cx="3240" cy="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 flipV="1">
            <a:off x="1660680" y="3616200"/>
            <a:ext cx="1440" cy="5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 flipV="1">
            <a:off x="1662120" y="3611160"/>
            <a:ext cx="324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 flipV="1">
            <a:off x="1665360" y="3606480"/>
            <a:ext cx="324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 flipV="1">
            <a:off x="1668600" y="3601800"/>
            <a:ext cx="288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 flipV="1">
            <a:off x="1671480" y="3597120"/>
            <a:ext cx="3240" cy="5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 flipV="1">
            <a:off x="1674720" y="3592080"/>
            <a:ext cx="180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 flipV="1">
            <a:off x="1676520" y="3587400"/>
            <a:ext cx="288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 flipV="1">
            <a:off x="1679400" y="3582720"/>
            <a:ext cx="324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 flipV="1">
            <a:off x="1682640" y="3578040"/>
            <a:ext cx="324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 flipV="1">
            <a:off x="1685880" y="3573360"/>
            <a:ext cx="4680" cy="5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 flipV="1">
            <a:off x="1690560" y="3568320"/>
            <a:ext cx="324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 flipV="1">
            <a:off x="1693800" y="3563640"/>
            <a:ext cx="324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 flipV="1">
            <a:off x="1697040" y="3560400"/>
            <a:ext cx="324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 flipV="1">
            <a:off x="1700280" y="3555720"/>
            <a:ext cx="468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 flipV="1">
            <a:off x="1704960" y="3551040"/>
            <a:ext cx="324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 flipV="1">
            <a:off x="1708200" y="3547800"/>
            <a:ext cx="324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 flipV="1">
            <a:off x="1711440" y="3543120"/>
            <a:ext cx="468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 flipV="1">
            <a:off x="1716120" y="3538440"/>
            <a:ext cx="3240" cy="5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 flipV="1">
            <a:off x="1719360" y="3534840"/>
            <a:ext cx="468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 flipV="1">
            <a:off x="1724040" y="3530160"/>
            <a:ext cx="468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 flipV="1">
            <a:off x="1728720" y="3526920"/>
            <a:ext cx="324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 flipV="1">
            <a:off x="1731960" y="3522240"/>
            <a:ext cx="468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 flipV="1">
            <a:off x="1736640" y="3519000"/>
            <a:ext cx="468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 flipV="1">
            <a:off x="1741320" y="3516480"/>
            <a:ext cx="5040" cy="2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 flipV="1">
            <a:off x="1746360" y="3512880"/>
            <a:ext cx="324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 flipV="1">
            <a:off x="1749600" y="3508200"/>
            <a:ext cx="4680" cy="5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 flipV="1">
            <a:off x="1754280" y="3505320"/>
            <a:ext cx="4680" cy="2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 flipV="1">
            <a:off x="1758960" y="3501720"/>
            <a:ext cx="468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 flipV="1">
            <a:off x="1763640" y="3498480"/>
            <a:ext cx="468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 flipV="1">
            <a:off x="1768320" y="3495240"/>
            <a:ext cx="504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 flipV="1">
            <a:off x="1773360" y="3494160"/>
            <a:ext cx="46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 flipV="1">
            <a:off x="1778040" y="3489120"/>
            <a:ext cx="468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V="1">
            <a:off x="1782720" y="3487320"/>
            <a:ext cx="46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 flipV="1">
            <a:off x="1787400" y="3484080"/>
            <a:ext cx="504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V="1">
            <a:off x="1792440" y="3481560"/>
            <a:ext cx="4680" cy="2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1797120" y="3477960"/>
            <a:ext cx="468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 flipV="1">
            <a:off x="1801800" y="3476160"/>
            <a:ext cx="64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 flipV="1">
            <a:off x="1808280" y="3475080"/>
            <a:ext cx="46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 flipV="1">
            <a:off x="1812960" y="3471480"/>
            <a:ext cx="468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 flipV="1">
            <a:off x="1817640" y="3470400"/>
            <a:ext cx="64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 flipV="1">
            <a:off x="1824120" y="3466800"/>
            <a:ext cx="468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 flipV="1">
            <a:off x="1828800" y="3465000"/>
            <a:ext cx="46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 flipV="1">
            <a:off x="1833480" y="3463920"/>
            <a:ext cx="64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 flipV="1">
            <a:off x="1839960" y="3460320"/>
            <a:ext cx="468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 flipV="1">
            <a:off x="1844640" y="3459240"/>
            <a:ext cx="46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 flipV="1">
            <a:off x="1849320" y="3457080"/>
            <a:ext cx="64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 flipV="1">
            <a:off x="1855800" y="3456000"/>
            <a:ext cx="46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 flipV="1">
            <a:off x="1860480" y="3454560"/>
            <a:ext cx="64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 flipV="1">
            <a:off x="1866960" y="3452400"/>
            <a:ext cx="46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 flipV="1">
            <a:off x="1871640" y="3452400"/>
            <a:ext cx="64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 flipV="1">
            <a:off x="1878120" y="3451320"/>
            <a:ext cx="46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 flipV="1">
            <a:off x="1882800" y="3449160"/>
            <a:ext cx="64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 flipV="1">
            <a:off x="1889280" y="3448080"/>
            <a:ext cx="46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 flipV="1">
            <a:off x="1893960" y="3448080"/>
            <a:ext cx="612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 flipV="1">
            <a:off x="1900080" y="3446640"/>
            <a:ext cx="5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 flipV="1">
            <a:off x="1905120" y="3446640"/>
            <a:ext cx="612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 flipV="1">
            <a:off x="1911240" y="3444480"/>
            <a:ext cx="50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 flipV="1">
            <a:off x="1916280" y="3444480"/>
            <a:ext cx="612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 flipV="1">
            <a:off x="1922400" y="3444480"/>
            <a:ext cx="46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 flipV="1">
            <a:off x="1927080" y="3444480"/>
            <a:ext cx="64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 flipV="1">
            <a:off x="1933560" y="3443400"/>
            <a:ext cx="64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1940040" y="3443400"/>
            <a:ext cx="46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 flipV="1">
            <a:off x="1944720" y="3443400"/>
            <a:ext cx="64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 flipH="1">
            <a:off x="1951200" y="3443400"/>
            <a:ext cx="114120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1951200" y="4095720"/>
            <a:ext cx="3254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2276640" y="4095720"/>
            <a:ext cx="1440" cy="9777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2276640" y="5073480"/>
            <a:ext cx="114300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419640" y="4095720"/>
            <a:ext cx="1440" cy="9777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3419640" y="4095720"/>
            <a:ext cx="4888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3908520" y="3443400"/>
            <a:ext cx="1440" cy="652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 flipH="1">
            <a:off x="3419640" y="3443400"/>
            <a:ext cx="4888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3255840" y="3117960"/>
            <a:ext cx="1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3092400" y="3117960"/>
            <a:ext cx="180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 flipV="1">
            <a:off x="3092400" y="3114360"/>
            <a:ext cx="180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 flipV="1">
            <a:off x="3092400" y="3111120"/>
            <a:ext cx="180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 flipV="1">
            <a:off x="3092400" y="3110040"/>
            <a:ext cx="180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 flipV="1">
            <a:off x="3092400" y="3106440"/>
            <a:ext cx="180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 flipV="1">
            <a:off x="3094200" y="3103200"/>
            <a:ext cx="144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 flipV="1">
            <a:off x="3094200" y="3099960"/>
            <a:ext cx="144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 flipV="1">
            <a:off x="3094200" y="3096720"/>
            <a:ext cx="144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V="1">
            <a:off x="3094200" y="3095640"/>
            <a:ext cx="14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 flipV="1">
            <a:off x="3094200" y="3092040"/>
            <a:ext cx="144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 flipV="1">
            <a:off x="3094200" y="3088800"/>
            <a:ext cx="144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 flipV="1">
            <a:off x="3095640" y="3086280"/>
            <a:ext cx="1440" cy="2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 flipV="1">
            <a:off x="3095640" y="3084120"/>
            <a:ext cx="14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 flipV="1">
            <a:off x="3097080" y="3080880"/>
            <a:ext cx="180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 flipV="1">
            <a:off x="3097080" y="3077640"/>
            <a:ext cx="180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 flipV="1">
            <a:off x="3097080" y="3075120"/>
            <a:ext cx="1800" cy="2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V="1">
            <a:off x="3098880" y="3072960"/>
            <a:ext cx="14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 flipV="1">
            <a:off x="3098880" y="3069720"/>
            <a:ext cx="144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 flipV="1">
            <a:off x="3100320" y="3067200"/>
            <a:ext cx="1800" cy="2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 flipV="1">
            <a:off x="3100320" y="3063600"/>
            <a:ext cx="180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V="1">
            <a:off x="3102120" y="3061800"/>
            <a:ext cx="14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 flipV="1">
            <a:off x="3102120" y="3059280"/>
            <a:ext cx="1440" cy="2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 flipV="1">
            <a:off x="3103560" y="3055680"/>
            <a:ext cx="144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 flipV="1">
            <a:off x="3105000" y="3053880"/>
            <a:ext cx="180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 flipV="1">
            <a:off x="3105000" y="3050640"/>
            <a:ext cx="180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 flipV="1">
            <a:off x="3106800" y="3048120"/>
            <a:ext cx="1440" cy="2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 flipV="1">
            <a:off x="3108240" y="3045960"/>
            <a:ext cx="180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 flipV="1">
            <a:off x="3110040" y="3042720"/>
            <a:ext cx="144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 flipV="1">
            <a:off x="3110040" y="3041640"/>
            <a:ext cx="14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 flipV="1">
            <a:off x="3111480" y="3038040"/>
            <a:ext cx="144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 flipV="1">
            <a:off x="3112920" y="3036960"/>
            <a:ext cx="180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 flipV="1">
            <a:off x="3114720" y="3033360"/>
            <a:ext cx="144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 flipV="1">
            <a:off x="3116160" y="3030120"/>
            <a:ext cx="180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 flipV="1">
            <a:off x="3117960" y="3029040"/>
            <a:ext cx="14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 flipV="1">
            <a:off x="3119400" y="3025440"/>
            <a:ext cx="180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 flipV="1">
            <a:off x="3121200" y="3024360"/>
            <a:ext cx="14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 flipV="1">
            <a:off x="3122640" y="3022200"/>
            <a:ext cx="14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 flipV="1">
            <a:off x="3124080" y="3018960"/>
            <a:ext cx="180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 flipV="1">
            <a:off x="3125880" y="3017880"/>
            <a:ext cx="14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 flipV="1">
            <a:off x="3127320" y="3014280"/>
            <a:ext cx="180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 flipV="1">
            <a:off x="3129120" y="3013200"/>
            <a:ext cx="14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V="1">
            <a:off x="3130560" y="3011040"/>
            <a:ext cx="14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 flipV="1">
            <a:off x="3132000" y="3007800"/>
            <a:ext cx="324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 flipV="1">
            <a:off x="3135240" y="3006720"/>
            <a:ext cx="180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 flipV="1">
            <a:off x="3137040" y="3005280"/>
            <a:ext cx="14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flipV="1">
            <a:off x="3138480" y="3001680"/>
            <a:ext cx="144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 flipV="1">
            <a:off x="3139920" y="2999880"/>
            <a:ext cx="32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 flipV="1">
            <a:off x="3143160" y="2998800"/>
            <a:ext cx="180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 flipV="1">
            <a:off x="3144960" y="2997360"/>
            <a:ext cx="14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 flipV="1">
            <a:off x="3146400" y="2993760"/>
            <a:ext cx="324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 flipV="1">
            <a:off x="3149640" y="2991960"/>
            <a:ext cx="14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 flipV="1">
            <a:off x="3151080" y="2990880"/>
            <a:ext cx="180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 flipV="1">
            <a:off x="3152880" y="2989440"/>
            <a:ext cx="32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 flipV="1">
            <a:off x="3156120" y="2987280"/>
            <a:ext cx="14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 flipV="1">
            <a:off x="3157560" y="2986200"/>
            <a:ext cx="32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 flipV="1">
            <a:off x="3160800" y="2984040"/>
            <a:ext cx="14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 flipV="1">
            <a:off x="3162240" y="2982960"/>
            <a:ext cx="32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 flipV="1">
            <a:off x="3165480" y="2980800"/>
            <a:ext cx="14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 flipV="1">
            <a:off x="3166920" y="2979720"/>
            <a:ext cx="180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 flipV="1">
            <a:off x="3168720" y="2978280"/>
            <a:ext cx="32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 flipV="1">
            <a:off x="3171960" y="2976120"/>
            <a:ext cx="28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 flipV="1">
            <a:off x="3174840" y="2975040"/>
            <a:ext cx="180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 flipV="1">
            <a:off x="3176640" y="2972880"/>
            <a:ext cx="32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 flipV="1">
            <a:off x="3179880" y="2971800"/>
            <a:ext cx="14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 flipV="1">
            <a:off x="3181320" y="2971800"/>
            <a:ext cx="32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 flipV="1">
            <a:off x="3184560" y="2970360"/>
            <a:ext cx="32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 flipV="1">
            <a:off x="3187800" y="2968200"/>
            <a:ext cx="14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 flipV="1">
            <a:off x="3189240" y="2967120"/>
            <a:ext cx="32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 flipV="1">
            <a:off x="3192480" y="2967120"/>
            <a:ext cx="32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 flipV="1">
            <a:off x="3195720" y="2964960"/>
            <a:ext cx="14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 flipV="1">
            <a:off x="3197160" y="2963880"/>
            <a:ext cx="32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 flipV="1">
            <a:off x="3200400" y="2963880"/>
            <a:ext cx="32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 flipV="1">
            <a:off x="3203640" y="2962440"/>
            <a:ext cx="14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 flipV="1">
            <a:off x="3205080" y="2962440"/>
            <a:ext cx="32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 flipV="1">
            <a:off x="3208320" y="2960280"/>
            <a:ext cx="32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 flipV="1">
            <a:off x="3211560" y="2960280"/>
            <a:ext cx="32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 flipV="1">
            <a:off x="3214800" y="2959200"/>
            <a:ext cx="14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 flipV="1">
            <a:off x="3216240" y="2959200"/>
            <a:ext cx="32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 flipV="1">
            <a:off x="3219480" y="2959200"/>
            <a:ext cx="32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 flipV="1">
            <a:off x="3222720" y="2957040"/>
            <a:ext cx="14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 flipV="1">
            <a:off x="3224160" y="2957040"/>
            <a:ext cx="32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 flipV="1">
            <a:off x="3227400" y="2955960"/>
            <a:ext cx="32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 flipV="1">
            <a:off x="3230640" y="2955960"/>
            <a:ext cx="32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 flipV="1">
            <a:off x="3233880" y="2955960"/>
            <a:ext cx="28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 flipV="1">
            <a:off x="3236760" y="2955960"/>
            <a:ext cx="180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3238560" y="2955960"/>
            <a:ext cx="32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 flipV="1">
            <a:off x="3241800" y="2953800"/>
            <a:ext cx="28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 flipV="1">
            <a:off x="3244680" y="2953800"/>
            <a:ext cx="32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3247920" y="2954160"/>
            <a:ext cx="180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3249720" y="2954160"/>
            <a:ext cx="32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3252960" y="2954160"/>
            <a:ext cx="28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3255840" y="2954160"/>
            <a:ext cx="32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3259080" y="2954160"/>
            <a:ext cx="32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3262320" y="2954160"/>
            <a:ext cx="14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3263760" y="2954160"/>
            <a:ext cx="32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3267000" y="2954160"/>
            <a:ext cx="32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3270240" y="2955960"/>
            <a:ext cx="32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3273480" y="2955960"/>
            <a:ext cx="32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3276720" y="2955960"/>
            <a:ext cx="14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3278160" y="2955960"/>
            <a:ext cx="32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3281400" y="2955960"/>
            <a:ext cx="32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3284640" y="2957400"/>
            <a:ext cx="32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3287880" y="2957400"/>
            <a:ext cx="14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3289320" y="2959200"/>
            <a:ext cx="32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3292560" y="2959200"/>
            <a:ext cx="32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3295800" y="2959200"/>
            <a:ext cx="28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3298680" y="2960640"/>
            <a:ext cx="180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3300480" y="2960640"/>
            <a:ext cx="32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3303720" y="2962440"/>
            <a:ext cx="28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3306600" y="2962440"/>
            <a:ext cx="180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3308400" y="2963880"/>
            <a:ext cx="32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3311640" y="2963880"/>
            <a:ext cx="32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3314880" y="2965320"/>
            <a:ext cx="28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3317760" y="2967120"/>
            <a:ext cx="180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3319560" y="2967120"/>
            <a:ext cx="32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3322800" y="2968560"/>
            <a:ext cx="14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3324240" y="2970360"/>
            <a:ext cx="32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3327480" y="2971800"/>
            <a:ext cx="32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3330720" y="2971800"/>
            <a:ext cx="14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3332160" y="2973240"/>
            <a:ext cx="32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3335400" y="2975040"/>
            <a:ext cx="32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3338640" y="2976480"/>
            <a:ext cx="14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3340080" y="2978280"/>
            <a:ext cx="14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3341520" y="2979720"/>
            <a:ext cx="32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3344760" y="2981160"/>
            <a:ext cx="180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3346560" y="2982960"/>
            <a:ext cx="32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3349800" y="2984400"/>
            <a:ext cx="14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3351240" y="2986200"/>
            <a:ext cx="32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3354480" y="2987640"/>
            <a:ext cx="14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3355920" y="2989440"/>
            <a:ext cx="32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3359160" y="2990880"/>
            <a:ext cx="14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3360600" y="2992320"/>
            <a:ext cx="180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3362400" y="2994120"/>
            <a:ext cx="324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3365640" y="2997360"/>
            <a:ext cx="14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3367080" y="2998800"/>
            <a:ext cx="14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3368520" y="3000240"/>
            <a:ext cx="32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3371760" y="3002040"/>
            <a:ext cx="180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3373560" y="3005280"/>
            <a:ext cx="14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3375000" y="3006720"/>
            <a:ext cx="14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3376440" y="3008160"/>
            <a:ext cx="324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3379680" y="3011400"/>
            <a:ext cx="180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3381480" y="3013200"/>
            <a:ext cx="14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3382920" y="3014640"/>
            <a:ext cx="180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3384720" y="3017880"/>
            <a:ext cx="14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386160" y="3019320"/>
            <a:ext cx="144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3387600" y="3022560"/>
            <a:ext cx="180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3389400" y="3024360"/>
            <a:ext cx="14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3390840" y="3025800"/>
            <a:ext cx="180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3392640" y="3029040"/>
            <a:ext cx="14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3394080" y="3030480"/>
            <a:ext cx="144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3395520" y="3033720"/>
            <a:ext cx="180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3397320" y="3036960"/>
            <a:ext cx="14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3398760" y="3038400"/>
            <a:ext cx="180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3400560" y="3041640"/>
            <a:ext cx="14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3402000" y="3043080"/>
            <a:ext cx="144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3402000" y="3046320"/>
            <a:ext cx="14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3403440" y="3048120"/>
            <a:ext cx="1800" cy="2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3405240" y="3051000"/>
            <a:ext cx="144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3406680" y="3054240"/>
            <a:ext cx="180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3406680" y="3056040"/>
            <a:ext cx="180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3408480" y="3059280"/>
            <a:ext cx="1440" cy="2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3409920" y="3062160"/>
            <a:ext cx="14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3409920" y="3063960"/>
            <a:ext cx="144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3411360" y="3067200"/>
            <a:ext cx="1800" cy="2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3411360" y="3070080"/>
            <a:ext cx="180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413160" y="3073320"/>
            <a:ext cx="14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3413160" y="3075120"/>
            <a:ext cx="1440" cy="2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3414600" y="3078000"/>
            <a:ext cx="180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3414600" y="3081240"/>
            <a:ext cx="180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3416400" y="3084480"/>
            <a:ext cx="14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3416400" y="3086280"/>
            <a:ext cx="1440" cy="2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3416400" y="3089160"/>
            <a:ext cx="144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3416400" y="3092400"/>
            <a:ext cx="144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3417840" y="3095640"/>
            <a:ext cx="180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3417840" y="3097080"/>
            <a:ext cx="180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3417840" y="3100320"/>
            <a:ext cx="180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3417840" y="3103560"/>
            <a:ext cx="180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3419640" y="3106800"/>
            <a:ext cx="144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3419640" y="3110040"/>
            <a:ext cx="14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3419640" y="3111480"/>
            <a:ext cx="144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3419640" y="3114720"/>
            <a:ext cx="144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 flipV="1">
            <a:off x="3092400" y="3117960"/>
            <a:ext cx="1800" cy="325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 flipV="1">
            <a:off x="3419640" y="3117960"/>
            <a:ext cx="1440" cy="325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2359080" y="3770280"/>
            <a:ext cx="163440" cy="162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3174840" y="3770280"/>
            <a:ext cx="163800" cy="162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3338640" y="3687840"/>
            <a:ext cx="161640" cy="163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3174840" y="4829040"/>
            <a:ext cx="163800" cy="163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359080" y="4829040"/>
            <a:ext cx="163440" cy="163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3500280" y="3687840"/>
            <a:ext cx="163800" cy="163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1870200" y="3687840"/>
            <a:ext cx="161640" cy="163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3174840" y="3036960"/>
            <a:ext cx="163800" cy="162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3827520" y="3362400"/>
            <a:ext cx="163440" cy="163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3827520" y="4014720"/>
            <a:ext cx="163440" cy="162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3338640" y="4992840"/>
            <a:ext cx="161640" cy="16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2195640" y="4992840"/>
            <a:ext cx="163440" cy="16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2603520" y="4259160"/>
            <a:ext cx="4888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3092400" y="4259160"/>
            <a:ext cx="1800" cy="488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 flipH="1">
            <a:off x="2603520" y="4748040"/>
            <a:ext cx="4888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 flipV="1">
            <a:off x="2603520" y="4259160"/>
            <a:ext cx="1440" cy="488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4316400" y="4259160"/>
            <a:ext cx="163440" cy="162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4316400" y="4665600"/>
            <a:ext cx="163440" cy="16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4267080" y="5181480"/>
            <a:ext cx="4064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4235400" y="3117960"/>
            <a:ext cx="325440" cy="244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4235400" y="3117960"/>
            <a:ext cx="3254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560840" y="3117960"/>
            <a:ext cx="1800" cy="244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 flipH="1">
            <a:off x="4235400" y="3362400"/>
            <a:ext cx="3254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 flipV="1">
            <a:off x="4235400" y="3117600"/>
            <a:ext cx="1800" cy="244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4691160" y="3132000"/>
            <a:ext cx="333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4689360" y="4189320"/>
            <a:ext cx="1937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nts multi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4691520" y="4575240"/>
            <a:ext cx="1932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nts extrê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4691160" y="4946760"/>
            <a:ext cx="76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k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 squelette par zone d'influence (SKIZ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éfin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sem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ne d'influ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KIZ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aison avec le squelet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1" name=""/>
          <p:cNvGrpSpPr/>
          <p:nvPr/>
        </p:nvGrpSpPr>
        <p:grpSpPr>
          <a:xfrm>
            <a:off x="3575160" y="2392200"/>
            <a:ext cx="4085640" cy="487440"/>
            <a:chOff x="3575160" y="2392200"/>
            <a:chExt cx="4085640" cy="487440"/>
          </a:xfrm>
        </p:grpSpPr>
        <mc:AlternateContent>
          <mc:Choice xmlns:a14="http://schemas.microsoft.com/office/drawing/2010/main" Requires="a14">
            <p:sp>
              <p:nvSpPr>
                <p:cNvPr id="2532" name=""/>
                <p:cNvSpPr txBox="1"/>
                <p:nvPr/>
              </p:nvSpPr>
              <p:spPr>
                <a:xfrm>
                  <a:off x="3575160" y="2408400"/>
                  <a:ext cx="890640" cy="47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limLow>
                        <m:e/>
                        <m:lim>
                          <m:r>
                            <m:t xml:space="preserve">i</m:t>
                          </m:r>
                        </m:lim>
                      </m:limLow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533" name=""/>
            <p:cNvSpPr/>
            <p:nvPr/>
          </p:nvSpPr>
          <p:spPr>
            <a:xfrm>
              <a:off x="4664520" y="2392200"/>
              <a:ext cx="29962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fr-FR" sz="20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= composante connex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534" name=""/>
          <p:cNvGraphicFramePr/>
          <p:nvPr/>
        </p:nvGraphicFramePr>
        <p:xfrm>
          <a:off x="4038480" y="3048120"/>
          <a:ext cx="4164120" cy="37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048120"/>
                    <a:ext cx="4164120" cy="37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6" name=""/>
          <p:cNvGraphicFramePr/>
          <p:nvPr/>
        </p:nvGraphicFramePr>
        <p:xfrm>
          <a:off x="2994120" y="3513240"/>
          <a:ext cx="1309680" cy="68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94120" y="3513240"/>
                    <a:ext cx="130968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538" name=""/>
              <p:cNvSpPr txBox="1"/>
              <p:nvPr/>
            </p:nvSpPr>
            <p:spPr>
              <a:xfrm>
                <a:off x="5835600" y="4691160"/>
                <a:ext cx="12844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z</m:t>
                    </m:r>
                    <m:r>
                      <m:t xml:space="preserve">Ì</m:t>
                    </m:r>
                    <m:r>
                      <m:rPr>
                        <m:lit/>
                        <m:nor/>
                      </m:rPr>
                      <m:t xml:space="preserve">Sk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quelette par zone d'influe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1473120" y="2254320"/>
            <a:ext cx="5554800" cy="3263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2276640" y="2254320"/>
            <a:ext cx="326880" cy="11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1460520" y="3070080"/>
            <a:ext cx="81612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2603520" y="2743200"/>
            <a:ext cx="98100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3257640" y="3070080"/>
            <a:ext cx="326880" cy="6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276640" y="3395520"/>
            <a:ext cx="326880" cy="6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2603520" y="3722760"/>
            <a:ext cx="98100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3584520" y="3070080"/>
            <a:ext cx="114300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4564080" y="3070080"/>
            <a:ext cx="326880" cy="32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3909960" y="2254320"/>
            <a:ext cx="327240" cy="81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2603520" y="4049640"/>
            <a:ext cx="654120" cy="146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1787400" y="4211640"/>
            <a:ext cx="325440" cy="81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1787400" y="4049640"/>
            <a:ext cx="327240" cy="32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1787400" y="4865760"/>
            <a:ext cx="327240" cy="326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3257640" y="4375080"/>
            <a:ext cx="212400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237200" y="2417760"/>
            <a:ext cx="146988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5381640" y="2743200"/>
            <a:ext cx="325440" cy="195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4564080" y="4702320"/>
            <a:ext cx="326880" cy="81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5707080" y="2743200"/>
            <a:ext cx="130824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6524640" y="3070080"/>
            <a:ext cx="326880" cy="130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6513480" y="4375080"/>
            <a:ext cx="338040" cy="322200"/>
          </a:xfrm>
          <a:custGeom>
            <a:avLst/>
            <a:gdLst/>
            <a:ahLst/>
            <a:rect l="l" t="t" r="r" b="b"/>
            <a:pathLst>
              <a:path w="617" h="616">
                <a:moveTo>
                  <a:pt x="0" y="0"/>
                </a:moveTo>
                <a:lnTo>
                  <a:pt x="617" y="0"/>
                </a:lnTo>
                <a:lnTo>
                  <a:pt x="617" y="0"/>
                </a:lnTo>
                <a:lnTo>
                  <a:pt x="616" y="21"/>
                </a:lnTo>
                <a:lnTo>
                  <a:pt x="615" y="42"/>
                </a:lnTo>
                <a:lnTo>
                  <a:pt x="614" y="64"/>
                </a:lnTo>
                <a:lnTo>
                  <a:pt x="611" y="85"/>
                </a:lnTo>
                <a:lnTo>
                  <a:pt x="607" y="106"/>
                </a:lnTo>
                <a:lnTo>
                  <a:pt x="604" y="128"/>
                </a:lnTo>
                <a:lnTo>
                  <a:pt x="599" y="149"/>
                </a:lnTo>
                <a:lnTo>
                  <a:pt x="593" y="169"/>
                </a:lnTo>
                <a:lnTo>
                  <a:pt x="586" y="190"/>
                </a:lnTo>
                <a:lnTo>
                  <a:pt x="579" y="211"/>
                </a:lnTo>
                <a:lnTo>
                  <a:pt x="572" y="231"/>
                </a:lnTo>
                <a:lnTo>
                  <a:pt x="563" y="250"/>
                </a:lnTo>
                <a:lnTo>
                  <a:pt x="554" y="270"/>
                </a:lnTo>
                <a:lnTo>
                  <a:pt x="544" y="289"/>
                </a:lnTo>
                <a:lnTo>
                  <a:pt x="535" y="308"/>
                </a:lnTo>
                <a:lnTo>
                  <a:pt x="524" y="327"/>
                </a:lnTo>
                <a:lnTo>
                  <a:pt x="511" y="344"/>
                </a:lnTo>
                <a:lnTo>
                  <a:pt x="499" y="361"/>
                </a:lnTo>
                <a:lnTo>
                  <a:pt x="486" y="379"/>
                </a:lnTo>
                <a:lnTo>
                  <a:pt x="473" y="396"/>
                </a:lnTo>
                <a:lnTo>
                  <a:pt x="458" y="412"/>
                </a:lnTo>
                <a:lnTo>
                  <a:pt x="443" y="428"/>
                </a:lnTo>
                <a:lnTo>
                  <a:pt x="428" y="443"/>
                </a:lnTo>
                <a:lnTo>
                  <a:pt x="412" y="458"/>
                </a:lnTo>
                <a:lnTo>
                  <a:pt x="396" y="472"/>
                </a:lnTo>
                <a:lnTo>
                  <a:pt x="379" y="486"/>
                </a:lnTo>
                <a:lnTo>
                  <a:pt x="362" y="498"/>
                </a:lnTo>
                <a:lnTo>
                  <a:pt x="344" y="511"/>
                </a:lnTo>
                <a:lnTo>
                  <a:pt x="327" y="523"/>
                </a:lnTo>
                <a:lnTo>
                  <a:pt x="309" y="534"/>
                </a:lnTo>
                <a:lnTo>
                  <a:pt x="289" y="544"/>
                </a:lnTo>
                <a:lnTo>
                  <a:pt x="270" y="554"/>
                </a:lnTo>
                <a:lnTo>
                  <a:pt x="251" y="562"/>
                </a:lnTo>
                <a:lnTo>
                  <a:pt x="231" y="571"/>
                </a:lnTo>
                <a:lnTo>
                  <a:pt x="211" y="578"/>
                </a:lnTo>
                <a:lnTo>
                  <a:pt x="190" y="586"/>
                </a:lnTo>
                <a:lnTo>
                  <a:pt x="169" y="592"/>
                </a:lnTo>
                <a:lnTo>
                  <a:pt x="149" y="598"/>
                </a:lnTo>
                <a:lnTo>
                  <a:pt x="128" y="603"/>
                </a:lnTo>
                <a:lnTo>
                  <a:pt x="106" y="607"/>
                </a:lnTo>
                <a:lnTo>
                  <a:pt x="85" y="611"/>
                </a:lnTo>
                <a:lnTo>
                  <a:pt x="64" y="613"/>
                </a:lnTo>
                <a:lnTo>
                  <a:pt x="42" y="614"/>
                </a:lnTo>
                <a:lnTo>
                  <a:pt x="21" y="61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5707080" y="4375080"/>
            <a:ext cx="81756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4890960" y="5029200"/>
            <a:ext cx="147024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3746520" y="4702320"/>
            <a:ext cx="326880" cy="48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2440080" y="2254320"/>
            <a:ext cx="1440" cy="163188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1460520" y="3233880"/>
            <a:ext cx="97956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2440080" y="2906640"/>
            <a:ext cx="981000" cy="18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3421080" y="2906640"/>
            <a:ext cx="1440" cy="97956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 flipH="1">
            <a:off x="2439720" y="3886200"/>
            <a:ext cx="98100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2930400" y="3886200"/>
            <a:ext cx="1800" cy="163188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2930400" y="4538520"/>
            <a:ext cx="3594240" cy="18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 flipV="1">
            <a:off x="6688080" y="2906280"/>
            <a:ext cx="1800" cy="1468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6688080" y="2906640"/>
            <a:ext cx="327240" cy="18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5545080" y="2906640"/>
            <a:ext cx="1143000" cy="18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5545080" y="2579760"/>
            <a:ext cx="1800" cy="195876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4073400" y="2579760"/>
            <a:ext cx="147168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 flipH="1">
            <a:off x="3421080" y="3233880"/>
            <a:ext cx="65232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073400" y="2254320"/>
            <a:ext cx="1800" cy="97956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4727520" y="4538520"/>
            <a:ext cx="1800" cy="97956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1949400" y="4211640"/>
            <a:ext cx="1800" cy="817560"/>
          </a:xfrm>
          <a:prstGeom prst="line">
            <a:avLst/>
          </a:prstGeom>
          <a:ln w="33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4073400" y="3233880"/>
            <a:ext cx="654120" cy="1440"/>
          </a:xfrm>
          <a:prstGeom prst="line">
            <a:avLst/>
          </a:prstGeom>
          <a:ln w="33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3909960" y="4538520"/>
            <a:ext cx="1800" cy="490680"/>
          </a:xfrm>
          <a:prstGeom prst="line">
            <a:avLst/>
          </a:prstGeom>
          <a:ln w="33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3909960" y="5029200"/>
            <a:ext cx="163440" cy="162000"/>
          </a:xfrm>
          <a:prstGeom prst="line">
            <a:avLst/>
          </a:prstGeom>
          <a:ln w="33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 flipH="1">
            <a:off x="3746520" y="5029200"/>
            <a:ext cx="163440" cy="162000"/>
          </a:xfrm>
          <a:prstGeom prst="line">
            <a:avLst/>
          </a:prstGeom>
          <a:ln w="33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4727520" y="5191200"/>
            <a:ext cx="1470240" cy="1440"/>
          </a:xfrm>
          <a:prstGeom prst="line">
            <a:avLst/>
          </a:prstGeom>
          <a:ln w="33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 flipV="1">
            <a:off x="6197760" y="5029200"/>
            <a:ext cx="163440" cy="162000"/>
          </a:xfrm>
          <a:prstGeom prst="line">
            <a:avLst/>
          </a:prstGeom>
          <a:ln w="33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6197760" y="5191200"/>
            <a:ext cx="163440" cy="163440"/>
          </a:xfrm>
          <a:prstGeom prst="line">
            <a:avLst/>
          </a:prstGeom>
          <a:ln w="33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1460520" y="2254320"/>
            <a:ext cx="555480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7015320" y="2254320"/>
            <a:ext cx="1440" cy="326376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 flipH="1">
            <a:off x="1460520" y="5518080"/>
            <a:ext cx="5554800" cy="18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 flipV="1">
            <a:off x="1460520" y="2254320"/>
            <a:ext cx="1440" cy="326376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6524640" y="4375080"/>
            <a:ext cx="1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6688080" y="4375080"/>
            <a:ext cx="1800" cy="18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 flipH="1">
            <a:off x="6686640" y="4375080"/>
            <a:ext cx="1440" cy="648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6686640" y="4381560"/>
            <a:ext cx="1440" cy="468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 flipH="1">
            <a:off x="6686640" y="4386240"/>
            <a:ext cx="1440" cy="648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 flipH="1">
            <a:off x="6686640" y="4392720"/>
            <a:ext cx="1440" cy="468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 flipH="1">
            <a:off x="6684480" y="4397400"/>
            <a:ext cx="1800" cy="648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 flipH="1">
            <a:off x="6683400" y="4403880"/>
            <a:ext cx="1440" cy="612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 flipH="1">
            <a:off x="6683400" y="4410000"/>
            <a:ext cx="1440" cy="468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 flipH="1">
            <a:off x="6681960" y="4414680"/>
            <a:ext cx="1440" cy="50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 flipH="1">
            <a:off x="6679800" y="4419720"/>
            <a:ext cx="1800" cy="612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 flipH="1">
            <a:off x="6676560" y="4425840"/>
            <a:ext cx="3240" cy="50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 flipH="1">
            <a:off x="6675480" y="4430880"/>
            <a:ext cx="1440" cy="612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 flipH="1">
            <a:off x="6673320" y="4437000"/>
            <a:ext cx="1800" cy="468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 flipH="1">
            <a:off x="6670800" y="4441680"/>
            <a:ext cx="2880" cy="50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 flipH="1">
            <a:off x="6668640" y="4446720"/>
            <a:ext cx="1800" cy="468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 flipH="1">
            <a:off x="6665400" y="4451400"/>
            <a:ext cx="3240" cy="648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 flipH="1">
            <a:off x="6662880" y="4457880"/>
            <a:ext cx="2880" cy="468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 flipH="1">
            <a:off x="6659280" y="4462560"/>
            <a:ext cx="3240" cy="32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 flipH="1">
            <a:off x="6656040" y="4465800"/>
            <a:ext cx="3240" cy="468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 flipH="1">
            <a:off x="6652800" y="4470480"/>
            <a:ext cx="3240" cy="468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 flipH="1">
            <a:off x="6649560" y="4475160"/>
            <a:ext cx="3240" cy="468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 flipH="1">
            <a:off x="6644880" y="4479840"/>
            <a:ext cx="4680" cy="468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 flipH="1">
            <a:off x="6641640" y="4484520"/>
            <a:ext cx="3240" cy="32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 flipH="1">
            <a:off x="6636960" y="4487760"/>
            <a:ext cx="4680" cy="50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 flipH="1">
            <a:off x="6633720" y="4492800"/>
            <a:ext cx="3240" cy="288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 flipH="1">
            <a:off x="6629040" y="4495680"/>
            <a:ext cx="4680" cy="50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 flipH="1">
            <a:off x="6624360" y="4500720"/>
            <a:ext cx="4680" cy="288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 flipH="1">
            <a:off x="6619680" y="4503600"/>
            <a:ext cx="4680" cy="32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 flipH="1">
            <a:off x="6615000" y="4506840"/>
            <a:ext cx="5040" cy="32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 flipH="1">
            <a:off x="6609960" y="4510080"/>
            <a:ext cx="4680" cy="32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 flipH="1">
            <a:off x="6605280" y="4513320"/>
            <a:ext cx="4680" cy="32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 flipH="1">
            <a:off x="6600600" y="4516560"/>
            <a:ext cx="4680" cy="288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 flipH="1">
            <a:off x="6595920" y="4519440"/>
            <a:ext cx="5040" cy="18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 flipH="1">
            <a:off x="6590880" y="4521240"/>
            <a:ext cx="4680" cy="32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 flipH="1">
            <a:off x="6584760" y="4524480"/>
            <a:ext cx="612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 flipH="1">
            <a:off x="6580080" y="4525920"/>
            <a:ext cx="5040" cy="32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 flipH="1">
            <a:off x="6575040" y="4529160"/>
            <a:ext cx="468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 flipH="1">
            <a:off x="6568920" y="4530600"/>
            <a:ext cx="6480" cy="18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 flipH="1">
            <a:off x="6563880" y="4532400"/>
            <a:ext cx="468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 flipH="1">
            <a:off x="6557760" y="4533840"/>
            <a:ext cx="6120" cy="18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 flipH="1">
            <a:off x="6553080" y="4535640"/>
            <a:ext cx="504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 flipH="1">
            <a:off x="6546600" y="4535640"/>
            <a:ext cx="612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 flipH="1">
            <a:off x="6541920" y="4537080"/>
            <a:ext cx="504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 flipH="1">
            <a:off x="6535440" y="4537080"/>
            <a:ext cx="612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 flipH="1">
            <a:off x="6529320" y="4538520"/>
            <a:ext cx="6480" cy="18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 flipH="1">
            <a:off x="6524280" y="4538520"/>
            <a:ext cx="4680" cy="18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1734120" y="2503440"/>
            <a:ext cx="40680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3058200" y="2322360"/>
            <a:ext cx="40680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6039360" y="2341440"/>
            <a:ext cx="40680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1705680" y="3560760"/>
            <a:ext cx="40680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2800800" y="3255840"/>
            <a:ext cx="40680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4201200" y="3608280"/>
            <a:ext cx="40680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6553800" y="4846680"/>
            <a:ext cx="40680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6001200" y="3370320"/>
            <a:ext cx="40680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3362760" y="5103720"/>
            <a:ext cx="40680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7288200" y="2292480"/>
            <a:ext cx="316080" cy="31572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7648560" y="2313000"/>
            <a:ext cx="333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7280280" y="3114720"/>
            <a:ext cx="388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7719840" y="2955960"/>
            <a:ext cx="753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z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7280280" y="3524400"/>
            <a:ext cx="388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7280280" y="3614760"/>
            <a:ext cx="3888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7740720" y="3427560"/>
            <a:ext cx="861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k(X</a:t>
            </a:r>
            <a:r>
              <a:rPr b="1" lang="fr-FR" sz="18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1357200" y="2023920"/>
            <a:ext cx="7143840" cy="366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morphologie mathématique ensembliste (principe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Utilisation d'opérateurs ensemblistes classiqu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484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484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484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ifférence symétrique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484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plé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Les transformations en tout ou ri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484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paraison entre l'ensemble à étudier et un ensemble de géométrie connue : </a:t>
            </a:r>
            <a:r>
              <a:rPr b="1" i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l'élément structurant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484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our chaque position de B, une question relative à l'intersection ou à l'inclusion est posé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484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outes les réponses positives conduisent à un nouvel ensembl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429000" y="2362320"/>
          <a:ext cx="1035000" cy="2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362320"/>
                    <a:ext cx="1035000" cy="2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038480" y="2666880"/>
          <a:ext cx="684360" cy="25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2666880"/>
                    <a:ext cx="684360" cy="2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57800" y="3048120"/>
          <a:ext cx="673200" cy="29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3048120"/>
                    <a:ext cx="67320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99960" y="11160"/>
          <a:ext cx="112680" cy="17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9960" y="11160"/>
                    <a:ext cx="112680" cy="1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800600" y="3316320"/>
          <a:ext cx="303120" cy="264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3316320"/>
                    <a:ext cx="3031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quelette par zone d'influe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prié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squelette par zone d'influence (SKIZ) partage l'espace en autant de parties qu'il y a de composantes connex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SKIZ n'est pas une transformation homotopiq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SKIZ n'est pas une transformation croissa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SKIZ est une transformation anti-extensive par rapport à X</a:t>
            </a:r>
            <a:r>
              <a:rPr b="1" lang="fr-FR" sz="18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SKIZ est une transformation idempote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SKIZ est une transformation semi-continue supérie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transformation est nettement plus stable que la squelettis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7" name=""/>
          <p:cNvGraphicFramePr/>
          <p:nvPr/>
        </p:nvGraphicFramePr>
        <p:xfrm>
          <a:off x="2133720" y="3297240"/>
          <a:ext cx="137448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97240"/>
                    <a:ext cx="13744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phologie ensembliste (propriétés des opérateur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riétés algébriq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riétés topologiq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èmes de connaissance loca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phologie ensemblist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ropriétés algébrique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nsembles X et Y, transformations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X) et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priétés algébriques (définition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priété de croiss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priété d'extensivité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priété d'anti-extensivité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Propriété de continuité ou semi-continuité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priété d'idempot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981080" y="3124080"/>
          <a:ext cx="2595600" cy="2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124080"/>
                    <a:ext cx="259560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1981080" y="3809880"/>
          <a:ext cx="1057320" cy="2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809880"/>
                    <a:ext cx="105732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981080" y="4495680"/>
          <a:ext cx="1127160" cy="26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4495680"/>
                    <a:ext cx="11271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1981080" y="5181480"/>
          <a:ext cx="2519640" cy="26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5181480"/>
                    <a:ext cx="251964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1981080" y="5791320"/>
          <a:ext cx="2303640" cy="264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5791320"/>
                    <a:ext cx="230364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6T08:42:05Z</dcterms:created>
  <dc:creator>COSTER</dc:creator>
  <dc:description/>
  <dc:language>en-US</dc:language>
  <cp:lastModifiedBy>Michel Coster</cp:lastModifiedBy>
  <cp:lastPrinted>1999-11-30T13:57:53Z</cp:lastPrinted>
  <dcterms:modified xsi:type="dcterms:W3CDTF">2001-10-09T07:20:02Z</dcterms:modified>
  <cp:revision>87</cp:revision>
  <dc:subject/>
  <dc:title>Introduction à la morphologie mathématique</dc:title>
</cp:coreProperties>
</file>