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9728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036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8420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9728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036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84200" y="622440"/>
            <a:ext cx="7137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45240" y="6173640"/>
            <a:ext cx="3044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rpho géodésique MC </a:t>
            </a:r>
            <a:fld id="{3BF52B91-1C5C-4185-9DC2-92808EC2E45F}" type="slidenum">
              <a:rPr b="0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3.png"/><Relationship Id="rId20" Type="http://schemas.openxmlformats.org/officeDocument/2006/relationships/image" Target="../media/image6.png"/><Relationship Id="rId21" Type="http://schemas.openxmlformats.org/officeDocument/2006/relationships/image" Target="../media/image5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hodes géodésiques appliquées aux ensem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ons de géodés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opérateurs géodés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ctions distance et de propa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de la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imination d'objets coupant le bord de cha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797120" y="2467080"/>
            <a:ext cx="6346800" cy="3165480"/>
            <a:chOff x="1797120" y="2467080"/>
            <a:chExt cx="6346800" cy="3165480"/>
          </a:xfrm>
        </p:grpSpPr>
        <p:sp>
          <p:nvSpPr>
            <p:cNvPr id="369" name=""/>
            <p:cNvSpPr/>
            <p:nvPr/>
          </p:nvSpPr>
          <p:spPr>
            <a:xfrm>
              <a:off x="4495680" y="3505320"/>
              <a:ext cx="534960" cy="230040"/>
            </a:xfrm>
            <a:custGeom>
              <a:avLst/>
              <a:gdLst/>
              <a:ahLst/>
              <a:rect l="l" t="t" r="r" b="b"/>
              <a:pathLst>
                <a:path w="337" h="145">
                  <a:moveTo>
                    <a:pt x="0" y="144"/>
                  </a:moveTo>
                  <a:lnTo>
                    <a:pt x="96" y="48"/>
                  </a:lnTo>
                  <a:lnTo>
                    <a:pt x="240" y="0"/>
                  </a:lnTo>
                  <a:lnTo>
                    <a:pt x="288" y="48"/>
                  </a:lnTo>
                  <a:lnTo>
                    <a:pt x="336" y="144"/>
                  </a:lnTo>
                  <a:lnTo>
                    <a:pt x="48" y="144"/>
                  </a:lnTo>
                  <a:lnTo>
                    <a:pt x="0" y="14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4600" y="2590920"/>
              <a:ext cx="306360" cy="230040"/>
            </a:xfrm>
            <a:custGeom>
              <a:avLst/>
              <a:gdLst/>
              <a:ahLst/>
              <a:rect l="l" t="t" r="r" b="b"/>
              <a:pathLst>
                <a:path w="193" h="145">
                  <a:moveTo>
                    <a:pt x="0" y="0"/>
                  </a:moveTo>
                  <a:lnTo>
                    <a:pt x="48" y="144"/>
                  </a:lnTo>
                  <a:lnTo>
                    <a:pt x="144" y="144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97120" y="2467080"/>
              <a:ext cx="151128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2467080"/>
              <a:ext cx="151164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21400" y="2467080"/>
              <a:ext cx="151128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41560" y="268128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87480" y="2901960"/>
              <a:ext cx="292320" cy="5968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97120" y="4243320"/>
              <a:ext cx="1511280" cy="13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11240" y="3968640"/>
              <a:ext cx="368280" cy="139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7560" y="390528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79840" y="4038480"/>
              <a:ext cx="279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062160" y="3949560"/>
                  <a:ext cx="268560" cy="1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¶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4249800" y="3987720"/>
              <a:ext cx="368280" cy="139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33560" y="392436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54760" y="4038480"/>
              <a:ext cx="25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19720" y="3905280"/>
              <a:ext cx="350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088040" y="3884760"/>
                  <a:ext cx="10558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6535800" y="3968640"/>
              <a:ext cx="368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64000" y="4807080"/>
              <a:ext cx="368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06520" y="4668840"/>
              <a:ext cx="35402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inclus dans le masque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92480" y="3054240"/>
              <a:ext cx="6336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33720" y="3505320"/>
              <a:ext cx="534960" cy="230040"/>
            </a:xfrm>
            <a:custGeom>
              <a:avLst/>
              <a:gdLst/>
              <a:ahLst/>
              <a:rect l="l" t="t" r="r" b="b"/>
              <a:pathLst>
                <a:path w="337" h="145">
                  <a:moveTo>
                    <a:pt x="0" y="144"/>
                  </a:moveTo>
                  <a:lnTo>
                    <a:pt x="96" y="48"/>
                  </a:lnTo>
                  <a:lnTo>
                    <a:pt x="240" y="0"/>
                  </a:lnTo>
                  <a:lnTo>
                    <a:pt x="288" y="48"/>
                  </a:lnTo>
                  <a:lnTo>
                    <a:pt x="336" y="144"/>
                  </a:lnTo>
                  <a:lnTo>
                    <a:pt x="48" y="144"/>
                  </a:lnTo>
                  <a:lnTo>
                    <a:pt x="0" y="14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2590920"/>
              <a:ext cx="306360" cy="230040"/>
            </a:xfrm>
            <a:custGeom>
              <a:avLst/>
              <a:gdLst/>
              <a:ahLst/>
              <a:rect l="l" t="t" r="r" b="b"/>
              <a:pathLst>
                <a:path w="193" h="145">
                  <a:moveTo>
                    <a:pt x="0" y="0"/>
                  </a:moveTo>
                  <a:lnTo>
                    <a:pt x="48" y="144"/>
                  </a:lnTo>
                  <a:lnTo>
                    <a:pt x="144" y="144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00560" y="2608200"/>
              <a:ext cx="1228680" cy="1108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880" y="268128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49800" y="2901960"/>
              <a:ext cx="292320" cy="5968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3054240"/>
              <a:ext cx="6372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38880" y="2590920"/>
              <a:ext cx="306360" cy="230040"/>
            </a:xfrm>
            <a:custGeom>
              <a:avLst/>
              <a:gdLst/>
              <a:ahLst/>
              <a:rect l="l" t="t" r="r" b="b"/>
              <a:pathLst>
                <a:path w="193" h="145">
                  <a:moveTo>
                    <a:pt x="0" y="0"/>
                  </a:moveTo>
                  <a:lnTo>
                    <a:pt x="48" y="144"/>
                  </a:lnTo>
                  <a:lnTo>
                    <a:pt x="144" y="144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9920" y="2595600"/>
              <a:ext cx="1254240" cy="113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3505320"/>
              <a:ext cx="534960" cy="230040"/>
            </a:xfrm>
            <a:custGeom>
              <a:avLst/>
              <a:gdLst/>
              <a:ahLst/>
              <a:rect l="l" t="t" r="r" b="b"/>
              <a:pathLst>
                <a:path w="337" h="145">
                  <a:moveTo>
                    <a:pt x="0" y="144"/>
                  </a:moveTo>
                  <a:lnTo>
                    <a:pt x="96" y="48"/>
                  </a:lnTo>
                  <a:lnTo>
                    <a:pt x="240" y="0"/>
                  </a:lnTo>
                  <a:lnTo>
                    <a:pt x="288" y="48"/>
                  </a:lnTo>
                  <a:lnTo>
                    <a:pt x="336" y="144"/>
                  </a:lnTo>
                  <a:lnTo>
                    <a:pt x="48" y="144"/>
                  </a:lnTo>
                  <a:lnTo>
                    <a:pt x="0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25640" y="4386240"/>
              <a:ext cx="1254240" cy="113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41560" y="447192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87480" y="4692600"/>
              <a:ext cx="292320" cy="59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92480" y="4844880"/>
              <a:ext cx="63360" cy="14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5640" y="2595600"/>
              <a:ext cx="1254240" cy="113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de la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on d'érodé ul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752480" y="2414520"/>
                <a:ext cx="12337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65600" y="2441520"/>
                <a:ext cx="3390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λ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λ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¥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666800" y="2789280"/>
            <a:ext cx="5462280" cy="3004920"/>
            <a:chOff x="1666800" y="2789280"/>
            <a:chExt cx="5462280" cy="3004920"/>
          </a:xfrm>
        </p:grpSpPr>
        <p:sp>
          <p:nvSpPr>
            <p:cNvPr id="409" name=""/>
            <p:cNvSpPr/>
            <p:nvPr/>
          </p:nvSpPr>
          <p:spPr>
            <a:xfrm>
              <a:off x="1666800" y="3278160"/>
              <a:ext cx="3973680" cy="251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66800" y="3278160"/>
              <a:ext cx="2289240" cy="2287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11520" y="3589200"/>
              <a:ext cx="1668600" cy="1665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94040" y="3605040"/>
              <a:ext cx="1635120" cy="16336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56040" y="3932280"/>
              <a:ext cx="979560" cy="979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0920" y="3932280"/>
              <a:ext cx="981000" cy="979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2920" y="4259160"/>
              <a:ext cx="325440" cy="3254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47800" y="4259160"/>
              <a:ext cx="327240" cy="325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70200" y="4381560"/>
              <a:ext cx="8244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05320" y="438156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1752480" y="2789280"/>
                  <a:ext cx="190512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λ</m:t>
                              </m:r>
                              <m:r>
                                <m:t xml:space="preserve">+</m:t>
                              </m:r>
                              <m:r>
                                <m:t xml:space="preserve">dλ</m:t>
                              </m:r>
                            </m:e>
                          </m:d>
                          <m:r>
                            <m:t xml:space="preserve">B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"/>
            <p:cNvSpPr/>
            <p:nvPr/>
          </p:nvSpPr>
          <p:spPr>
            <a:xfrm>
              <a:off x="6102360" y="3154320"/>
              <a:ext cx="444600" cy="292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91320" y="3164040"/>
              <a:ext cx="350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02360" y="3763800"/>
              <a:ext cx="444600" cy="292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02360" y="4373640"/>
              <a:ext cx="444600" cy="291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02360" y="4983120"/>
              <a:ext cx="444600" cy="29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96000" y="3773520"/>
              <a:ext cx="433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96000" y="4383000"/>
              <a:ext cx="433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96000" y="4992840"/>
              <a:ext cx="433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2360" y="55641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389640" y="5483160"/>
                <a:ext cx="2019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λ</m:t>
                        </m:r>
                      </m:lim>
                    </m:limLow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λ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verture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er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erture re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marqueurs : M = 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'ensemble de référence X =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11440" y="2048040"/>
                <a:ext cx="19130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acc>
                          <m:accPr>
                            <m:chr m:val="˘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645160" y="2511360"/>
                <a:ext cx="2197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¥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916280" y="3421080"/>
            <a:ext cx="4492440" cy="2459160"/>
            <a:chOff x="1916280" y="3421080"/>
            <a:chExt cx="4492440" cy="2459160"/>
          </a:xfrm>
        </p:grpSpPr>
        <p:sp>
          <p:nvSpPr>
            <p:cNvPr id="435" name=""/>
            <p:cNvSpPr/>
            <p:nvPr/>
          </p:nvSpPr>
          <p:spPr>
            <a:xfrm>
              <a:off x="5686560" y="3559320"/>
              <a:ext cx="441360" cy="734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61040" y="4000680"/>
              <a:ext cx="1031760" cy="1029960"/>
            </a:xfrm>
            <a:custGeom>
              <a:avLst/>
              <a:gdLst/>
              <a:ahLst/>
              <a:rect l="l" t="t" r="r" b="b"/>
              <a:pathLst>
                <a:path w="2598" h="2597">
                  <a:moveTo>
                    <a:pt x="0" y="0"/>
                  </a:moveTo>
                  <a:lnTo>
                    <a:pt x="0" y="372"/>
                  </a:lnTo>
                  <a:lnTo>
                    <a:pt x="742" y="372"/>
                  </a:lnTo>
                  <a:lnTo>
                    <a:pt x="742" y="1484"/>
                  </a:lnTo>
                  <a:lnTo>
                    <a:pt x="1114" y="1484"/>
                  </a:lnTo>
                  <a:lnTo>
                    <a:pt x="1114" y="2597"/>
                  </a:lnTo>
                  <a:lnTo>
                    <a:pt x="1484" y="2597"/>
                  </a:lnTo>
                  <a:lnTo>
                    <a:pt x="1484" y="1484"/>
                  </a:lnTo>
                  <a:lnTo>
                    <a:pt x="1856" y="1484"/>
                  </a:lnTo>
                  <a:lnTo>
                    <a:pt x="1856" y="372"/>
                  </a:lnTo>
                  <a:lnTo>
                    <a:pt x="2598" y="372"/>
                  </a:lnTo>
                  <a:lnTo>
                    <a:pt x="259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78320" y="3559320"/>
              <a:ext cx="441360" cy="7347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8000" y="4000680"/>
              <a:ext cx="441360" cy="588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448000" y="4148280"/>
              <a:ext cx="144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152800" y="4148280"/>
              <a:ext cx="2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52800" y="4000680"/>
              <a:ext cx="1440" cy="14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52800" y="4000680"/>
              <a:ext cx="73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89360" y="4000680"/>
              <a:ext cx="293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82760" y="4000680"/>
              <a:ext cx="1800" cy="14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89000" y="4148280"/>
              <a:ext cx="293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9360" y="4148280"/>
              <a:ext cx="144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741760" y="4589640"/>
              <a:ext cx="14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1760" y="4589640"/>
              <a:ext cx="14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593440" y="5030640"/>
              <a:ext cx="147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593800" y="4589280"/>
              <a:ext cx="180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447640" y="4589640"/>
              <a:ext cx="14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0400" y="355932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0400" y="3705120"/>
              <a:ext cx="588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889360" y="355896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300400" y="3559320"/>
              <a:ext cx="58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78320" y="37051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78320" y="4294080"/>
              <a:ext cx="44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625920" y="3559320"/>
              <a:ext cx="293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478320" y="3559320"/>
              <a:ext cx="14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320" y="355932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656240" y="4148280"/>
              <a:ext cx="144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361040" y="4148280"/>
              <a:ext cx="2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4361040" y="4000680"/>
              <a:ext cx="1440" cy="14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61040" y="4000680"/>
              <a:ext cx="73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97600" y="4000680"/>
              <a:ext cx="2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92800" y="4000680"/>
              <a:ext cx="1440" cy="14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097600" y="4148280"/>
              <a:ext cx="2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97600" y="4148280"/>
              <a:ext cx="144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4950000" y="4589640"/>
              <a:ext cx="14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0000" y="4589640"/>
              <a:ext cx="14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801680" y="5030640"/>
              <a:ext cx="147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802040" y="4589280"/>
              <a:ext cx="180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655880" y="4589640"/>
              <a:ext cx="14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08640" y="355932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08640" y="3705120"/>
              <a:ext cx="588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097600" y="355896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508640" y="3559320"/>
              <a:ext cx="58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86560" y="37051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86560" y="4294080"/>
              <a:ext cx="44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127920" y="3558960"/>
              <a:ext cx="14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834160" y="3559320"/>
              <a:ext cx="293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686560" y="3559320"/>
              <a:ext cx="14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86560" y="355932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93800" y="4148280"/>
              <a:ext cx="147960" cy="29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25920" y="3705120"/>
              <a:ext cx="146160" cy="4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34160" y="5178600"/>
              <a:ext cx="293760" cy="29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52800" y="5326200"/>
              <a:ext cx="588960" cy="14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36960" y="5326200"/>
              <a:ext cx="588960" cy="1458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19680" y="5326200"/>
              <a:ext cx="588960" cy="14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03840" y="5326200"/>
              <a:ext cx="58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92800" y="532620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803840" y="5472000"/>
              <a:ext cx="588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803840" y="5325840"/>
              <a:ext cx="14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25440" y="5533920"/>
              <a:ext cx="4109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6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Y)     O</a:t>
              </a:r>
              <a:r>
                <a:rPr b="1" lang="fr-FR" sz="16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Y)      E</a:t>
              </a:r>
              <a:r>
                <a:rPr b="1" lang="fr-FR" sz="16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Y)          Y            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68800" y="3421080"/>
              <a:ext cx="2235240" cy="17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20960" y="3421080"/>
              <a:ext cx="2235240" cy="17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16280" y="5164200"/>
              <a:ext cx="4492440" cy="71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360" y="355284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s de propagation et de d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agation euclidien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410840" y="3191400"/>
            <a:ext cx="5884200" cy="4822920"/>
            <a:chOff x="1410840" y="3191400"/>
            <a:chExt cx="5884200" cy="4822920"/>
          </a:xfrm>
        </p:grpSpPr>
        <p:sp>
          <p:nvSpPr>
            <p:cNvPr id="502" name=""/>
            <p:cNvSpPr/>
            <p:nvPr/>
          </p:nvSpPr>
          <p:spPr>
            <a:xfrm>
              <a:off x="1817640" y="3191040"/>
              <a:ext cx="3060720" cy="260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3160" y="4622760"/>
              <a:ext cx="82440" cy="82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95600" y="4213080"/>
              <a:ext cx="82800" cy="82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71760" y="4091400"/>
              <a:ext cx="65700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08320" y="3927960"/>
              <a:ext cx="131040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44880" y="3764160"/>
              <a:ext cx="196452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81440" y="3600720"/>
              <a:ext cx="261900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39760" y="2759040"/>
              <a:ext cx="4629240" cy="46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71760" y="3191400"/>
              <a:ext cx="425700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68360" y="503244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08320" y="5072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09160" y="4772520"/>
              <a:ext cx="928080" cy="92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noFill/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08320" y="5072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09640" y="4473720"/>
              <a:ext cx="1854720" cy="18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noFill/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08320" y="5072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0840" y="4174560"/>
              <a:ext cx="2779200" cy="27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noFill/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37000" y="425448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40960" y="2460240"/>
              <a:ext cx="5554080" cy="55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0160" y="3863880"/>
              <a:ext cx="323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39840" y="4197240"/>
              <a:ext cx="3682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91880" y="5388120"/>
              <a:ext cx="4057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355480" y="5099040"/>
              <a:ext cx="54612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53840" y="5029200"/>
              <a:ext cx="4057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3504960" y="4267080"/>
              <a:ext cx="85068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49840" y="2637000"/>
                <a:ext cx="826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i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181480" y="2465280"/>
                <a:ext cx="32004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5181480" y="2922480"/>
                <a:ext cx="24386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4959360" y="2368440"/>
            <a:ext cx="34923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83280" y="3735360"/>
            <a:ext cx="3197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supposant des ondes émises simultanément en chaque point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sans interférence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inf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le premier passage d'une l'onde pa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su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e dernier pa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s de propagation et de d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 géodés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013360" y="2449440"/>
                <a:ext cx="33274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¶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013360" y="2906640"/>
                <a:ext cx="26798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2549520" y="2397240"/>
            <a:ext cx="5902200" cy="10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509480" y="3295800"/>
            <a:ext cx="6264360" cy="2573280"/>
            <a:chOff x="1509480" y="3295800"/>
            <a:chExt cx="6264360" cy="257328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1868400" y="4923000"/>
                  <a:ext cx="82728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limLow>
                        <m:e/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4" name=""/>
            <p:cNvSpPr/>
            <p:nvPr/>
          </p:nvSpPr>
          <p:spPr>
            <a:xfrm>
              <a:off x="1638360" y="3657600"/>
              <a:ext cx="2440080" cy="2211480"/>
            </a:xfrm>
            <a:custGeom>
              <a:avLst/>
              <a:gdLst/>
              <a:ahLst/>
              <a:rect l="l" t="t" r="r" b="b"/>
              <a:pathLst>
                <a:path w="1537" h="1393">
                  <a:moveTo>
                    <a:pt x="0" y="56"/>
                  </a:moveTo>
                  <a:lnTo>
                    <a:pt x="0" y="612"/>
                  </a:lnTo>
                  <a:lnTo>
                    <a:pt x="799" y="612"/>
                  </a:lnTo>
                  <a:lnTo>
                    <a:pt x="799" y="1096"/>
                  </a:lnTo>
                  <a:lnTo>
                    <a:pt x="799" y="1392"/>
                  </a:lnTo>
                  <a:lnTo>
                    <a:pt x="1536" y="1392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0" y="5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38280" y="51516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09480" y="32958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66880" y="3700440"/>
              <a:ext cx="4863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6520" y="3657600"/>
              <a:ext cx="1601640" cy="1677960"/>
            </a:xfrm>
            <a:custGeom>
              <a:avLst/>
              <a:gdLst/>
              <a:ahLst/>
              <a:rect l="l" t="t" r="r" b="b"/>
              <a:pathLst>
                <a:path w="1009" h="1057">
                  <a:moveTo>
                    <a:pt x="0" y="0"/>
                  </a:moveTo>
                  <a:lnTo>
                    <a:pt x="816" y="624"/>
                  </a:lnTo>
                  <a:lnTo>
                    <a:pt x="1008" y="105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6880" y="5240160"/>
              <a:ext cx="13968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06680" y="3587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3657600"/>
              <a:ext cx="2439720" cy="2211480"/>
            </a:xfrm>
            <a:custGeom>
              <a:avLst/>
              <a:gdLst/>
              <a:ahLst/>
              <a:rect l="l" t="t" r="r" b="b"/>
              <a:pathLst>
                <a:path w="1537" h="1393">
                  <a:moveTo>
                    <a:pt x="0" y="56"/>
                  </a:moveTo>
                  <a:lnTo>
                    <a:pt x="0" y="612"/>
                  </a:lnTo>
                  <a:lnTo>
                    <a:pt x="799" y="612"/>
                  </a:lnTo>
                  <a:lnTo>
                    <a:pt x="799" y="1096"/>
                  </a:lnTo>
                  <a:lnTo>
                    <a:pt x="799" y="1392"/>
                  </a:lnTo>
                  <a:lnTo>
                    <a:pt x="1536" y="1392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0" y="5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24480" y="3700440"/>
              <a:ext cx="4863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8760" y="5172120"/>
              <a:ext cx="48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93080" y="50878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31120" y="50878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5392800" y="4970520"/>
                  <a:ext cx="8269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¶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limLow>
                        <m:e/>
                        <m:lim>
                          <m:r>
                            <m:t xml:space="preserve">j</m:t>
                          </m:r>
                        </m:lim>
                      </m:limLow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7" name=""/>
            <p:cNvSpPr/>
            <p:nvPr/>
          </p:nvSpPr>
          <p:spPr>
            <a:xfrm>
              <a:off x="6291360" y="501012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15120" y="500868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799360" y="2495520"/>
            <a:ext cx="1856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95320" y="2895480"/>
            <a:ext cx="2203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propa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 de fonctions distance et propagation géodés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638360" y="2290680"/>
          <a:ext cx="264312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290680"/>
                    <a:ext cx="26431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1638360" y="4057560"/>
          <a:ext cx="261468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8360" y="4057560"/>
                    <a:ext cx="26146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5524560" y="4052880"/>
          <a:ext cx="2663640" cy="16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4560" y="4052880"/>
                    <a:ext cx="266364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5545080" y="2382840"/>
          <a:ext cx="2673360" cy="15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5080" y="2382840"/>
                    <a:ext cx="267336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1941480" y="5718240"/>
            <a:ext cx="19126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92120" y="5718240"/>
            <a:ext cx="3441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propagation géodé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ètres relatifs aux fonctions distance et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ction d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ximum de la fonction d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à l'épaisseur de l'objet, c'est également la taille de l'érodé ultime correspondant au disque inscrit le plus gr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que ensemble de points correspondant aux "centres" des parties conve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ction propa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ximum de la fonction propa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à la longueur géodésique de l'objet, les positions correspondent aux "extrémité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imum de la fonction de propa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au rayon géodésique et la position au centre géodé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 de distance géodés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principal : ligne géodésique et mesure de distance associ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44560" y="2259000"/>
            <a:ext cx="6721560" cy="3700440"/>
            <a:chOff x="1744560" y="2259000"/>
            <a:chExt cx="6721560" cy="3700440"/>
          </a:xfrm>
        </p:grpSpPr>
        <p:sp>
          <p:nvSpPr>
            <p:cNvPr id="44" name=""/>
            <p:cNvSpPr/>
            <p:nvPr/>
          </p:nvSpPr>
          <p:spPr>
            <a:xfrm>
              <a:off x="2133720" y="2695680"/>
              <a:ext cx="2790720" cy="952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66960" y="2943360"/>
              <a:ext cx="1143000" cy="2047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47960" y="3533760"/>
              <a:ext cx="428760" cy="371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19320" y="3648240"/>
              <a:ext cx="505080" cy="59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86200" y="3619440"/>
              <a:ext cx="77436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9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91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63880" y="3807000"/>
              <a:ext cx="39600" cy="1681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54400" y="3583080"/>
              <a:ext cx="130320" cy="39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477880" y="3817800"/>
              <a:ext cx="549000" cy="83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255840" y="3454200"/>
              <a:ext cx="98928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508120" y="3459240"/>
              <a:ext cx="1727280" cy="1211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12960" y="3151080"/>
              <a:ext cx="151776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7240" y="3440160"/>
              <a:ext cx="7308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508120" y="3121200"/>
              <a:ext cx="179640" cy="15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3200" y="4616280"/>
              <a:ext cx="7308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4000" y="3106800"/>
              <a:ext cx="727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7760" y="4005360"/>
              <a:ext cx="747720" cy="7380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21200" y="4168800"/>
              <a:ext cx="7308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44560" y="5092560"/>
              <a:ext cx="292320" cy="2923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9320" y="5100480"/>
              <a:ext cx="384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10320" y="448452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39000" y="312732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2000" y="279864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96440" y="419904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9760" y="5057640"/>
              <a:ext cx="67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0160" y="4876920"/>
              <a:ext cx="197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 géodésique /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79760" y="5391000"/>
              <a:ext cx="674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5640" y="5234040"/>
              <a:ext cx="194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gment euclid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95760" y="2400480"/>
              <a:ext cx="294336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5960" y="2259000"/>
              <a:ext cx="3440160" cy="200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 arc géodesique doit être inclus dans l'ensemble de réfé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l correspond au plus petit parcou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 mesure de sa longueur définit la distance géodésiq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priétés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418000" y="4257720"/>
                  <a:ext cx="296244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5120" y="5214960"/>
                  <a:ext cx="13539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d>
                      <m:r>
                        <m:rPr>
                          <m:lit/>
                          <m:nor/>
                        </m:rPr>
                        <m:t xml:space="preserve">=¥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5402160" y="5610240"/>
                  <a:ext cx="269424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 rSub { size 8{1} } 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rSub { size 8{2} } d left (x rSub { size 8{1} } 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rSub { size 8{2} }  right ) &lt;= d rSub { size 8{X} }  left (x rSub { size 8{1} } 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rSub { size 8{2} }  right )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4136040" y="5651640"/>
              <a:ext cx="1182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priété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02160" y="4278240"/>
              <a:ext cx="3016440" cy="81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d'un point à un ensem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euclidien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géodés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63640" y="2284560"/>
            <a:ext cx="6562800" cy="3671640"/>
            <a:chOff x="1763640" y="2284560"/>
            <a:chExt cx="6562800" cy="3671640"/>
          </a:xfrm>
        </p:grpSpPr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763640" y="2452680"/>
                  <a:ext cx="26622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in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</m:e>
                          </m:d>
                          <m:r>
                            <m:t xml:space="preserve">:</m:t>
                          </m:r>
                          <m:r>
                            <m:t xml:space="preserve">yÎ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763640" y="3362400"/>
                  <a:ext cx="293364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in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</m:e>
                          </m:d>
                          <m:r>
                            <m:t xml:space="preserve">:</m:t>
                          </m:r>
                          <m:r>
                            <m:t xml:space="preserve">yÎ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1768320" y="3787920"/>
              <a:ext cx="3097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r que cette relation soit calculable, il faut 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e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oient des fermés topolog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82800" y="4572000"/>
                  <a:ext cx="170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Î</m:t>
                      </m:r>
                      <m:r>
                        <m:t xml:space="preserve">¶</m:t>
                      </m:r>
                      <m:r>
                        <m:t xml:space="preserve">Y</m:t>
                      </m:r>
                      <m:r>
                        <m:t xml:space="preserve">⇒</m:t>
                      </m:r>
                      <m:r>
                        <m:t xml:space="preserve">yÎ</m:t>
                      </m:r>
                      <m:r>
                        <m:t xml:space="preserve">¶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5037120" y="2284560"/>
              <a:ext cx="3289320" cy="347472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59360" y="3621240"/>
              <a:ext cx="1373400" cy="107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861160" y="3021120"/>
              <a:ext cx="1822320" cy="60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575320" y="3025440"/>
              <a:ext cx="2108160" cy="2330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580000" y="3602160"/>
              <a:ext cx="260280" cy="175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30680" y="5321160"/>
              <a:ext cx="7308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53360" y="2700360"/>
              <a:ext cx="671400" cy="6714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2880" y="2540160"/>
              <a:ext cx="1492200" cy="6159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5880" y="4950000"/>
              <a:ext cx="1415880" cy="41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39040" y="3648240"/>
              <a:ext cx="677880" cy="830160"/>
            </a:xfrm>
            <a:custGeom>
              <a:avLst/>
              <a:gdLst/>
              <a:ahLst/>
              <a:rect l="l" t="t" r="r" b="b"/>
              <a:pathLst>
                <a:path w="427" h="523">
                  <a:moveTo>
                    <a:pt x="0" y="456"/>
                  </a:moveTo>
                  <a:lnTo>
                    <a:pt x="240" y="0"/>
                  </a:lnTo>
                  <a:lnTo>
                    <a:pt x="426" y="522"/>
                  </a:lnTo>
                  <a:lnTo>
                    <a:pt x="0" y="4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05320" y="3333600"/>
              <a:ext cx="601920" cy="878040"/>
            </a:xfrm>
            <a:custGeom>
              <a:avLst/>
              <a:gdLst/>
              <a:ahLst/>
              <a:rect l="l" t="t" r="r" b="b"/>
              <a:pathLst>
                <a:path w="379" h="553">
                  <a:moveTo>
                    <a:pt x="0" y="0"/>
                  </a:moveTo>
                  <a:lnTo>
                    <a:pt x="60" y="552"/>
                  </a:lnTo>
                  <a:lnTo>
                    <a:pt x="378" y="4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1080" y="5178600"/>
              <a:ext cx="515880" cy="4158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02360" y="4406760"/>
              <a:ext cx="187200" cy="1230480"/>
            </a:xfrm>
            <a:custGeom>
              <a:avLst/>
              <a:gdLst>
                <a:gd name="textAreaLeft" fmla="*/ 6840 w 187200"/>
                <a:gd name="textAreaRight" fmla="*/ 180360 w 187200"/>
                <a:gd name="textAreaTop" fmla="*/ 6840 h 1230480"/>
                <a:gd name="textAreaBottom" fmla="*/ 1223640 h 1230480"/>
              </a:gdLst>
              <a:ahLst/>
              <a:rect l="textAreaLeft" t="textAreaTop" r="textAreaRight" b="textAreaBottom"/>
              <a:pathLst>
                <a:path w="21600" h="141747">
                  <a:moveTo>
                    <a:pt x="2699" y="0"/>
                  </a:moveTo>
                  <a:arcTo wR="2699" hR="2699" stAng="16200000" swAng="-5400000"/>
                  <a:lnTo>
                    <a:pt x="0" y="139048"/>
                  </a:lnTo>
                  <a:arcTo wR="2699" hR="2699" stAng="10800000" swAng="-5400000"/>
                  <a:lnTo>
                    <a:pt x="18901" y="14174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1240" y="2824200"/>
              <a:ext cx="384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19440" y="5362560"/>
              <a:ext cx="32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01760" y="4978440"/>
              <a:ext cx="58752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8240" y="5457960"/>
              <a:ext cx="56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8240" y="5796000"/>
              <a:ext cx="560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25360" y="494820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34720" y="5291280"/>
              <a:ext cx="821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x,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26800" y="5648400"/>
              <a:ext cx="743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(x,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tions morphologiques et géodés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on de boule géodés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le euclidienne de taill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le géodésique de taill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58840" y="2709720"/>
            <a:ext cx="6073920" cy="2899080"/>
            <a:chOff x="2058840" y="2709720"/>
            <a:chExt cx="6073920" cy="289908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2178000" y="2709720"/>
                  <a:ext cx="234468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λ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:</m:t>
                          </m:r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</m:e>
                          </m:d>
                          <m:r>
                            <m:t xml:space="preserve">&lt;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2178000" y="3409920"/>
                  <a:ext cx="26370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λ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: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</m:e>
                          </m:d>
                          <m:r>
                            <m:t xml:space="preserve">&lt;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5716440" y="2763720"/>
              <a:ext cx="2416320" cy="2845080"/>
            </a:xfrm>
            <a:custGeom>
              <a:avLst/>
              <a:gdLst>
                <a:gd name="textAreaLeft" fmla="*/ 88200 w 2416320"/>
                <a:gd name="textAreaRight" fmla="*/ 2328120 w 2416320"/>
                <a:gd name="textAreaTop" fmla="*/ 88200 h 2845080"/>
                <a:gd name="textAreaBottom" fmla="*/ 2756880 h 2845080"/>
              </a:gdLst>
              <a:ahLst/>
              <a:rect l="textAreaLeft" t="textAreaTop" r="textAreaRight" b="textAreaBottom"/>
              <a:pathLst>
                <a:path w="21600" h="25432">
                  <a:moveTo>
                    <a:pt x="2699" y="0"/>
                  </a:moveTo>
                  <a:arcTo wR="2699" hR="2699" stAng="16200000" swAng="-5400000"/>
                  <a:lnTo>
                    <a:pt x="0" y="22733"/>
                  </a:lnTo>
                  <a:arcTo wR="2699" hR="2699" stAng="10800000" swAng="-5400000"/>
                  <a:lnTo>
                    <a:pt x="18901" y="2543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0760" y="3406680"/>
              <a:ext cx="801720" cy="801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2040" y="4692600"/>
              <a:ext cx="801720" cy="801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97720" y="3292560"/>
              <a:ext cx="1006560" cy="18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6880" y="3413160"/>
              <a:ext cx="789120" cy="78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8840" y="4240080"/>
              <a:ext cx="801720" cy="801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85480" y="4491000"/>
              <a:ext cx="819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x,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5560" y="4246560"/>
              <a:ext cx="788760" cy="78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01560" y="4500720"/>
              <a:ext cx="742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(x,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4699080"/>
              <a:ext cx="788760" cy="78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77200" y="2824200"/>
              <a:ext cx="417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378612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7960" y="50673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82720" y="3648240"/>
              <a:ext cx="359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97200" y="5033880"/>
              <a:ext cx="359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latation géodés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que en remplaçant B(x,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ar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,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74960" y="2787480"/>
                <a:ext cx="32335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λ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Î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Ý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1601640" y="3206880"/>
            <a:ext cx="4430880" cy="2525760"/>
            <a:chOff x="1601640" y="3206880"/>
            <a:chExt cx="4430880" cy="2525760"/>
          </a:xfrm>
        </p:grpSpPr>
        <p:sp>
          <p:nvSpPr>
            <p:cNvPr id="130" name=""/>
            <p:cNvSpPr/>
            <p:nvPr/>
          </p:nvSpPr>
          <p:spPr>
            <a:xfrm>
              <a:off x="2124000" y="3367080"/>
              <a:ext cx="979560" cy="146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03560" y="3693960"/>
              <a:ext cx="1305000" cy="814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508640"/>
              <a:ext cx="979560" cy="814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51240" y="4183200"/>
              <a:ext cx="4888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019400"/>
              <a:ext cx="81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3367080"/>
              <a:ext cx="325440" cy="326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7440" y="4019400"/>
              <a:ext cx="163800" cy="814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1240" y="4019400"/>
              <a:ext cx="652320" cy="163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40120" y="4183200"/>
              <a:ext cx="163440" cy="650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67000" y="3855960"/>
              <a:ext cx="162000" cy="652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855960"/>
              <a:ext cx="979560" cy="163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45120" y="4019400"/>
              <a:ext cx="163440" cy="489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4344840"/>
              <a:ext cx="816120" cy="163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24000" y="3367080"/>
              <a:ext cx="1800" cy="1467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24000" y="4834080"/>
              <a:ext cx="979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03560" y="4508640"/>
              <a:ext cx="1440" cy="325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560" y="4508640"/>
              <a:ext cx="325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4508640"/>
              <a:ext cx="1440" cy="81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322960"/>
              <a:ext cx="979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08560" y="3693600"/>
              <a:ext cx="1440" cy="1629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103200" y="3693960"/>
              <a:ext cx="13050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03560" y="3367080"/>
              <a:ext cx="1440" cy="32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23640" y="3367080"/>
              <a:ext cx="979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4019400"/>
              <a:ext cx="325440" cy="1638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508640"/>
              <a:ext cx="325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4997520"/>
              <a:ext cx="325440" cy="163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0" y="5160960"/>
              <a:ext cx="32544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4680" y="4344840"/>
              <a:ext cx="162000" cy="163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3000" y="3286080"/>
              <a:ext cx="310068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3680" y="3286080"/>
              <a:ext cx="1440" cy="24447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042640" y="5730840"/>
              <a:ext cx="310068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043000" y="3285720"/>
              <a:ext cx="1800" cy="24447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2720" y="3360600"/>
              <a:ext cx="32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2360" y="397512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2360" y="447516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992840" y="5005440"/>
                  <a:ext cx="98244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λB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1601640" y="3206880"/>
              <a:ext cx="4430880" cy="244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rosion géodés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776240" y="2430360"/>
                <a:ext cx="3324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λ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Î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Ì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811840" y="2116080"/>
            <a:ext cx="2625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alité érosion et dilatation géodé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851440" y="2776680"/>
                <a:ext cx="2567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λ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λB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983200" y="3559320"/>
            <a:ext cx="2382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marq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X est invariant avec les érosions et les dilatations géodésiques par rapport à lui mê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37200" y="4576680"/>
                <a:ext cx="23385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λ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λB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1600200" y="2892600"/>
            <a:ext cx="4103640" cy="2622240"/>
            <a:chOff x="1600200" y="2892600"/>
            <a:chExt cx="4103640" cy="2622240"/>
          </a:xfrm>
        </p:grpSpPr>
        <p:sp>
          <p:nvSpPr>
            <p:cNvPr id="175" name=""/>
            <p:cNvSpPr/>
            <p:nvPr/>
          </p:nvSpPr>
          <p:spPr>
            <a:xfrm>
              <a:off x="1844640" y="3313080"/>
              <a:ext cx="979560" cy="146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08080" y="3313080"/>
              <a:ext cx="1793880" cy="652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49640" y="3965400"/>
              <a:ext cx="652320" cy="325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71880" y="4780080"/>
              <a:ext cx="1630080" cy="488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4640" y="3313080"/>
              <a:ext cx="816120" cy="652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1880" y="4127400"/>
              <a:ext cx="488880" cy="488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24200" y="3476520"/>
              <a:ext cx="977760" cy="488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9640" y="3638520"/>
              <a:ext cx="326880" cy="163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44640" y="3313080"/>
              <a:ext cx="65232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33520" y="4290840"/>
              <a:ext cx="163440" cy="16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0760" y="3476520"/>
              <a:ext cx="163440" cy="488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96960" y="3638520"/>
              <a:ext cx="4892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4640" y="3313080"/>
              <a:ext cx="1800" cy="1467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44640" y="4780080"/>
              <a:ext cx="3272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1880" y="4780080"/>
              <a:ext cx="1440" cy="488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1880" y="5268960"/>
              <a:ext cx="1630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01960" y="4780080"/>
              <a:ext cx="1800" cy="488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824200" y="4780080"/>
              <a:ext cx="977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4200" y="3965400"/>
              <a:ext cx="325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49640" y="3965400"/>
              <a:ext cx="1440" cy="325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49640" y="4290840"/>
              <a:ext cx="65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844280" y="3313080"/>
              <a:ext cx="1957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92640" y="3149640"/>
              <a:ext cx="325440" cy="3268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92640" y="3801960"/>
              <a:ext cx="325440" cy="163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2640" y="4290840"/>
              <a:ext cx="325440" cy="1638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92640" y="4454640"/>
              <a:ext cx="325440" cy="1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2640" y="4943520"/>
              <a:ext cx="32544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3068640"/>
              <a:ext cx="310032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00520" y="3068640"/>
              <a:ext cx="1800" cy="24447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600200" y="5513400"/>
              <a:ext cx="310032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600200" y="3068280"/>
              <a:ext cx="1440" cy="24447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9960" y="3638520"/>
              <a:ext cx="16200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1960" y="3313080"/>
              <a:ext cx="1800" cy="977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5600" y="3117960"/>
              <a:ext cx="32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65240" y="371808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65240" y="424656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4792680" y="4819680"/>
                  <a:ext cx="8636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Eg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λB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1687680" y="2892600"/>
              <a:ext cx="4016160" cy="255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39625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lette par zone d'influence géodés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 d'infl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Z géodé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95680" y="2413080"/>
            <a:ext cx="3913920" cy="433440"/>
            <a:chOff x="3595680" y="2413080"/>
            <a:chExt cx="3913920" cy="43344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95680" y="2413080"/>
                  <a:ext cx="8398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limLow>
                        <m:e/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4568400" y="2413080"/>
              <a:ext cx="2941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800" spc="-1" strike="noStrike" baseline="-25000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= composante conn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60720" y="2984400"/>
                <a:ext cx="4191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Î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Î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0" name=""/>
          <p:cNvGrpSpPr/>
          <p:nvPr/>
        </p:nvGrpSpPr>
        <p:grpSpPr>
          <a:xfrm>
            <a:off x="1758960" y="3457440"/>
            <a:ext cx="6170760" cy="2517840"/>
            <a:chOff x="1758960" y="3457440"/>
            <a:chExt cx="6170760" cy="2517840"/>
          </a:xfrm>
        </p:grpSpPr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2128680" y="3886200"/>
                  <a:ext cx="18385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zg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limLow>
                                <m:e/>
                                <m:lim>
                                  <m:r>
                                    <m:t xml:space="preserve">i</m:t>
                                  </m:r>
                                </m:lim>
                              </m:limLow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C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1758960" y="4807080"/>
              <a:ext cx="216000" cy="215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43000" y="4778280"/>
              <a:ext cx="350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8960" y="5264280"/>
              <a:ext cx="21600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6480" y="5235480"/>
              <a:ext cx="350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22560" y="495288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65800" y="4778280"/>
              <a:ext cx="81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z(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009960" y="541008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61480" y="5235480"/>
              <a:ext cx="1072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zg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(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524640" y="3458880"/>
              <a:ext cx="144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62720" y="4267080"/>
              <a:ext cx="1962000" cy="654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1520" y="3459240"/>
              <a:ext cx="652680" cy="815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2720" y="4929120"/>
              <a:ext cx="635040" cy="817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5256360"/>
              <a:ext cx="326880" cy="3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320" y="3622680"/>
              <a:ext cx="326880" cy="3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43640" y="3459240"/>
              <a:ext cx="654120" cy="652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07080" y="3622680"/>
              <a:ext cx="326880" cy="3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052960" y="4602240"/>
              <a:ext cx="147168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4640" y="4602240"/>
              <a:ext cx="1143000" cy="1144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24640" y="4275000"/>
              <a:ext cx="1440" cy="65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52960" y="3457440"/>
              <a:ext cx="2876760" cy="2517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hode de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 la dilatation géodésique infin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: Ensemble de réfé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: Marqu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: Ensemble reconstru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140440" y="2651040"/>
                <a:ext cx="1303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¥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701720" y="3276720"/>
            <a:ext cx="2692440" cy="2517480"/>
            <a:chOff x="1701720" y="3276720"/>
            <a:chExt cx="2692440" cy="2517480"/>
          </a:xfrm>
        </p:grpSpPr>
        <p:sp>
          <p:nvSpPr>
            <p:cNvPr id="246" name=""/>
            <p:cNvSpPr/>
            <p:nvPr/>
          </p:nvSpPr>
          <p:spPr>
            <a:xfrm>
              <a:off x="1701720" y="3276720"/>
              <a:ext cx="2692440" cy="251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03520" y="4094280"/>
              <a:ext cx="490320" cy="1440"/>
            </a:xfrm>
            <a:prstGeom prst="line">
              <a:avLst/>
            </a:prstGeom>
            <a:ln w="27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5840" y="4911840"/>
              <a:ext cx="490680" cy="490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30400" y="4094280"/>
              <a:ext cx="163440" cy="32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66960" y="4421160"/>
              <a:ext cx="326880" cy="163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03520" y="4094280"/>
              <a:ext cx="163440" cy="490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3520" y="3278160"/>
              <a:ext cx="1440" cy="1306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3520" y="4584600"/>
              <a:ext cx="8157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193840" y="4094280"/>
              <a:ext cx="3254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193840" y="3768840"/>
              <a:ext cx="1800" cy="325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030400" y="3768840"/>
              <a:ext cx="1634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030400" y="3277800"/>
              <a:ext cx="1440" cy="490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703520" y="3278160"/>
              <a:ext cx="3268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82720" y="3441600"/>
              <a:ext cx="1800" cy="652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82720" y="4094280"/>
              <a:ext cx="4906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73400" y="4094280"/>
              <a:ext cx="1440" cy="326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3400" y="4421160"/>
              <a:ext cx="817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990960" y="3441240"/>
              <a:ext cx="1440" cy="979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82720" y="3441600"/>
              <a:ext cx="13082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66960" y="4911840"/>
              <a:ext cx="1440" cy="490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6960" y="5402160"/>
              <a:ext cx="8157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82720" y="5402160"/>
              <a:ext cx="1800" cy="163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82720" y="5565600"/>
              <a:ext cx="490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173400" y="4911840"/>
              <a:ext cx="1440" cy="653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866600" y="4911840"/>
              <a:ext cx="13064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66960" y="4257720"/>
              <a:ext cx="163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9280" y="5075280"/>
              <a:ext cx="163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66960" y="4094280"/>
              <a:ext cx="163440" cy="163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03520" y="3930480"/>
              <a:ext cx="490320" cy="163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93840" y="4094280"/>
              <a:ext cx="162000" cy="490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93840" y="4911840"/>
              <a:ext cx="162000" cy="490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82720" y="5402160"/>
              <a:ext cx="327240" cy="163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6520" y="4911840"/>
              <a:ext cx="163440" cy="490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03520" y="3768840"/>
              <a:ext cx="490320" cy="161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5840" y="4094280"/>
              <a:ext cx="163440" cy="4903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9960" y="4911840"/>
              <a:ext cx="163440" cy="6537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0400" y="4911840"/>
              <a:ext cx="163440" cy="490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03520" y="3605040"/>
              <a:ext cx="326880" cy="1638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66960" y="4911840"/>
              <a:ext cx="163440" cy="4903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3520" y="3441600"/>
              <a:ext cx="326880" cy="163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03520" y="3278160"/>
              <a:ext cx="326880" cy="1634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03520" y="3278160"/>
              <a:ext cx="3268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30400" y="3278160"/>
              <a:ext cx="1440" cy="490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30400" y="3768840"/>
              <a:ext cx="163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93840" y="3768840"/>
              <a:ext cx="1800" cy="325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93840" y="4094280"/>
              <a:ext cx="325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4600" y="4114800"/>
              <a:ext cx="1440" cy="490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703520" y="4584600"/>
              <a:ext cx="815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703520" y="3277800"/>
              <a:ext cx="1440" cy="1306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66960" y="4911840"/>
              <a:ext cx="1440" cy="490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66960" y="5402160"/>
              <a:ext cx="815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82720" y="5402160"/>
              <a:ext cx="1800" cy="163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82720" y="5565600"/>
              <a:ext cx="490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173400" y="4911840"/>
              <a:ext cx="1440" cy="65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66600" y="4911840"/>
              <a:ext cx="1306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2720" y="3441600"/>
              <a:ext cx="1800" cy="652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82720" y="4094280"/>
              <a:ext cx="4906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73400" y="4094280"/>
              <a:ext cx="1440" cy="326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73400" y="4421160"/>
              <a:ext cx="8175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990960" y="3441240"/>
              <a:ext cx="1440" cy="979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682720" y="3441600"/>
              <a:ext cx="13082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7520" y="4911840"/>
              <a:ext cx="32688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602400" y="3035160"/>
            <a:ext cx="1787400" cy="291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697280" y="3081240"/>
            <a:ext cx="3668760" cy="2702880"/>
            <a:chOff x="4697280" y="3081240"/>
            <a:chExt cx="3668760" cy="2702880"/>
          </a:xfrm>
        </p:grpSpPr>
        <p:sp>
          <p:nvSpPr>
            <p:cNvPr id="310" name=""/>
            <p:cNvSpPr/>
            <p:nvPr/>
          </p:nvSpPr>
          <p:spPr>
            <a:xfrm>
              <a:off x="5122800" y="3137040"/>
              <a:ext cx="4888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11680" y="3137040"/>
              <a:ext cx="1800" cy="325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122800" y="3462480"/>
              <a:ext cx="4888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122800" y="3137040"/>
              <a:ext cx="1800" cy="325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22800" y="3787920"/>
              <a:ext cx="4888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15240" y="3137040"/>
              <a:ext cx="488880" cy="1616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15240" y="3787920"/>
              <a:ext cx="488880" cy="1616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15240" y="3462480"/>
              <a:ext cx="488880" cy="1616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15240" y="4113360"/>
              <a:ext cx="488880" cy="1616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15240" y="4438800"/>
              <a:ext cx="488880" cy="1616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5240" y="4764240"/>
              <a:ext cx="488880" cy="1616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19680" y="3081240"/>
              <a:ext cx="384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8120" y="3778200"/>
              <a:ext cx="39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00960" y="309096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00960" y="341964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00960" y="374796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00960" y="407664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00960" y="441972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00960" y="47052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11840" y="5038560"/>
              <a:ext cx="16542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latations géodésiques success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97280" y="4502160"/>
              <a:ext cx="1711440" cy="99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e test d'arret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mage inchangée après application de l'opéra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de la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chage de t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797120" y="2467080"/>
            <a:ext cx="6391080" cy="3165480"/>
            <a:chOff x="1797120" y="2467080"/>
            <a:chExt cx="6391080" cy="3165480"/>
          </a:xfrm>
        </p:grpSpPr>
        <p:sp>
          <p:nvSpPr>
            <p:cNvPr id="334" name=""/>
            <p:cNvSpPr/>
            <p:nvPr/>
          </p:nvSpPr>
          <p:spPr>
            <a:xfrm>
              <a:off x="1797120" y="2467080"/>
              <a:ext cx="151128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2595600"/>
              <a:ext cx="1254240" cy="113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59080" y="2467080"/>
              <a:ext cx="151164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1400" y="2467080"/>
              <a:ext cx="1511280" cy="13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41560" y="275760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87480" y="2901960"/>
              <a:ext cx="292320" cy="5968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38480" y="3084480"/>
              <a:ext cx="16992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6360" y="314496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00560" y="2608200"/>
              <a:ext cx="1228680" cy="1108080"/>
            </a:xfrm>
            <a:prstGeom prst="rect">
              <a:avLst/>
            </a:prstGeom>
            <a:solidFill>
              <a:srgbClr val="91919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03880" y="275760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49800" y="2901960"/>
              <a:ext cx="292320" cy="59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00440" y="3084480"/>
              <a:ext cx="169920" cy="2318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78320" y="3144960"/>
              <a:ext cx="109800" cy="109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43800" y="2589120"/>
              <a:ext cx="1266840" cy="114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5840" y="275760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12120" y="2901960"/>
              <a:ext cx="291960" cy="59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97120" y="4243320"/>
              <a:ext cx="1511280" cy="13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19160" y="4365720"/>
              <a:ext cx="1266840" cy="1146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41560" y="4533840"/>
              <a:ext cx="488880" cy="733320"/>
            </a:xfrm>
            <a:custGeom>
              <a:avLst/>
              <a:gdLst/>
              <a:ahLst/>
              <a:rect l="l" t="t" r="r" b="b"/>
              <a:pathLst>
                <a:path w="308" h="462">
                  <a:moveTo>
                    <a:pt x="0" y="307"/>
                  </a:moveTo>
                  <a:lnTo>
                    <a:pt x="77" y="0"/>
                  </a:lnTo>
                  <a:lnTo>
                    <a:pt x="307" y="154"/>
                  </a:lnTo>
                  <a:lnTo>
                    <a:pt x="307" y="384"/>
                  </a:lnTo>
                  <a:lnTo>
                    <a:pt x="192" y="461"/>
                  </a:lnTo>
                  <a:lnTo>
                    <a:pt x="0" y="3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87480" y="4678200"/>
              <a:ext cx="292320" cy="59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11240" y="3968640"/>
              <a:ext cx="368280" cy="139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47560" y="390528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79840" y="4038480"/>
              <a:ext cx="279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3062160" y="3949560"/>
                  <a:ext cx="268560" cy="1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¶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4249800" y="3987720"/>
              <a:ext cx="368280" cy="139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1480" y="3924360"/>
              <a:ext cx="40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4760" y="4038480"/>
              <a:ext cx="25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19720" y="3905280"/>
              <a:ext cx="350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7043760" y="3871800"/>
                  <a:ext cx="114444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</m:sub>
                        <m:sup>
                          <m:r>
                            <m:t xml:space="preserve">¥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>
              <a:off x="6535800" y="3968640"/>
              <a:ext cx="368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64000" y="4807080"/>
              <a:ext cx="368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1200" y="4702320"/>
              <a:ext cx="23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trous bouchés) 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7:06:57Z</dcterms:created>
  <dc:creator>coster</dc:creator>
  <dc:description/>
  <dc:language>en-US</dc:language>
  <cp:lastModifiedBy>Michel Coster</cp:lastModifiedBy>
  <dcterms:modified xsi:type="dcterms:W3CDTF">2001-10-09T07:36:02Z</dcterms:modified>
  <cp:revision>18</cp:revision>
  <dc:subject/>
  <dc:title>Méthodes géodésiques appliquées aux ensembles</dc:title>
</cp:coreProperties>
</file>